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4AC2-25FB-4C47-B82C-973534ECE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ик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искључ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к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у чл.  52(2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„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чл. 52(3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их,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х и 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х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2(2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илуст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ципу „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”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с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;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принц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” 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чл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52(2)(ц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,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 „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”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„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” физичку 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ж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у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у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,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л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ски искљу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из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м 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пи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„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х”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 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2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у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х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„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у” или 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у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укључ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ди ил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дск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б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дуст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р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лу 28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3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љ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ли ж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њ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и 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ц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љ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ми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ци 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) 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3(б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ци 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ли 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њ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ируршки, 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тски или д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чк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ци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њ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 (с ти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из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п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ц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пр. 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руршки инстр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) -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3(ц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чл. 54(4)-(5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и 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с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б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;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ис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и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пр.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вр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ли у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чу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ским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у чл. 64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: „(1)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… 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ку, 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и 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 му би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 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у 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љи;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(3)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ци (3) би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 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врши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ли уступи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и 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ључ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у.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71-73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си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je 2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63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ску пр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физич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ли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б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м 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. 58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ск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 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у, 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 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ички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 пр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T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59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у п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чк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18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ти 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(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 чл. 81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би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б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пр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чл. 60(1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си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60(1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ћу 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цу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у ф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(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-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чл. 62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ти 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ис 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и (чл. 83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 људ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.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пун”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 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у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ументу 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 сви 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ли 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сти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њ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р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„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”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ш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ш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мислу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х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б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билни ин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н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и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(нпр.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),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ж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у би 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уч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ч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х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ризик 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у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, a 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и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им 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м друг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зи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ут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б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ж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личити пу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ут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љ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с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тржи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би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 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у су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лни 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и 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лну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ин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и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их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т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 пут 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у ди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у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;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су др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ч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 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у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 у чл. 2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иту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дуст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” у 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12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 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их 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чл. 4Ц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иту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дуст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ски 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ЕПО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38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у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 бити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у и Х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ну и Црну 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у (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30.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2010.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њи у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сти 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 (PCT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CT-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ку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х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CT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ин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ти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купих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лу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: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у 30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 у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у и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у 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тим, 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ств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 бити утврђ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 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истичу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30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.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, 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у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у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ћи 31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ричит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 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ти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”,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,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(PCT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PCT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у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-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или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у 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IPO)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PCT-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ву: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или и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19 PCT-a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чл. 78(1)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 су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ни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 T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у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-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(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),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(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ички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или виш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: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им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.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чл. 69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: http://www.epo.org/law-practice/legal-texts/epc.htm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и цр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ису или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-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ис и цр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т -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150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и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стити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o 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угих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т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х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ци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-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б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р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ти 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њих 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у. Циљ 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и с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друг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х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o IBM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Bednorz-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других, 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су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зу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 ви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урни су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ћи 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чи су, 1987. 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или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у из физ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крић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их су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DD3C-8F75-40C9-92FB-1D5E13BCF29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ључни људи у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ку 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у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ч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дип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и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других 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ичких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и и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уку из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лиш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руч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м 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бити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 и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 у ск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им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м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.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и 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су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ри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др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ли у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ршн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у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(30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2010.)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38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(http://www.epo.org/about-us.html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ступник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си,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уници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им испит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у 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л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ник, ч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и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сти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ни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. 134(1)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)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утим, пр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т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др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н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и у 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,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ус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 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ник у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и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. 134(8)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-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 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их 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у при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 ф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ви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у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ку  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 пр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с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 пр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ум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. 80,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40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j o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у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ку испит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х у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и из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 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, у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бити 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у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и и ин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ив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н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 из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ja o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у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-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 - 18 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ли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Суштинс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,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пр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испу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у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тврди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 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ти 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 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в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луку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рифи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х др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ршити 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фи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у,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ит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 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ja: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 и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т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-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и 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- 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 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чи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ик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/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им: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 ил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б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утку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 ил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м 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ш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н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 б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-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им: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у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, ви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-a 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 б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ни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,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дс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и г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 у в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дск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л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 ци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у 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у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и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и дру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у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, 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пр.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у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,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ли у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). У циљу с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х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ут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зб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х 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њи. 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у случ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,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 у 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м су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и г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 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.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ину утврђи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виру с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-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и - 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вр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њи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з 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и приз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(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или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,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њу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„из би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”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. 52(1)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нцип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у п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и 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квим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м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финиш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у ш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”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луч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су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 у 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, у ск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 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ним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им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(види чл. 64(3)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шти принцип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ш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- 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р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м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им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им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ини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a „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„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уни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у (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PC)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a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пис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1975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и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фи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б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андар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 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с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ских 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при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, 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стичу из чл. 25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PC-a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,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 чл. 26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PC-a (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23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 с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и 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у - чл. 69. 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 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69. -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ц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у 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ис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суд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чл. 22(4) Бр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м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м 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т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2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27. и 28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PC-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и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м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р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суд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з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ључ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1)  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ск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и;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п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њ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х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лиц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тр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ци и 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у 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х 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ђутим, 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у случ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других пи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приз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ва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личитих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их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х 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с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 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у 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oj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ч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44-46 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нск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и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ум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TRIPS)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нс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а су 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ва 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смислу судских 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 тр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нских 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и 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ст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 у 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им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рив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их м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ћи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их или т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их м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дс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 тужб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љ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у или уништ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ши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искуш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њу 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с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 у 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 крш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ћ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дску 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у. 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у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друг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лицу, 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 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ниш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ич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удски 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ду шт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или изв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j o 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фиту туж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900" spc="-1" strike="noStrike">
                <a:solidFill>
                  <a:srgbClr val="000000"/>
                </a:solidFill>
                <a:latin typeface="Calibri"/>
              </a:rPr>
              <a:t>г,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т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х 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ис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 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љи.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иљ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тврди 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губитк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р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, туж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изврши 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ду ш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цу п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ћу ин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сту ис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њих, у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личитим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ћим вр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 „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”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и,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 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у 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.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жи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н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ти,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х испит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 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ћ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х приз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бит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Жиг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ви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усл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х в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н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усл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х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кључ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ћи дистинкти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б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друг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ћ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иф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усл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-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бити 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ч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,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 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 ш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у уг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у жи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и ли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у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н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кључ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ћи књи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н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уз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ф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снимљ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 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 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ис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ск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e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.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н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м д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 штити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љни изг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виз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живљ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 д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je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„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” 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дивид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”,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к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 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лиц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су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и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у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њу.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нису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и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у и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физ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и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х др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и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ст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 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и,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ин су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ри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им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 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у, у смислу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) 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у в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у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) 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с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e je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х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 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умни 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, у циљу чу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и (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,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љу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љивих ин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ц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у и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им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т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- 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у пружити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у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и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 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,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у бити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).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- M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н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ву 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иту у слу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р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зибилни ин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нг 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ђу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стих и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ин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ст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17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љн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 пи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уду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ити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у 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и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и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ж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м при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м 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индуст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ц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жишту т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друг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ри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ли у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м 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 ил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у сигурн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друг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иступ туђ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ww.espacenet.co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иступ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л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ил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ц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?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љ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www.espacenet.co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111B-509F-40DD-86A7-FB41BA29F0C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м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и 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ф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 и у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ним 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– 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с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 ш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друш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 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сф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х 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у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(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ућ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-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з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л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52(1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спу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(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„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” –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цип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и 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;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индуст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љив (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 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м”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„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цип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чл. 54 (1)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„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ли у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цип утвр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чл. 54(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”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а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, ст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и принцип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ни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С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з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би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„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п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, укључ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: 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у (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б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или 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), 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л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ити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– „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”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м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виду,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ти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и у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чу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 –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сти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љивих инф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 (ND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п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у 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н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”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с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мислу 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и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ж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ик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чит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у 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м 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D08-485C-4961-A6D4-B1DFAF1F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EDC-BAB3-494D-933C-A3540C9F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EE7-C052-4F45-9168-1AB94A12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D43-B4BA-4B03-A47B-08120091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3F1-8623-4E0B-9AD4-BFECF55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CA70-F1A2-4867-AA76-E33C046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F088-E9C1-4139-810E-0AB6F4A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CFD-DD64-474C-B449-63746E8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442-2DB1-4EB5-803D-F61A4C44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E0F-38D2-4EDB-8972-457F0CF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6B6-7353-4762-AF98-625FAD9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265-DF5C-4CD5-93F0-3F08C2D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1A7-0A14-41A3-99AF-ECE55CC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D985-E739-4D0C-8972-1FDC95C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5828-3FCB-443F-9634-6E6E9FE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AC71-7874-4AC4-9450-89303950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E304-4FE1-48FC-8A8D-8301CFAF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54C-2130-45ED-A077-325AB7BA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348-8AF0-4D4A-B659-C38EBAEB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427-389B-49A6-9EE7-CAAFC3CE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44B-3654-433F-8297-D7F85CA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E80-DDA7-4A06-AF35-348E81D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D8F-6967-4DE4-BAD7-2994B71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A6C-7462-4E6B-AC77-D726821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Duncan Matthews, Ma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Core module 2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How patents work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F9BC-E2BC-451E-96DF-769721E3C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E987-132D-4ED9-9F48-13B8402CE0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B84D-76E9-468A-9263-1AE533F06687}" type="datetime"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Dr. Duncan Matthews, Ma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B10-CA4E-4CE6-9C6B-171B3920A6A9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BC32-BC09-4474-80DD-C4C0BBED37FC}" type="slidenum">
              <a:rPr b="0" lang="de-DE" sz="14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Како функционишу патенти</a:t>
            </a:r>
            <a:br>
              <a:rPr sz="3600"/>
            </a:br>
            <a:br>
              <a:rPr sz="900"/>
            </a:b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Ув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д з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студ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3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AD87-0BCA-4A66-B1FC-192D474F5E4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? (2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23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скључив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с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к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их у 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52(2)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би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, 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…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T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 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ив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„к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вих”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3)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би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билних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х и изу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х, 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х 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 и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8F40-9A71-469E-8838-12F7C0F2DF1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15B-5306-4E00-8C87-E9207C5E5D1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и 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2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„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” из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би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(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2)(ц)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…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би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у,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и „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”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 „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” физичку 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и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д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с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ски изу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би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7343640" y="81000"/>
            <a:ext cx="180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       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pcioni 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slajd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D382-6B16-4B01-AA61-6E03204B4F7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BE8-2CAF-4AF7-9788-EE51F30F67B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? (3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ци ч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„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ку”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у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3(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иљ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ли жи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њс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би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ц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љки или 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3(б)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упци 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уд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или 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њ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хируршки,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утски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ил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ички 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упц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уд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или 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њ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 (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3(ц) и 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4(4)-(5)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BC18-54CC-414C-A330-EE93E7E7FFA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3CD6-D866-44D3-8738-3E9C8D1E325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367920"/>
            <a:ext cx="84247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ч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12000" cy="49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их л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 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из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 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у и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му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у 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у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иц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4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иш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 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ључ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71-73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M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и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 20 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        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3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D8D-9CD3-4117-9A7C-76230E9A840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7EE-B683-4073-8DA3-0D5E9DF6FE8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и 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? (1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зич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им 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(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8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ичк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 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9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(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81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03D8-EDBA-4DB6-AFB3-F06A17ADCA3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D5C-6FED-43E8-95B1-079A99AE968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и 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? (2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2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при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 или 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ку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0(1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у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,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o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л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0(1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ћ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ц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у ф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у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– у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ч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иц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2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23CF-8F90-430E-A6E2-A1EEE651F8A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074B-D3DB-4019-A69F-186DDBBA044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72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у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з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M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 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п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руч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” из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ти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83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п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”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сви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њих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„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”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E2E-8862-4EDA-8192-32E32F8063F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A495-255E-451A-900D-FC3E04D553D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у л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уд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(нпр,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), 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”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бит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тим,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у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a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м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 слу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љ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и ис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жи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730-94A3-4918-9DD8-AC2BC16B6E6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61E7-462F-4279-85D6-CBBE9997091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чити пу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лни з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ди з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ни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 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жи 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љи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ису држ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и 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гу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и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ну 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у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12 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 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жи п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 „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ст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”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пски з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д з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 (E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” 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e 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ви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ним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им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би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и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и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 б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их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дњи у 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сти п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404b56"/>
                </a:solidFill>
                <a:latin typeface="Arial"/>
              </a:rPr>
              <a:t>a (PCT)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 j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144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ниц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 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и д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них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спити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ку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 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гу 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л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жит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 30-31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 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 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и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, 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ћ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 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  <a:p>
            <a:pPr lvl="1" marL="571680" indent="-17172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PCT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и 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ду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, 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у или С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тск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 o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рг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ни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 з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лну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200" spc="-1" strike="noStrike">
                <a:solidFill>
                  <a:srgbClr val="404b56"/>
                </a:solidFill>
                <a:latin typeface="Arial"/>
              </a:rPr>
              <a:t>ину (</a:t>
            </a:r>
            <a:r>
              <a:rPr b="0" lang="en-US" sz="1200" spc="-1" strike="noStrike">
                <a:solidFill>
                  <a:srgbClr val="404b56"/>
                </a:solidFill>
                <a:latin typeface="Arial"/>
              </a:rPr>
              <a:t>WIPO)</a:t>
            </a:r>
            <a:endParaRPr b="0" lang="en-US" sz="1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D0D-B827-4AC4-919B-556C1D5F770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1870-F746-4BB4-8634-711A285954E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зг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95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и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78(1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42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шти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69, 84 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43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 –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р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e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 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рт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85,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47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 –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150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т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гих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х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ED30-671D-453D-91C8-F341AB0CA33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9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728B-CED0-47EF-B8F6-1330DA46A4C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уч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160640"/>
            <a:ext cx="7678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љ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уч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ир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личитих вр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их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си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(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)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ч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у и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у л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д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г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у кључни људи 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упку 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 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приз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тврђ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су 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ив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г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б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 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у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стити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975-0269-4C96-9BD9-3CFB424A712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5400720" cy="5688000"/>
          </a:xfrm>
          <a:prstGeom prst="rect">
            <a:avLst/>
          </a:prstGeom>
          <a:ln w="9360">
            <a:solidFill>
              <a:srgbClr val="4c575f"/>
            </a:solidFill>
            <a:miter/>
          </a:ln>
        </p:spPr>
      </p:pic>
      <p:sp>
        <p:nvSpPr>
          <p:cNvPr id="281" name="Text Box 13"/>
          <p:cNvSpPr/>
          <p:nvPr/>
        </p:nvSpPr>
        <p:spPr>
          <a:xfrm>
            <a:off x="7740720" y="81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2406-4C6E-449A-B478-FE2BBEC7463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0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6F73-952C-4A19-8B5D-BEF3C240DBF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35120" y="404280"/>
            <a:ext cx="7905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у кључни људи у п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тупку в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 испит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к, б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к уп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у лист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 сврх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134(1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ску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у,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ник 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м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134(8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12DF-9E19-41FF-80D6-D47D23B5D99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1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1C9E-D183-40EA-B9CC-29A0FABC227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ви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 з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640" y="1088640"/>
            <a:ext cx="7678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ит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ит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штин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пит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ф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AD3-1D2A-42C2-B36D-F50FD97E3C9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2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79B-72C3-4C8D-B888-5600BA4E284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280" y="58428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55640" y="1591920"/>
            <a:ext cx="7678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99 – 105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ч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/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 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105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- 105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141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с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у 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ст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ди 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64(3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3D8-4674-4D99-8128-DE9E44A6A79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3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A6A-D169-4109-A5A5-94D63A55C5D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тврђ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 (1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640" y="1160640"/>
            <a:ext cx="7678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ч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„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у”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лику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с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љи и би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тврђ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 ст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у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ск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у с 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ним 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ним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пич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у су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ских 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с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б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им 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уш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чи с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и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,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з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ди, с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 или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и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и или ск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ишти 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врх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и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,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 лицу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му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з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и случ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j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ити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уп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 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и 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ди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уп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ди, с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,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и, у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и или ск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ишти 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врх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уп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 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у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и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ских 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с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су 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финиц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них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их 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уш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ни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и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,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ици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ису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шћ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и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 нуди и ис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учу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ушти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, 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ђ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чу или ис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учи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цу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му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з 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ти случ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j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бити 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или 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у пр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8A6-4D93-4759-B313-87FDC4230C9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4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5DE-2685-4C34-902D-6595B8E5672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тврђ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 (2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640" y="1160280"/>
            <a:ext cx="7678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тврђ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с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су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сти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 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им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лучу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у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 у с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и у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oj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и и 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, у ск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с 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им 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им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утим,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 – ч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69 и 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м 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и ч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69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ниц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у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и 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ч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ским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или 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м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ћ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и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им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х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у или сх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у су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кључ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ку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ини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им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69C-01DC-4301-A3A9-F838122DFCF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5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90EC-56A9-468D-896E-60E3907CF41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с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у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и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у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 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и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љи 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oj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з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ли др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х 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: 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Ч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 22(4) У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б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 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ск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ни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je (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Ц) бр. 44/2001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 22. 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ц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б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 2000. o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л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ж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ти, призн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у и изврш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у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суд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 г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ским и трг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винским ст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им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7667640" y="8100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C390-F448-4A35-99D6-72640926A55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6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B78-CC08-4D10-9A9A-F3BA3D73185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су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гу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б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029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ив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гу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б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луч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ту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личитим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, 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учи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м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их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учи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,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ч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: (a)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чи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л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ли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врх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; (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) 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чи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врх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и,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и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з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су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ч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и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тврди 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и,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т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ни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(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)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губи 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судс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судс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кључу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ћи 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у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р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– 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ржив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в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с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у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FCC3-4F23-4F83-9955-6CF4B4D362A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7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A66-9E31-4341-8890-2E40E61447F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у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у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њу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с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личитим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, 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з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ли н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ути тужбу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м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уж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случ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ш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 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пут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утим,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у,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je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руг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лицу туж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: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и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и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ич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у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ити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руг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 лицу искључи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циљ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врш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з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врдњу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сврху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у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 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пити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370-FC39-41DF-BB13-6664D0C6EB5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8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212C-F972-4D4B-B89A-81727EDB625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у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личитим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ч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и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м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у судск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или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 судск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тр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нских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7559640" y="81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D22B-31A6-453A-833F-52D7D39914C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9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2F1B-F459-45AD-BB01-06999B7DCEB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42920" y="6585120"/>
            <a:ext cx="9001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у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Пoстoje рaзличитe врстe прaвa интeлeктуaлнe свojинe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Пaтe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Жигoв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утoрскo прaвo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изaj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(рeг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рoвaни и нe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рeг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рoвa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Пoслoвнe тajн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4C5-5616-411C-97E0-4EF04AD642E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4B2D-F1C7-4155-9411-5FEF46AABDF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у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стити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o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640" y="1304640"/>
            <a:ext cx="7678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ти 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стр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шл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0362b"/>
                </a:solidFill>
                <a:latin typeface="Arial"/>
              </a:rPr>
              <a:t>www.espacenet.com</a:t>
            </a:r>
            <a:endParaRPr b="0" lang="en-US" sz="2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B0E6-DFE1-45A3-A9CE-7872AFC8346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0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3F7A-C252-4FA3-A6A9-3F3CFE53CF6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у,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у 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 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личи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р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живих</a:t>
            </a:r>
            <a:r>
              <a:rPr b="0" lang="en-US" sz="17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у 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 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љни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M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ђутим, циљ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и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 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 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 струч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и ин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У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,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иљ 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 пружи у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ни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 з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и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ли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ни ни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 били б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и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j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и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мишљ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ринут 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ж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уђи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, или с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ц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, 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ри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и 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и њ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, т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жи стручни с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 к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лифи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упни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шћ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г 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и 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ску 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су, 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и и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ун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ћник у 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им з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7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BF5-BAD5-40BC-A37D-394ED90E498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1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n95_high_gallery_02"/>
          <p:cNvPicPr/>
          <p:nvPr/>
        </p:nvPicPr>
        <p:blipFill>
          <a:blip r:embed="rId1"/>
          <a:stretch/>
        </p:blipFill>
        <p:spPr>
          <a:xfrm>
            <a:off x="3951360" y="1098720"/>
            <a:ext cx="4903560" cy="2338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D77-0AAE-4252-9B3F-01126F12FD8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С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у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ћ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и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4" name="Textfeld 8"/>
          <p:cNvSpPr/>
          <p:nvPr/>
        </p:nvSpPr>
        <p:spPr>
          <a:xfrm>
            <a:off x="774360" y="1328760"/>
            <a:ext cx="3605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Жи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Noki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N95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Symbian”, „Jav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ч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ск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ут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Textfeld 13"/>
          <p:cNvSpPr/>
          <p:nvPr/>
        </p:nvSpPr>
        <p:spPr>
          <a:xfrm>
            <a:off x="3951360" y="3768840"/>
            <a:ext cx="52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(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 њих су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и)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дугми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6" name="Textfeld 9"/>
          <p:cNvSpPr/>
          <p:nvPr/>
        </p:nvSpPr>
        <p:spPr>
          <a:xfrm>
            <a:off x="8049240" y="3249720"/>
            <a:ext cx="5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© Nokia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3F7-6A73-4BC3-866D-9D1BCA13C01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си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и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ку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 и 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и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с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B63-651C-4D64-81BD-DE7F0F4A7CA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60E-7EAB-45C8-9EC7-6A9A61C763E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o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у (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),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 би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1)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-27144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у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 (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54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ин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вни н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56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 индуст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и 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љиви (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н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57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027-CFC8-4306-8091-A24B07634A8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2EE-9386-404C-B518-566F01AA882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je „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” 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х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„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”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4(1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”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и 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и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ним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ч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4(2)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у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BD1-31CC-44B1-B875-58D002AE9FA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02A-E47E-40CD-B577-96BFD7BA3B2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ув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 у т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,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в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у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и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:                                                                                         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ини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ш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ћ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м пу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,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 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   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други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б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 – „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у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”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у 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ључ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уг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инф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A8B4-801A-4132-8381-443A0E1CE38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543-5F63-40D2-BC0A-DDD0D17FE8B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? (1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ци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мислу приз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к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крић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ч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ч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2)(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с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e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2)(б)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, 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и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ци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их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,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г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г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,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 з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2)(ц)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ив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ja (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л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52(2)(д) К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-</a:t>
            </a:r>
            <a:r>
              <a:rPr b="0" lang="sr-Latn-CS" sz="18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BB0-5552-4AB6-91B5-6743CD1CA0B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79280" y="6585120"/>
            <a:ext cx="896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Како функционишу патенти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3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rf40150</dc:creator>
  <dc:description/>
  <dc:language>en-US</dc:language>
  <cp:lastModifiedBy>VUKOV</cp:lastModifiedBy>
  <dcterms:modified xsi:type="dcterms:W3CDTF">2012-04-14T10:16:45Z</dcterms:modified>
  <cp:revision>1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