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A15-4848-4AF0-9C7C-2CE083547D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4919-8EC8-4890-ADC5-86C2A13A2F6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з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з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ту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у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,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, њ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х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у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нст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у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з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ћ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 → у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у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D709-5D06-4D66-BA18-A3D81316BE7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,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”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з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(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43(1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 1 447 606 A1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си 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у из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апо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ру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A23A7-DD9B-46D3-B63A-23090E50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E815E-61A1-4A17-BD83-13ABDD7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65C8-8CFC-44E7-BA1C-257B113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8838D-864D-439E-A828-616088D6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BCCE0-977C-4F81-955D-B65013C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F52EE-722A-4441-A4BC-3DD91DA9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D8C32-2CD8-4A10-9913-81B0E18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B5DE9-E929-4314-8E84-B500709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C22B4-E7F5-491F-AC6F-8B633F9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BAD76-6CD3-4B2E-8E6A-C47AFC8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D5B80-3599-43FF-BB74-ABBCB490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9376C-1EF2-42F5-9C20-52C923CA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60480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d) Double pip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D19E-6F53-41C4-AEA6-CE42A17EDE5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60480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60E-2C40-4714-92E2-56C0575BFAB0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240" y="1160640"/>
            <a:ext cx="752148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br>
              <a:rPr sz="3600"/>
            </a:b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(д) Дв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128000" y="4941720"/>
            <a:ext cx="165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и 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o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,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55640" y="1197000"/>
            <a:ext cx="684072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у 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и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 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сти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х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у циклусу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х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и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,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пр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.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br.EP 1 138 997 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o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у 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ћ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у 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 уну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 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ћим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струз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ли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умун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м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 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e.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струз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ли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ћим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иск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у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пл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их 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них 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им 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ћим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иск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у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ћих 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л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м 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рш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.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T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иск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.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љ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фти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и.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иљ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и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o,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руку 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њу и уну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њу 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 спи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или 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,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ичвршћ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шњу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чну ст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ну с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</a:rPr>
              <a:t>ви.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451640" y="2457360"/>
            <a:ext cx="1441440" cy="520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7451640" y="3681360"/>
            <a:ext cx="1441440" cy="7333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бл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м к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истич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из ст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451640" y="4834080"/>
            <a:ext cx="1441440" cy="7333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ктивн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хничк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бл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451640" y="5842080"/>
            <a:ext cx="1440000" cy="520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б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7451640" y="1268280"/>
            <a:ext cx="1441440" cy="7333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б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с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2EAF-706C-4CC7-A58B-518DADE5A432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2" name="Rechteck 5"/>
          <p:cNvSpPr/>
          <p:nvPr/>
        </p:nvSpPr>
        <p:spPr>
          <a:xfrm>
            <a:off x="755640" y="3500280"/>
            <a:ext cx="7489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Rohr mit ei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r durch sei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n In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nraum geführten, an der Rohrwandung gehalterten Rohrleitung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с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чиц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лум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и причвршћ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и зид ц</a:t>
            </a: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684360" y="1138320"/>
            <a:ext cx="3832200" cy="2361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2"/>
          <a:stretch/>
        </p:blipFill>
        <p:spPr>
          <a:xfrm>
            <a:off x="719280" y="4983120"/>
            <a:ext cx="7237440" cy="1362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"/>
          <p:cNvSpPr/>
          <p:nvPr/>
        </p:nvSpPr>
        <p:spPr>
          <a:xfrm>
            <a:off x="5435640" y="1268280"/>
            <a:ext cx="2916360" cy="1081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2459-1F3A-4451-BC83-11F14FCC3CEB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1 из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.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 2 311 688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рпск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к 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2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ч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5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л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ичврш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и зид 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...,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ч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5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м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ж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je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литу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 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,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ч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5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2 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р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д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ити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.”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719280" y="4622760"/>
            <a:ext cx="7237440" cy="1362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CBC6-DD40-4FFE-B4B7-D7EFC449096E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ш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2" name="Rechteck 3"/>
          <p:cNvSpPr/>
          <p:nvPr/>
        </p:nvSpPr>
        <p:spPr>
          <a:xfrm>
            <a:off x="826920" y="1268280"/>
            <a:ext cx="3889440" cy="24465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; 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сп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ил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фигур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чврш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ну с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3" name="Rechteck 4"/>
          <p:cNvSpPr/>
          <p:nvPr/>
        </p:nvSpPr>
        <p:spPr>
          <a:xfrm>
            <a:off x="825480" y="4508640"/>
            <a:ext cx="8031240" cy="7920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исти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 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пу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ти су п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виђ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м ш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je 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 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и бр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2 311 688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Rechteck 5"/>
          <p:cNvSpPr/>
          <p:nvPr/>
        </p:nvSpPr>
        <p:spPr>
          <a:xfrm>
            <a:off x="824040" y="5443560"/>
            <a:ext cx="8032680" cy="9018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 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Rechteck 6"/>
          <p:cNvSpPr/>
          <p:nvPr/>
        </p:nvSpPr>
        <p:spPr>
          <a:xfrm>
            <a:off x="4967280" y="1268280"/>
            <a:ext cx="4033800" cy="24465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з пр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DE 2 311 688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 2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чи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5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 л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 2 и причврш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њи зид 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 ...,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стич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 5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им 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у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уж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..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780000" cy="712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6BF5-876F-4942-8FA4-75521874C73D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5640" y="1125000"/>
            <a:ext cx="767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слу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,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3 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с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rcRect l="0" t="16270" r="0" b="0"/>
          <a:stretch/>
        </p:blipFill>
        <p:spPr>
          <a:xfrm>
            <a:off x="719280" y="2133720"/>
            <a:ext cx="3276360" cy="1601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E71-00F6-4F53-B12B-5EBCFF0304B7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hteck 6"/>
          <p:cNvSpPr/>
          <p:nvPr/>
        </p:nvSpPr>
        <p:spPr>
          <a:xfrm>
            <a:off x="1979640" y="3681360"/>
            <a:ext cx="6607080" cy="2268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 сп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л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лит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ил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м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,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г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жу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с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у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 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 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у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зг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у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Rechteck 6"/>
          <p:cNvSpPr/>
          <p:nvPr/>
        </p:nvSpPr>
        <p:spPr>
          <a:xfrm>
            <a:off x="1979640" y="2751120"/>
            <a:ext cx="6603840" cy="6778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сп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ил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Rechteck 5"/>
          <p:cNvSpPr/>
          <p:nvPr/>
        </p:nvSpPr>
        <p:spPr>
          <a:xfrm>
            <a:off x="1979640" y="1914480"/>
            <a:ext cx="6603840" cy="7225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6" name="Rechteck 3"/>
          <p:cNvSpPr/>
          <p:nvPr/>
        </p:nvSpPr>
        <p:spPr>
          <a:xfrm>
            <a:off x="7359480" y="1484280"/>
            <a:ext cx="1079640" cy="475308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Rechteck 4"/>
          <p:cNvSpPr/>
          <p:nvPr/>
        </p:nvSpPr>
        <p:spPr>
          <a:xfrm>
            <a:off x="5940360" y="1484280"/>
            <a:ext cx="1077840" cy="475308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Textfeld 8"/>
          <p:cNvSpPr/>
          <p:nvPr/>
        </p:nvSpPr>
        <p:spPr>
          <a:xfrm>
            <a:off x="1889280" y="1476360"/>
            <a:ext cx="41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Rechteck 9"/>
          <p:cNvSpPr/>
          <p:nvPr/>
        </p:nvSpPr>
        <p:spPr>
          <a:xfrm>
            <a:off x="5646960" y="11606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P 1 138 997 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Rechteck 10"/>
          <p:cNvSpPr/>
          <p:nvPr/>
        </p:nvSpPr>
        <p:spPr>
          <a:xfrm>
            <a:off x="7217280" y="116064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DE 2 311 688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Textfeld 29"/>
          <p:cNvSpPr/>
          <p:nvPr/>
        </p:nvSpPr>
        <p:spPr>
          <a:xfrm>
            <a:off x="6248880" y="2924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Textfeld 34"/>
          <p:cNvSpPr/>
          <p:nvPr/>
        </p:nvSpPr>
        <p:spPr>
          <a:xfrm>
            <a:off x="7666560" y="3854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6262560" y="2096640"/>
            <a:ext cx="426960" cy="323640"/>
            <a:chOff x="6262560" y="2096640"/>
            <a:chExt cx="426960" cy="323640"/>
          </a:xfrm>
        </p:grpSpPr>
        <p:sp>
          <p:nvSpPr>
            <p:cNvPr id="254" name="Line 27"/>
            <p:cNvSpPr/>
            <p:nvPr/>
          </p:nvSpPr>
          <p:spPr>
            <a:xfrm>
              <a:off x="6262560" y="2215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5" name="Line 28"/>
            <p:cNvSpPr/>
            <p:nvPr/>
          </p:nvSpPr>
          <p:spPr>
            <a:xfrm flipV="1">
              <a:off x="6435720" y="2096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7718400" y="2925360"/>
            <a:ext cx="426960" cy="323640"/>
            <a:chOff x="7718400" y="2925360"/>
            <a:chExt cx="426960" cy="323640"/>
          </a:xfrm>
        </p:grpSpPr>
        <p:sp>
          <p:nvSpPr>
            <p:cNvPr id="257" name="Line 30"/>
            <p:cNvSpPr/>
            <p:nvPr/>
          </p:nvSpPr>
          <p:spPr>
            <a:xfrm>
              <a:off x="7718400" y="304452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V="1">
              <a:off x="7891560" y="292536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9" name="Group 32"/>
          <p:cNvGrpSpPr/>
          <p:nvPr/>
        </p:nvGrpSpPr>
        <p:grpSpPr>
          <a:xfrm>
            <a:off x="7718400" y="2096640"/>
            <a:ext cx="426960" cy="323640"/>
            <a:chOff x="7718400" y="2096640"/>
            <a:chExt cx="426960" cy="323640"/>
          </a:xfrm>
        </p:grpSpPr>
        <p:sp>
          <p:nvSpPr>
            <p:cNvPr id="260" name="Line 33"/>
            <p:cNvSpPr/>
            <p:nvPr/>
          </p:nvSpPr>
          <p:spPr>
            <a:xfrm>
              <a:off x="7718400" y="2215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61" name="Line 34"/>
            <p:cNvSpPr/>
            <p:nvPr/>
          </p:nvSpPr>
          <p:spPr>
            <a:xfrm flipV="1">
              <a:off x="7891560" y="2096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262" name="Textfeld 34"/>
          <p:cNvSpPr/>
          <p:nvPr/>
        </p:nvSpPr>
        <p:spPr>
          <a:xfrm>
            <a:off x="6247080" y="38606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Rechteck 7"/>
          <p:cNvSpPr/>
          <p:nvPr/>
        </p:nvSpPr>
        <p:spPr>
          <a:xfrm>
            <a:off x="826920" y="3681360"/>
            <a:ext cx="1008360" cy="2305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4" name="Rechteck 7"/>
          <p:cNvSpPr/>
          <p:nvPr/>
        </p:nvSpPr>
        <p:spPr>
          <a:xfrm>
            <a:off x="826920" y="1916280"/>
            <a:ext cx="1008360" cy="15127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 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9E4-1A2A-4355-993B-45FEE192FB0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Rectangle 2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55280" y="112500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у 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DE 2 311 688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ису пр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3,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a j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у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DE 2 311 688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г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у с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у 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,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плиту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j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унут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ми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. 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T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ничк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je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ук: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узб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виб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ћ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з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чвршћ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у унут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уну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с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у зг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их 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ш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и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ли 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у с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у 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,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ћи 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нику спи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,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 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плитуди 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B5BF-BE60-41A3-B3D9-5476D415D5D0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788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з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к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ви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к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и 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.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цит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х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3, нит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или ви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х дистинктивних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.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3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88C8-02E0-4771-AB4D-2FEB4106B62C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26920" y="1989000"/>
            <a:ext cx="6985080" cy="33858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; 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сп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или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фигур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чврш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у с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,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истич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 сп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литу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или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;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г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у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др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у 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г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28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1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3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вих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ви 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19280" y="5445000"/>
            <a:ext cx="824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сн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у 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D87-0972-4F28-BA22-3A718551C1BC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8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4"/>
          <p:cNvSpPr/>
          <p:nvPr/>
        </p:nvSpPr>
        <p:spPr>
          <a:xfrm>
            <a:off x="719280" y="1125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х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лику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у 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0 нису 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л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труз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. 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 с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их 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0 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ш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у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.” [0016]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л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у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и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2 у с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у 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, 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из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 с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1 и уну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2, 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 ни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и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.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” [0018]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 друг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чвршћу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уну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у 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д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у 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угу 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узби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у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 к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,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.” [0043]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C401-ECB7-4452-B25A-BB7AE86FCB19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9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161720"/>
            <a:ext cx="734544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уку 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 и 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.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сти у у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ли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и циркули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х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 у д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уким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ку, уну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 2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пи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у ил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у 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фигу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и сигур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чвршћ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њ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ну с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у с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1.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 и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нич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и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узб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к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виб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792000" y="4005360"/>
            <a:ext cx="7678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rcRect l="0" t="9464" r="0" b="0"/>
          <a:stretch/>
        </p:blipFill>
        <p:spPr>
          <a:xfrm>
            <a:off x="647640" y="4314960"/>
            <a:ext cx="2700360" cy="2066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F31-1C78-4D44-ADAB-9AD95069A0AF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37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у 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684360" y="1160640"/>
            <a:ext cx="4716360" cy="239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2"/>
          <a:stretch/>
        </p:blipFill>
        <p:spPr>
          <a:xfrm>
            <a:off x="684360" y="3852720"/>
            <a:ext cx="7092720" cy="2421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0D22-A483-4F0B-A5AF-EF1AD75CDD8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0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19343" r="0" b="0"/>
          <a:stretch/>
        </p:blipFill>
        <p:spPr>
          <a:xfrm>
            <a:off x="755640" y="4516560"/>
            <a:ext cx="2989440" cy="1649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3A0-EED8-4CF8-B894-10E33302B5F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788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ви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0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с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 у сп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 ч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ил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 у 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у 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1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 у у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утврђ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,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ици 1Б,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 притисн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у 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2 у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и зид 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78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0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их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 у сп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 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ил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2 у 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у 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1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5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1 и уну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2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чвршћ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у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20503" r="0" b="0"/>
          <a:stretch/>
        </p:blipFill>
        <p:spPr>
          <a:xfrm>
            <a:off x="755640" y="4545000"/>
            <a:ext cx="3745080" cy="1816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38CC-40A7-4A4A-B045-6154963B75E2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7" name="Rechteck 5"/>
          <p:cNvSpPr/>
          <p:nvPr/>
        </p:nvSpPr>
        <p:spPr>
          <a:xfrm>
            <a:off x="826920" y="1592280"/>
            <a:ext cx="8066160" cy="6123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ити д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руку 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„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и” п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с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хничк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. П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и 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гу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и - 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ћ 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8" name="Rechteck 6"/>
          <p:cNvSpPr/>
          <p:nvPr/>
        </p:nvSpPr>
        <p:spPr>
          <a:xfrm>
            <a:off x="719280" y="1160640"/>
            <a:ext cx="743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1.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уш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: „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и.”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Rechteck 7"/>
          <p:cNvSpPr/>
          <p:nvPr/>
        </p:nvSpPr>
        <p:spPr>
          <a:xfrm>
            <a:off x="755640" y="2309760"/>
            <a:ext cx="8137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2.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уш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: „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 у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л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и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у,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и и унут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и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 с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и.”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0" name="Rechteck 8"/>
          <p:cNvSpPr/>
          <p:nvPr/>
        </p:nvSpPr>
        <p:spPr>
          <a:xfrm>
            <a:off x="826920" y="3033720"/>
            <a:ext cx="8066160" cy="8715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ли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биђ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ш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нт 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ћ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д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струку 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в у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т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бит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у 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j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друг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j 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б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сти 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хни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,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зличи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oj 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д у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ђ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клим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тиз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  <a:ea typeface="Tahoma"/>
              </a:rPr>
              <a:t>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  <a:ea typeface="Tahoma"/>
              </a:rPr>
              <a:t>у.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1" name="Rechteck 9"/>
          <p:cNvSpPr/>
          <p:nvPr/>
        </p:nvSpPr>
        <p:spPr>
          <a:xfrm>
            <a:off x="755640" y="3753000"/>
            <a:ext cx="7740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3. 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уш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л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: „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 с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и и унутр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и к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игур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ичвршћ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р сп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и.”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Rechteck 12"/>
          <p:cNvSpPr/>
          <p:nvPr/>
        </p:nvSpPr>
        <p:spPr>
          <a:xfrm>
            <a:off x="809640" y="5337000"/>
            <a:ext cx="8083440" cy="9860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рш с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7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Rechteck 8"/>
          <p:cNvSpPr/>
          <p:nvPr/>
        </p:nvSpPr>
        <p:spPr>
          <a:xfrm>
            <a:off x="826920" y="4473720"/>
            <a:ext cx="8066160" cy="642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вaj пaтeнтни зaхтeв je мaксимaлнo ширoкo пoстaвљeн и зa сaдa нa oдгoвaрajући нaчин дeфинишe прoнaлaзa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5DE-6429-4381-AA43-E0C39EC3E345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испити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1" name="Inhaltsplatzhalter 2"/>
          <p:cNvSpPr/>
          <p:nvPr/>
        </p:nvSpPr>
        <p:spPr>
          <a:xfrm>
            <a:off x="828720" y="1268280"/>
            <a:ext cx="7812000" cy="8287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испити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с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р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P 1 138 997 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oj je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сли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684360" y="2308320"/>
            <a:ext cx="4694040" cy="1660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2"/>
          <a:srcRect l="0" t="36732" r="0" b="0"/>
          <a:stretch/>
        </p:blipFill>
        <p:spPr>
          <a:xfrm>
            <a:off x="6048360" y="2205000"/>
            <a:ext cx="2509920" cy="1986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755640" y="4092480"/>
            <a:ext cx="78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ици 1, ду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0,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луж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,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н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1, 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2 и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3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у и 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у 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1 и 12, изл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ми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м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труз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л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у 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с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.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у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0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х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у циклусу х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л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048360" y="3321000"/>
            <a:ext cx="647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Fig.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171-5CB4-453F-B1C6-F027484BCAD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д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3" name="Rechteck 3"/>
          <p:cNvSpPr/>
          <p:nvPr/>
        </p:nvSpPr>
        <p:spPr>
          <a:xfrm>
            <a:off x="826920" y="1257480"/>
            <a:ext cx="320544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ним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4" name="Rechteck 4"/>
          <p:cNvSpPr/>
          <p:nvPr/>
        </p:nvSpPr>
        <p:spPr>
          <a:xfrm>
            <a:off x="4898880" y="1258920"/>
            <a:ext cx="323712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P 1 138 997 A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5" name="Rechteck 5"/>
          <p:cNvSpPr/>
          <p:nvPr/>
        </p:nvSpPr>
        <p:spPr>
          <a:xfrm>
            <a:off x="809640" y="2111400"/>
            <a:ext cx="3213000" cy="1749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и 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гур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чврш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6" name="Rechteck 6"/>
          <p:cNvSpPr/>
          <p:nvPr/>
        </p:nvSpPr>
        <p:spPr>
          <a:xfrm>
            <a:off x="4898880" y="2111400"/>
            <a:ext cx="3237120" cy="1749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у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0 ... [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]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11, 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12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им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3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у и уну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11 и 12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57" name="Picture 13" descr=""/>
          <p:cNvPicPr/>
          <p:nvPr/>
        </p:nvPicPr>
        <p:blipFill>
          <a:blip r:embed="rId1"/>
          <a:srcRect l="0" t="10336" r="0" b="0"/>
          <a:stretch/>
        </p:blipFill>
        <p:spPr>
          <a:xfrm>
            <a:off x="934920" y="3924360"/>
            <a:ext cx="2052720" cy="1557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5"/>
          <p:cNvSpPr/>
          <p:nvPr/>
        </p:nvSpPr>
        <p:spPr>
          <a:xfrm>
            <a:off x="826920" y="5553000"/>
            <a:ext cx="7956720" cy="7520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удући 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у 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ист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виђ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2"/>
          <a:srcRect l="0" t="20802" r="0" b="0"/>
          <a:stretch/>
        </p:blipFill>
        <p:spPr>
          <a:xfrm>
            <a:off x="5580000" y="4005360"/>
            <a:ext cx="190836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B53-09BB-4F89-8D89-E37F3BBB3647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г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ч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х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1010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ис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г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ичили п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 п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х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с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ичити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им з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.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, 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мули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и 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ћи 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чин: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: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; и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 спи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или 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фигури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ичвршћ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њу 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чну ст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у с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.”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с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у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у 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у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P 1 139 997 A,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удући 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je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 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 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пи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ни или 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лик. 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T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хнички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 спи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ли 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 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нут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игур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ичврстити унут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 с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, при ч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у 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б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ити 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 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и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и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. To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ш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 пр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рук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.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763640" y="450864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800360" y="4508640"/>
            <a:ext cx="52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FAB-3F66-4843-B532-FFF0302640F2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с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у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(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826920" y="1282680"/>
            <a:ext cx="8101080" cy="1533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 1: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: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; 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сп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или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фигур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чвршћ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у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у с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у 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Rechteck 4"/>
          <p:cNvSpPr/>
          <p:nvPr/>
        </p:nvSpPr>
        <p:spPr>
          <a:xfrm>
            <a:off x="2230560" y="2924280"/>
            <a:ext cx="6697440" cy="14032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 2: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„Д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из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1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ст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 сп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л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лит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ил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м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;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 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у 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их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Rechteck 5"/>
          <p:cNvSpPr/>
          <p:nvPr/>
        </p:nvSpPr>
        <p:spPr>
          <a:xfrm>
            <a:off x="2232000" y="4437000"/>
            <a:ext cx="6696000" cy="16560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”Д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из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1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ст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 сп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л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лит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ил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м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;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г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жу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с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у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 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ну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у 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зг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у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1"/>
          <a:srcRect l="0" t="23695" r="0" b="0"/>
          <a:stretch/>
        </p:blipFill>
        <p:spPr>
          <a:xfrm>
            <a:off x="826920" y="3286080"/>
            <a:ext cx="1332000" cy="695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2"/>
          <a:srcRect l="0" t="22874" r="0" b="0"/>
          <a:stretch/>
        </p:blipFill>
        <p:spPr>
          <a:xfrm>
            <a:off x="755640" y="4938840"/>
            <a:ext cx="1476360" cy="695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B47E-5D55-4805-9467-2E4F3677C4F1}" type="slidenum">
              <a:rPr b="0" lang="de-DE" sz="16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6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) Д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тру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20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rf40150</dc:creator>
  <dc:description/>
  <dc:language>en-US</dc:language>
  <cp:lastModifiedBy>VUKOV</cp:lastModifiedBy>
  <dcterms:modified xsi:type="dcterms:W3CDTF">2012-04-16T08:13:14Z</dcterms:modified>
  <cp:revision>5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