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8652-9E89-4294-9BE9-116390E3F2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AC5-81DE-4DF5-8427-3F4C39700EF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: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шњи 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них фи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б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уг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х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и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”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982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ил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AE6-2F45-4819-9B85-1D35063476F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-a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ш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и 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з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.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р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и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555-2AE9-4E33-9FF3-BCACB326FB4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ту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у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,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, њ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х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у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нст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у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з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з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ћ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 → у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у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715-A85F-4086-87DD-400048E2915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б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 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и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.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 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л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п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ли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.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т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бит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. 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у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к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у с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р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х 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E250-DA79-4EC3-9C12-4570093DE82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м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ц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j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(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)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ли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” и „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у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фиг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”)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у 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гн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9801-DBC1-49C8-BB22-CF50A8A5C02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ли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и у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уку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0295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E21-AA87-4740-A548-701CF18C43D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сл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из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у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их 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у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жишту.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л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буд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руг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и из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т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д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(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-у: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(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-у: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).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 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F09C-CD26-410B-AD5D-BC3C10C1FEE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и,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иступ 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"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"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(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?)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 ис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,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,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плиц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”,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? 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п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у фун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: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,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„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м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из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„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”.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х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?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у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г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„инстр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сигурн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т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)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зврши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74A-01A8-4F2E-A12C-0BF4597F2B3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, при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,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л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билних 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чвр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њ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н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дили 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296-CB51-40B4-A7AF-C3F4A6DB14C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 ди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изр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шу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фиг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билних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зр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Другим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д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у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угл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шину и 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г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: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б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ф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384-BE97-4BAE-BE26-820723E6CD4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л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ђу, б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7D58-FDA0-463D-A0A2-DD4DA67A26E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бу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су ри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тим 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шир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.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ли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х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ужих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уж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мислу.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д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ужи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б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1.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1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у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иду ситних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, ил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утврди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1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)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би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у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E7AB-2CEE-4DCB-99F3-B34FBDCDC9E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мислу. 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: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м 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T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у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к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л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м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,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т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ђ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.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ти 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и биб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тд.)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ECD1-DBC7-4EE7-A8DC-630C3FAFAF9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у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или 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 нису 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з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њ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ним шип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чвр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р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уг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 (вид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ACCC-EE23-495A-A984-967A22CCD86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AE6B0-9BFE-4137-A5E0-F5594513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BFD6B-70C2-4F94-9BB7-FA48F46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42513-48F2-4623-B652-AFA2E120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75B15-E995-48BA-A244-16338C01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780EF-F3DE-4FF2-A00E-EDDDA937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CE01-B1A5-4722-ADF7-32B1D10E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2E98E-972B-47CE-B8B7-F35A2BE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94F21-1FA8-4E95-B10F-73DB7F6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5DFB6-1369-431C-B2ED-ED9C9EB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9132-33A4-45E6-B378-D0AC4775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03CB7-C0D9-42F3-A600-9EAD131B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C0A7C-A59F-48DD-850C-AF277656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3520" indent="-2653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080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Sub-module C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Understanding patent claims - (a) Toy ball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59A3-CFED-4C0B-BBEB-D1FF040B7BC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3520" indent="-2653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080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4870-84D8-4124-9969-0DD6BC509749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60280"/>
            <a:ext cx="748512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3600"/>
            </a:b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(a)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птиц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-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иг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чк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Untertitel 2"/>
          <p:cNvSpPr/>
          <p:nvPr/>
        </p:nvSpPr>
        <p:spPr>
          <a:xfrm>
            <a:off x="466560" y="4962600"/>
            <a:ext cx="3996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8" name="Untertitel 2"/>
          <p:cNvSpPr/>
          <p:nvPr/>
        </p:nvSpPr>
        <p:spPr>
          <a:xfrm>
            <a:off x="7054920" y="4962600"/>
            <a:ext cx="1752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ш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9" name="Rechteck 3"/>
          <p:cNvSpPr/>
          <p:nvPr/>
        </p:nvSpPr>
        <p:spPr>
          <a:xfrm>
            <a:off x="826920" y="1530360"/>
            <a:ext cx="4475160" cy="2154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 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,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њи д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ш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них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фи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у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б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 уг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их 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ни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с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"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0" name="Rechteck 4"/>
          <p:cNvSpPr/>
          <p:nvPr/>
        </p:nvSpPr>
        <p:spPr>
          <a:xfrm>
            <a:off x="826920" y="3794040"/>
            <a:ext cx="4573800" cy="8589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ћ при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 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у 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у из 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ч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,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3121758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1" name="Rechteck 5"/>
          <p:cNvSpPr/>
          <p:nvPr/>
        </p:nvSpPr>
        <p:spPr>
          <a:xfrm>
            <a:off x="826920" y="4925880"/>
            <a:ext cx="7907400" cy="9162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 бу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hteck 6"/>
          <p:cNvSpPr/>
          <p:nvPr/>
        </p:nvSpPr>
        <p:spPr>
          <a:xfrm>
            <a:off x="5411880" y="1530360"/>
            <a:ext cx="3322440" cy="9698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Шиљ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шип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причвршћ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дишњи 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o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р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г м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р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..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3" name="Rechteck 7"/>
          <p:cNvSpPr/>
          <p:nvPr/>
        </p:nvSpPr>
        <p:spPr>
          <a:xfrm>
            <a:off x="7347240" y="11653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E 3121758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rcRect l="8761" t="0" r="0" b="0"/>
          <a:stretch/>
        </p:blipFill>
        <p:spPr>
          <a:xfrm>
            <a:off x="6361200" y="2755800"/>
            <a:ext cx="2560680" cy="2041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EFAF-22DC-4153-9BF2-F3B855404BD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: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,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 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у из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т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пр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бу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(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ћи у виду 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п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)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31C-546C-4033-9A81-AD6D6AD5051B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ck 17"/>
          <p:cNvSpPr/>
          <p:nvPr/>
        </p:nvSpPr>
        <p:spPr>
          <a:xfrm>
            <a:off x="824040" y="4702320"/>
            <a:ext cx="79959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Rechteck 18"/>
          <p:cNvSpPr/>
          <p:nvPr/>
        </p:nvSpPr>
        <p:spPr>
          <a:xfrm>
            <a:off x="824040" y="5322960"/>
            <a:ext cx="79959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у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ину +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 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1" name="Rechteck 7"/>
          <p:cNvSpPr/>
          <p:nvPr/>
        </p:nvSpPr>
        <p:spPr>
          <a:xfrm>
            <a:off x="824040" y="3265560"/>
            <a:ext cx="7995960" cy="5112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 ф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2" name="Rechteck 6"/>
          <p:cNvSpPr/>
          <p:nvPr/>
        </p:nvSpPr>
        <p:spPr>
          <a:xfrm>
            <a:off x="824040" y="257184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и б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г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х 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н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3" name="Rechteck 5"/>
          <p:cNvSpPr/>
          <p:nvPr/>
        </p:nvSpPr>
        <p:spPr>
          <a:xfrm>
            <a:off x="824040" y="1914480"/>
            <a:ext cx="7995960" cy="5112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ишњи д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o +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фл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сибилни фил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ти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5" name="Rechteck 3"/>
          <p:cNvSpPr/>
          <p:nvPr/>
        </p:nvSpPr>
        <p:spPr>
          <a:xfrm>
            <a:off x="4643280" y="1484280"/>
            <a:ext cx="1935360" cy="455940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Rechteck 4"/>
          <p:cNvSpPr/>
          <p:nvPr/>
        </p:nvSpPr>
        <p:spPr>
          <a:xfrm>
            <a:off x="6738840" y="1494000"/>
            <a:ext cx="1935360" cy="4559040"/>
          </a:xfrm>
          <a:prstGeom prst="rect">
            <a:avLst/>
          </a:prstGeom>
          <a:solidFill>
            <a:srgbClr val="b3c5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Textfeld 8"/>
          <p:cNvSpPr/>
          <p:nvPr/>
        </p:nvSpPr>
        <p:spPr>
          <a:xfrm>
            <a:off x="741960" y="1476360"/>
            <a:ext cx="3947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Te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хничк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кт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ристик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0" lang="en-US" sz="17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8" name="Rechteck 9"/>
          <p:cNvSpPr/>
          <p:nvPr/>
        </p:nvSpPr>
        <p:spPr>
          <a:xfrm>
            <a:off x="4923000" y="1160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US 3759518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9" name="Rechteck 10"/>
          <p:cNvSpPr/>
          <p:nvPr/>
        </p:nvSpPr>
        <p:spPr>
          <a:xfrm>
            <a:off x="6895080" y="11653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DE 31211758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0" name="Textfeld 11"/>
          <p:cNvSpPr/>
          <p:nvPr/>
        </p:nvSpPr>
        <p:spPr>
          <a:xfrm>
            <a:off x="2030400" y="4884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Textfeld 19"/>
          <p:cNvSpPr/>
          <p:nvPr/>
        </p:nvSpPr>
        <p:spPr>
          <a:xfrm>
            <a:off x="768240" y="4248000"/>
            <a:ext cx="33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и/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Textfeld 21"/>
          <p:cNvSpPr/>
          <p:nvPr/>
        </p:nvSpPr>
        <p:spPr>
          <a:xfrm>
            <a:off x="4617000" y="4405320"/>
            <a:ext cx="19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(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ш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)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Textfeld 22"/>
          <p:cNvSpPr/>
          <p:nvPr/>
        </p:nvSpPr>
        <p:spPr>
          <a:xfrm>
            <a:off x="6938640" y="4410000"/>
            <a:ext cx="152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(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љив)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Textfeld 29"/>
          <p:cNvSpPr/>
          <p:nvPr/>
        </p:nvSpPr>
        <p:spPr>
          <a:xfrm>
            <a:off x="5318640" y="26431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Textfeld 30"/>
          <p:cNvSpPr/>
          <p:nvPr/>
        </p:nvSpPr>
        <p:spPr>
          <a:xfrm>
            <a:off x="5391720" y="4773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Textfeld 31"/>
          <p:cNvSpPr/>
          <p:nvPr/>
        </p:nvSpPr>
        <p:spPr>
          <a:xfrm>
            <a:off x="5391720" y="5394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Textfeld 32"/>
          <p:cNvSpPr/>
          <p:nvPr/>
        </p:nvSpPr>
        <p:spPr>
          <a:xfrm>
            <a:off x="7436160" y="5394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Textfeld 33"/>
          <p:cNvSpPr/>
          <p:nvPr/>
        </p:nvSpPr>
        <p:spPr>
          <a:xfrm>
            <a:off x="7430040" y="4773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Textfeld 34"/>
          <p:cNvSpPr/>
          <p:nvPr/>
        </p:nvSpPr>
        <p:spPr>
          <a:xfrm>
            <a:off x="7436160" y="33368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250" name="Group 30"/>
          <p:cNvGrpSpPr/>
          <p:nvPr/>
        </p:nvGrpSpPr>
        <p:grpSpPr>
          <a:xfrm>
            <a:off x="5332320" y="3320640"/>
            <a:ext cx="426960" cy="323640"/>
            <a:chOff x="5332320" y="3320640"/>
            <a:chExt cx="426960" cy="323640"/>
          </a:xfrm>
        </p:grpSpPr>
        <p:sp>
          <p:nvSpPr>
            <p:cNvPr id="251" name="Line 27"/>
            <p:cNvSpPr/>
            <p:nvPr/>
          </p:nvSpPr>
          <p:spPr>
            <a:xfrm>
              <a:off x="5332320" y="3439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V="1">
              <a:off x="5505480" y="3320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3" name="Group 31"/>
          <p:cNvGrpSpPr/>
          <p:nvPr/>
        </p:nvGrpSpPr>
        <p:grpSpPr>
          <a:xfrm>
            <a:off x="5332320" y="1988640"/>
            <a:ext cx="426960" cy="323640"/>
            <a:chOff x="5332320" y="1988640"/>
            <a:chExt cx="426960" cy="323640"/>
          </a:xfrm>
        </p:grpSpPr>
        <p:sp>
          <p:nvSpPr>
            <p:cNvPr id="254" name="Line 32"/>
            <p:cNvSpPr/>
            <p:nvPr/>
          </p:nvSpPr>
          <p:spPr>
            <a:xfrm>
              <a:off x="5332320" y="2107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5" name="Line 33"/>
            <p:cNvSpPr/>
            <p:nvPr/>
          </p:nvSpPr>
          <p:spPr>
            <a:xfrm flipV="1">
              <a:off x="5505480" y="1988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6" name="Group 34"/>
          <p:cNvGrpSpPr/>
          <p:nvPr/>
        </p:nvGrpSpPr>
        <p:grpSpPr>
          <a:xfrm>
            <a:off x="7488360" y="2636640"/>
            <a:ext cx="426960" cy="323640"/>
            <a:chOff x="7488360" y="2636640"/>
            <a:chExt cx="426960" cy="323640"/>
          </a:xfrm>
        </p:grpSpPr>
        <p:sp>
          <p:nvSpPr>
            <p:cNvPr id="257" name="Line 35"/>
            <p:cNvSpPr/>
            <p:nvPr/>
          </p:nvSpPr>
          <p:spPr>
            <a:xfrm>
              <a:off x="7488360" y="275580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58" name="Line 36"/>
            <p:cNvSpPr/>
            <p:nvPr/>
          </p:nvSpPr>
          <p:spPr>
            <a:xfrm flipV="1">
              <a:off x="7661520" y="263664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259" name="Group 37"/>
          <p:cNvGrpSpPr/>
          <p:nvPr/>
        </p:nvGrpSpPr>
        <p:grpSpPr>
          <a:xfrm>
            <a:off x="7488360" y="2025360"/>
            <a:ext cx="426960" cy="323640"/>
            <a:chOff x="7488360" y="2025360"/>
            <a:chExt cx="426960" cy="323640"/>
          </a:xfrm>
        </p:grpSpPr>
        <p:sp>
          <p:nvSpPr>
            <p:cNvPr id="260" name="Line 38"/>
            <p:cNvSpPr/>
            <p:nvPr/>
          </p:nvSpPr>
          <p:spPr>
            <a:xfrm>
              <a:off x="7488360" y="2144520"/>
              <a:ext cx="177840" cy="154080"/>
            </a:xfrm>
            <a:prstGeom prst="line">
              <a:avLst/>
            </a:prstGeom>
            <a:ln w="83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261" name="Line 39"/>
            <p:cNvSpPr/>
            <p:nvPr/>
          </p:nvSpPr>
          <p:spPr>
            <a:xfrm flipV="1">
              <a:off x="7661520" y="2025360"/>
              <a:ext cx="253800" cy="32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26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E2C-72AC-4C88-B98A-52D66669192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55280" y="1125360"/>
            <a:ext cx="8010360" cy="29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н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, њ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у,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инст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у 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з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из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ћ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и </a:t>
            </a:r>
            <a:r>
              <a:rPr b="0" lang="en-U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пу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ти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к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 31211758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0" name="Rechteck 3"/>
          <p:cNvSpPr/>
          <p:nvPr/>
        </p:nvSpPr>
        <p:spPr>
          <a:xfrm>
            <a:off x="826920" y="4292640"/>
            <a:ext cx="7412040" cy="16923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у,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ух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шњи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ви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ду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х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их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них фи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 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х с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и фи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 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з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 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у 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 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ужи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у 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 б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 уг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х 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ни из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з с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"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14C1-6DB8-4F26-8986-D8AA5933E91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hteck 8"/>
          <p:cNvSpPr/>
          <p:nvPr/>
        </p:nvSpPr>
        <p:spPr>
          <a:xfrm>
            <a:off x="811080" y="4979880"/>
            <a:ext cx="3940200" cy="34128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826920" y="4552920"/>
            <a:ext cx="288144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9" name="Rechteck 6"/>
          <p:cNvSpPr/>
          <p:nvPr/>
        </p:nvSpPr>
        <p:spPr>
          <a:xfrm>
            <a:off x="792000" y="3252960"/>
            <a:ext cx="100836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Rechteck 6"/>
          <p:cNvSpPr/>
          <p:nvPr/>
        </p:nvSpPr>
        <p:spPr>
          <a:xfrm>
            <a:off x="1195560" y="2949480"/>
            <a:ext cx="6689520" cy="29232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1" name="Rechteck 5"/>
          <p:cNvSpPr/>
          <p:nvPr/>
        </p:nvSpPr>
        <p:spPr>
          <a:xfrm>
            <a:off x="4248000" y="1444680"/>
            <a:ext cx="2021040" cy="291960"/>
          </a:xfrm>
          <a:prstGeom prst="rect">
            <a:avLst/>
          </a:prstGeom>
          <a:solidFill>
            <a:srgbClr val="d1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Textfeld 11"/>
          <p:cNvSpPr/>
          <p:nvPr/>
        </p:nvSpPr>
        <p:spPr>
          <a:xfrm>
            <a:off x="7885080" y="1679400"/>
            <a:ext cx="1258920" cy="1372680"/>
          </a:xfrm>
          <a:prstGeom prst="rect">
            <a:avLst/>
          </a:prstGeom>
          <a:solidFill>
            <a:srgbClr val="a8a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к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пљ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ин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ти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и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ру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хнички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зул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Rechteck 9"/>
          <p:cNvSpPr/>
          <p:nvPr/>
        </p:nvSpPr>
        <p:spPr>
          <a:xfrm>
            <a:off x="2700360" y="5614920"/>
            <a:ext cx="4140000" cy="2923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4" name="Rechteck 8"/>
          <p:cNvSpPr/>
          <p:nvPr/>
        </p:nvSpPr>
        <p:spPr>
          <a:xfrm>
            <a:off x="2987640" y="4834080"/>
            <a:ext cx="4870440" cy="14580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Rechteck 7"/>
          <p:cNvSpPr/>
          <p:nvPr/>
        </p:nvSpPr>
        <p:spPr>
          <a:xfrm>
            <a:off x="5072040" y="4289400"/>
            <a:ext cx="2379600" cy="291960"/>
          </a:xfrm>
          <a:prstGeom prst="rect">
            <a:avLst/>
          </a:prstGeom>
          <a:solidFill>
            <a:srgbClr val="eba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иги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н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к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љу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7" name="Textfeld 14"/>
          <p:cNvSpPr/>
          <p:nvPr/>
        </p:nvSpPr>
        <p:spPr>
          <a:xfrm>
            <a:off x="7961400" y="4367160"/>
            <a:ext cx="1182600" cy="94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злик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д п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312…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8" name="Textfeld 15"/>
          <p:cNvSpPr/>
          <p:nvPr/>
        </p:nvSpPr>
        <p:spPr>
          <a:xfrm>
            <a:off x="7961400" y="5505480"/>
            <a:ext cx="1182600" cy="9464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лику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 п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US375…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9" name="Rechteck 4"/>
          <p:cNvSpPr/>
          <p:nvPr/>
        </p:nvSpPr>
        <p:spPr>
          <a:xfrm>
            <a:off x="792000" y="1197000"/>
            <a:ext cx="716940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и 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у 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у,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к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ни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у 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/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м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их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них 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/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…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..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с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у и …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 прили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х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шти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..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з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с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 ..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..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..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ли г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р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..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и с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ли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 изв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њу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, …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ис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10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ми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издуж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их, 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их,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рних фи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 12,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х с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и фи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,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ди 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лици 1, и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и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зи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ч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г п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у изуз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у 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ужину фи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.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с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пу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и бит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, 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 фи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и с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и су у с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у 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ин 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з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рилич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j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 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ин, 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ут гус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жбу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у в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 б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у угл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их р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ни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 ф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ми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з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 сф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ичну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фигу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896F-6D45-42D2-84AB-8BE8F39DCE30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7" name="Rechteck 3"/>
          <p:cNvSpPr/>
          <p:nvPr/>
        </p:nvSpPr>
        <p:spPr>
          <a:xfrm>
            <a:off x="826920" y="1268280"/>
            <a:ext cx="7274160" cy="676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a: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647640" y="2023920"/>
            <a:ext cx="8069400" cy="3670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5C41-82AC-49B9-97B6-4C635A50467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15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640" y="1125360"/>
            <a:ext cx="76788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т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24360" y="1857240"/>
            <a:ext cx="4248000" cy="17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725400" y="1928880"/>
            <a:ext cx="1685880" cy="1628640"/>
          </a:xfrm>
          <a:prstGeom prst="rect">
            <a:avLst/>
          </a:prstGeom>
          <a:ln w="0">
            <a:noFill/>
          </a:ln>
        </p:spPr>
      </p:pic>
      <p:sp>
        <p:nvSpPr>
          <p:cNvPr id="103" name="Inhaltsplatzhalter 2"/>
          <p:cNvSpPr/>
          <p:nvPr/>
        </p:nvSpPr>
        <p:spPr>
          <a:xfrm>
            <a:off x="755640" y="3968640"/>
            <a:ext cx="7678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т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им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” </a:t>
            </a:r>
            <a:r>
              <a:rPr b="0" lang="en-U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” </a:t>
            </a:r>
            <a:r>
              <a:rPr b="0" lang="en-U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с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ди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” =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унк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en-US" sz="1800" spc="-1" strike="noStrike">
                <a:solidFill>
                  <a:srgbClr val="404b5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8A0-1B8D-472C-97D0-3965B55F6298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1" name="Gerade Verbindung 4"/>
          <p:cNvSpPr/>
          <p:nvPr/>
        </p:nvSpPr>
        <p:spPr>
          <a:xfrm>
            <a:off x="822240" y="1335240"/>
            <a:ext cx="4434120" cy="612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hteck 5"/>
          <p:cNvSpPr/>
          <p:nvPr/>
        </p:nvSpPr>
        <p:spPr>
          <a:xfrm>
            <a:off x="822240" y="1673280"/>
            <a:ext cx="7818480" cy="1191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ти 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”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с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чк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.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 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- 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!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ничк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стик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Rechteck 6"/>
          <p:cNvSpPr/>
          <p:nvPr/>
        </p:nvSpPr>
        <p:spPr>
          <a:xfrm>
            <a:off x="738360" y="116064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"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Rechteck 7"/>
          <p:cNvSpPr/>
          <p:nvPr/>
        </p:nvSpPr>
        <p:spPr>
          <a:xfrm>
            <a:off x="738360" y="285444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ви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х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фи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з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с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Rechteck 8"/>
          <p:cNvSpPr/>
          <p:nvPr/>
        </p:nvSpPr>
        <p:spPr>
          <a:xfrm>
            <a:off x="826920" y="3570120"/>
            <a:ext cx="7777440" cy="642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ђ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лик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ти 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м другим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Rechteck 9"/>
          <p:cNvSpPr/>
          <p:nvPr/>
        </p:nvSpPr>
        <p:spPr>
          <a:xfrm>
            <a:off x="738360" y="4403880"/>
            <a:ext cx="80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: „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,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с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ви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х ф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з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с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Gerade Verbindung 10"/>
          <p:cNvSpPr/>
          <p:nvPr/>
        </p:nvSpPr>
        <p:spPr>
          <a:xfrm>
            <a:off x="826920" y="3041640"/>
            <a:ext cx="7129800" cy="144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Rechteck 12"/>
          <p:cNvSpPr/>
          <p:nvPr/>
        </p:nvSpPr>
        <p:spPr>
          <a:xfrm>
            <a:off x="826920" y="5213520"/>
            <a:ext cx="7813800" cy="9856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- д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финис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 п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Gerade Verbindung 13"/>
          <p:cNvSpPr/>
          <p:nvPr/>
        </p:nvSpPr>
        <p:spPr>
          <a:xfrm>
            <a:off x="826920" y="3330720"/>
            <a:ext cx="7021800" cy="0"/>
          </a:xfrm>
          <a:prstGeom prst="line">
            <a:avLst/>
          </a:prstGeom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111-6F17-44F0-A792-195D2809437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 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483240" y="4013280"/>
            <a:ext cx="2251080" cy="2386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755640" y="4925880"/>
            <a:ext cx="450072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rcRect l="0" t="3816" r="0" b="36112"/>
          <a:stretch/>
        </p:blipFill>
        <p:spPr>
          <a:xfrm>
            <a:off x="696960" y="2260440"/>
            <a:ext cx="5746680" cy="2300400"/>
          </a:xfrm>
          <a:prstGeom prst="rect">
            <a:avLst/>
          </a:prstGeom>
          <a:ln w="0">
            <a:noFill/>
          </a:ln>
        </p:spPr>
      </p:pic>
      <p:sp>
        <p:nvSpPr>
          <p:cNvPr id="130" name="Inhaltsplatzhalter 2"/>
          <p:cNvSpPr/>
          <p:nvPr/>
        </p:nvSpPr>
        <p:spPr>
          <a:xfrm>
            <a:off x="755640" y="1160640"/>
            <a:ext cx="7885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 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упник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o je 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чки 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,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US 3,759,518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г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ути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”, у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кр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сли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1" name="Rechteck 9"/>
          <p:cNvSpPr/>
          <p:nvPr/>
        </p:nvSpPr>
        <p:spPr>
          <a:xfrm>
            <a:off x="6543720" y="2370240"/>
            <a:ext cx="2300400" cy="153360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…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у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сибилних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…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6AD-9383-4673-9AA4-0CF4F45B7A1C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9" name="Rechteck 3"/>
          <p:cNvSpPr/>
          <p:nvPr/>
        </p:nvSpPr>
        <p:spPr>
          <a:xfrm>
            <a:off x="835200" y="1271520"/>
            <a:ext cx="3176280" cy="730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 п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 п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ним з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т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Rechteck 4"/>
          <p:cNvSpPr/>
          <p:nvPr/>
        </p:nvSpPr>
        <p:spPr>
          <a:xfrm>
            <a:off x="4859280" y="1233360"/>
            <a:ext cx="3213000" cy="73044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S 3759518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hteck 5"/>
          <p:cNvSpPr/>
          <p:nvPr/>
        </p:nvSpPr>
        <p:spPr>
          <a:xfrm>
            <a:off x="819000" y="2147760"/>
            <a:ext cx="3213360" cy="19656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,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њи д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ш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них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фи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из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с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Rechteck 6"/>
          <p:cNvSpPr/>
          <p:nvPr/>
        </p:nvSpPr>
        <p:spPr>
          <a:xfrm>
            <a:off x="4888080" y="2147760"/>
            <a:ext cx="3213000" cy="1971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лик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ис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… …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кључу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ћи …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ћи бр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фл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сибилних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з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у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 …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ишт</a:t>
            </a:r>
            <a:r>
              <a:rPr b="1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…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к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у, 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и, 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рут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рж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љ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ни.”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106960" y="4172040"/>
            <a:ext cx="2957400" cy="750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893960" y="4145040"/>
            <a:ext cx="839880" cy="811080"/>
          </a:xfrm>
          <a:prstGeom prst="rect">
            <a:avLst/>
          </a:prstGeom>
          <a:ln w="0">
            <a:noFill/>
          </a:ln>
        </p:spPr>
      </p:pic>
      <p:sp>
        <p:nvSpPr>
          <p:cNvPr id="145" name="Rechteck 9"/>
          <p:cNvSpPr/>
          <p:nvPr/>
        </p:nvSpPr>
        <p:spPr>
          <a:xfrm>
            <a:off x="819000" y="5057640"/>
            <a:ext cx="3213360" cy="120492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„…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б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г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х 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н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з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з с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ш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 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Textfeld 10"/>
          <p:cNvSpPr/>
          <p:nvPr/>
        </p:nvSpPr>
        <p:spPr>
          <a:xfrm rot="19975200">
            <a:off x="678600" y="2607120"/>
            <a:ext cx="35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Ни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54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Textfeld 11"/>
          <p:cNvSpPr/>
          <p:nvPr/>
        </p:nvSpPr>
        <p:spPr>
          <a:xfrm>
            <a:off x="4097160" y="4951440"/>
            <a:ext cx="46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       (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ф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у функ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ућ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ш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тиц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)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2F46-D602-4C4D-8B86-67A9319D69B8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3170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м с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 з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sr-Latn-C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5" name="Rechteck 3"/>
          <p:cNvSpPr/>
          <p:nvPr/>
        </p:nvSpPr>
        <p:spPr>
          <a:xfrm>
            <a:off x="826920" y="1268280"/>
            <a:ext cx="5988240" cy="21542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к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ћ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ити п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, 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виш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них фи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у 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г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их 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ни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с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."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933640" y="3976560"/>
            <a:ext cx="4248360" cy="178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719280" y="4048200"/>
            <a:ext cx="1685880" cy="1628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818-863D-4FDF-A3D8-E80D7865E25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5" name="Rechteck 4"/>
          <p:cNvSpPr/>
          <p:nvPr/>
        </p:nvSpPr>
        <p:spPr>
          <a:xfrm>
            <a:off x="830160" y="1268280"/>
            <a:ext cx="3249720" cy="8398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 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и 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ир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ућ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им 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Rechteck 5"/>
          <p:cNvSpPr/>
          <p:nvPr/>
        </p:nvSpPr>
        <p:spPr>
          <a:xfrm>
            <a:off x="5065560" y="1268280"/>
            <a:ext cx="3359160" cy="83988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ски ус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им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7" name="Pfeil nach links und rechts 6"/>
          <p:cNvSpPr/>
          <p:nvPr/>
        </p:nvSpPr>
        <p:spPr>
          <a:xfrm>
            <a:off x="4152960" y="1414440"/>
            <a:ext cx="876240" cy="58428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Ellipse 7"/>
          <p:cNvSpPr/>
          <p:nvPr/>
        </p:nvSpPr>
        <p:spPr>
          <a:xfrm>
            <a:off x="3833640" y="2917800"/>
            <a:ext cx="4965840" cy="2336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9" name="Textfeld 8"/>
          <p:cNvSpPr/>
          <p:nvPr/>
        </p:nvSpPr>
        <p:spPr>
          <a:xfrm>
            <a:off x="4879800" y="2552760"/>
            <a:ext cx="40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сни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(„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”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Ellipse 9"/>
          <p:cNvSpPr/>
          <p:nvPr/>
        </p:nvSpPr>
        <p:spPr>
          <a:xfrm>
            <a:off x="4272120" y="4268880"/>
            <a:ext cx="547560" cy="511200"/>
          </a:xfrm>
          <a:prstGeom prst="ellipse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Textfeld 10"/>
          <p:cNvSpPr/>
          <p:nvPr/>
        </p:nvSpPr>
        <p:spPr>
          <a:xfrm>
            <a:off x="1387440" y="5049720"/>
            <a:ext cx="369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тврђ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 с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 испит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ли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ку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72" name="Gerade Verbindung mit Pfeil 12"/>
          <p:cNvCxnSpPr/>
          <p:nvPr/>
        </p:nvCxnSpPr>
        <p:spPr>
          <a:xfrm flipV="1">
            <a:off x="4242240" y="4743000"/>
            <a:ext cx="183240" cy="658080"/>
          </a:xfrm>
          <a:prstGeom prst="straightConnector1">
            <a:avLst/>
          </a:prstGeom>
          <a:ln w="38160">
            <a:solidFill>
              <a:srgbClr val="c0362b"/>
            </a:solidFill>
            <a:miter/>
            <a:tailEnd len="med" type="arrow" w="med"/>
          </a:ln>
        </p:spPr>
      </p:cxnSp>
      <p:sp>
        <p:nvSpPr>
          <p:cNvPr id="173" name="Ellipse 13"/>
          <p:cNvSpPr/>
          <p:nvPr/>
        </p:nvSpPr>
        <p:spPr>
          <a:xfrm>
            <a:off x="4973760" y="3573360"/>
            <a:ext cx="3716280" cy="9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Textfeld 15"/>
          <p:cNvSpPr/>
          <p:nvPr/>
        </p:nvSpPr>
        <p:spPr>
          <a:xfrm>
            <a:off x="5119560" y="3681360"/>
            <a:ext cx="34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в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ж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Textfeld 17"/>
          <p:cNvSpPr/>
          <p:nvPr/>
        </p:nvSpPr>
        <p:spPr>
          <a:xfrm>
            <a:off x="5306040" y="321300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сни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6" name="Textfeld 19"/>
          <p:cNvSpPr/>
          <p:nvPr/>
        </p:nvSpPr>
        <p:spPr>
          <a:xfrm>
            <a:off x="738360" y="2508120"/>
            <a:ext cx="30049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c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T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c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1,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с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ви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ж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22E-E50C-4EF5-BFB6-6E428B6E31E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9" descr=""/>
          <p:cNvPicPr/>
          <p:nvPr/>
        </p:nvPicPr>
        <p:blipFill>
          <a:blip r:embed="rId1"/>
          <a:srcRect l="24828" t="0" r="0" b="0"/>
          <a:stretch/>
        </p:blipFill>
        <p:spPr>
          <a:xfrm>
            <a:off x="8101080" y="3759120"/>
            <a:ext cx="98100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5" name="Rechteck 4"/>
          <p:cNvSpPr/>
          <p:nvPr/>
        </p:nvSpPr>
        <p:spPr>
          <a:xfrm>
            <a:off x="1547640" y="2816280"/>
            <a:ext cx="6445440" cy="10094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2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1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з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 и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ф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чну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фигу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6" name="Rechteck 5"/>
          <p:cNvSpPr/>
          <p:nvPr/>
        </p:nvSpPr>
        <p:spPr>
          <a:xfrm>
            <a:off x="1547640" y="3968640"/>
            <a:ext cx="6445440" cy="936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3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1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њи к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б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х фи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м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и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87" name="Form 7"/>
          <p:cNvCxnSpPr>
            <a:stCxn id="185" idx="1"/>
          </p:cNvCxnSpPr>
          <p:nvPr/>
        </p:nvCxnSpPr>
        <p:spPr>
          <a:xfrm rot="10800000">
            <a:off x="1115280" y="2575800"/>
            <a:ext cx="432360" cy="74520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cxnSp>
        <p:nvCxnSpPr>
          <p:cNvPr id="188" name="Form 8"/>
          <p:cNvCxnSpPr>
            <a:stCxn id="186" idx="1"/>
          </p:cNvCxnSpPr>
          <p:nvPr/>
        </p:nvCxnSpPr>
        <p:spPr>
          <a:xfrm rot="10800000">
            <a:off x="1115280" y="2793240"/>
            <a:ext cx="432360" cy="1643760"/>
          </a:xfrm>
          <a:prstGeom prst="bentConnector2">
            <a:avLst/>
          </a:prstGeom>
          <a:ln w="25560">
            <a:solidFill>
              <a:srgbClr val="4c575f"/>
            </a:solidFill>
            <a:miter/>
          </a:ln>
        </p:spPr>
      </p:cxnSp>
      <p:sp>
        <p:nvSpPr>
          <p:cNvPr id="189" name="Rechteck 10"/>
          <p:cNvSpPr/>
          <p:nvPr/>
        </p:nvSpPr>
        <p:spPr>
          <a:xfrm>
            <a:off x="826920" y="5110200"/>
            <a:ext cx="7166160" cy="1058760"/>
          </a:xfrm>
          <a:prstGeom prst="rect">
            <a:avLst/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извршити 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ст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жи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ни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 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рити 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к, 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ФИНИ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,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 и 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чиг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Rechteck 3"/>
          <p:cNvSpPr/>
          <p:nvPr/>
        </p:nvSpPr>
        <p:spPr>
          <a:xfrm>
            <a:off x="826920" y="1268280"/>
            <a:ext cx="7166160" cy="1368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ни з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 1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Н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, 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њи д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ш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них фи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у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б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гл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и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их р</a:t>
            </a:r>
            <a:r>
              <a:rPr b="1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ни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с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шњ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д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671-700E-452E-9365-03D912D69C17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6258" t="0" r="30024" b="0"/>
          <a:stretch/>
        </p:blipFill>
        <p:spPr>
          <a:xfrm>
            <a:off x="826920" y="1576440"/>
            <a:ext cx="4119840" cy="2608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rcRect l="8761" t="0" r="0" b="0"/>
          <a:stretch/>
        </p:blipFill>
        <p:spPr>
          <a:xfrm>
            <a:off x="5292720" y="1808280"/>
            <a:ext cx="3456000" cy="2757240"/>
          </a:xfrm>
          <a:prstGeom prst="rect">
            <a:avLst/>
          </a:prstGeom>
          <a:ln w="0">
            <a:noFill/>
          </a:ln>
        </p:spPr>
      </p:pic>
      <p:sp>
        <p:nvSpPr>
          <p:cNvPr id="200" name="Rechteck 8"/>
          <p:cNvSpPr/>
          <p:nvPr/>
        </p:nvSpPr>
        <p:spPr>
          <a:xfrm>
            <a:off x="826920" y="4724280"/>
            <a:ext cx="7166160" cy="1739160"/>
          </a:xfrm>
          <a:prstGeom prst="rect">
            <a:avLst/>
          </a:prstGeom>
          <a:solidFill>
            <a:srgbClr val="b3c5d2"/>
          </a:solidFill>
          <a:ln w="9360">
            <a:solidFill>
              <a:srgbClr val="b3c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E 3121758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љив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,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љ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иљ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им шип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ли ч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ињ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...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т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шип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чвршћ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њи д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 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..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Rechteck 5"/>
          <p:cNvSpPr/>
          <p:nvPr/>
        </p:nvSpPr>
        <p:spPr>
          <a:xfrm>
            <a:off x="762120" y="1165320"/>
            <a:ext cx="40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љиви 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и 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уп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611-288C-4164-AC0B-C0BB3EF6054B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Ц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тних 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х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- (a)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15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Nils Omland</dc:creator>
  <dc:description/>
  <dc:language>en-US</dc:language>
  <cp:lastModifiedBy>VUKOV</cp:lastModifiedBy>
  <dcterms:modified xsi:type="dcterms:W3CDTF">2012-04-15T10:42:15Z</dcterms:modified>
  <cp:revision>700</cp:revision>
  <dc:subject/>
  <dc:title>How to claim an inven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