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CD3B-3D82-48A3-B665-B8C4559269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из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”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 с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х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с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из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P 0845498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сврх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пним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им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US 4735825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 0845498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дит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?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у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?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иди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б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4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и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012-2B2E-4D43-9A65-684370BE434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апо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им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х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ул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.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з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кл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ских 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у с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кл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ских 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м 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и друг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с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. 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друг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. 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ск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и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ч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 4735825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и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уж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.”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10 и 15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ључ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б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: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3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/ил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3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к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3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3CEF5-FDC6-4F2B-B2E6-FBD31DA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1FCEE-A875-430E-8169-11E01AC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5876F-C343-483C-A248-D92628D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053E-4B32-4763-988A-738109C0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CF58-19E0-4C5E-9162-2DEA1FDA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771A3-D958-4F79-97B8-B83EB03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7404E-1781-463F-A578-C50382E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9C867-B15B-4B7D-BA1C-BB84FA5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EBABE-137B-4BB0-8C2E-6F235784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0229-A5D7-4059-9BE8-0121D92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29A51-3119-4833-A5F5-508A63FF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2536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6828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38A77-CDCF-4247-BAD3-B144C303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6828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2536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6828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61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6352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c) Material for a synthetic lawn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61C-1F1D-4880-B859-D56F14FE56E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42880" indent="-2761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8200" indent="-26352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C7D-2C3F-4055-85E4-E8D37D0FF1BF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1160640"/>
            <a:ext cx="82965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br>
              <a:rPr sz="3600"/>
            </a:b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(ц) 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M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л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синт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тички т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вњ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093080" y="4905360"/>
            <a:ext cx="1635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8" name="Rechteck 8"/>
          <p:cNvSpPr/>
          <p:nvPr/>
        </p:nvSpPr>
        <p:spPr>
          <a:xfrm>
            <a:off x="755640" y="1125360"/>
            <a:ext cx="4213080" cy="50187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 6 из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P 0845498: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 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(a) 100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ини б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e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(A)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e 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винил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ич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и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 б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(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Б)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и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њу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 д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/ил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д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и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 б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б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 хид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из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j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 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у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(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ц)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5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150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ин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л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(д)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5 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80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ини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ли 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ж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д пр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пил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4c575f"/>
                </a:solidFill>
                <a:latin typeface="Arial"/>
                <a:ea typeface="Tahoma"/>
              </a:rPr>
              <a:t>a ...”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456000" cy="2430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553-4AA3-453D-A346-4131A56D71E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7" name="Rechteck 3"/>
          <p:cNvSpPr/>
          <p:nvPr/>
        </p:nvSpPr>
        <p:spPr>
          <a:xfrm>
            <a:off x="826920" y="1527120"/>
            <a:ext cx="4284720" cy="2730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ц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р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тн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ичк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у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ч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из гр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8" name="Rechteck 4"/>
          <p:cNvSpPr/>
          <p:nvPr/>
        </p:nvSpPr>
        <p:spPr>
          <a:xfrm>
            <a:off x="826920" y="4400640"/>
            <a:ext cx="426564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и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P 0845498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hteck 5"/>
          <p:cNvSpPr/>
          <p:nvPr/>
        </p:nvSpPr>
        <p:spPr>
          <a:xfrm>
            <a:off x="826920" y="5321160"/>
            <a:ext cx="7958160" cy="916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Rechteck 6"/>
          <p:cNvSpPr/>
          <p:nvPr/>
        </p:nvSpPr>
        <p:spPr>
          <a:xfrm>
            <a:off x="5327640" y="1530360"/>
            <a:ext cx="3440160" cy="33055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„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... б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л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б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л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(A)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ж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 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 винил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тич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и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 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 б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л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(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Б)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ж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и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њуг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и/или хид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и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б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л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б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хид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и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ц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j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м 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ну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бл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к к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лим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ahoma"/>
              </a:rPr>
              <a:t>a ..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Rechteck 7"/>
          <p:cNvSpPr/>
          <p:nvPr/>
        </p:nvSpPr>
        <p:spPr>
          <a:xfrm>
            <a:off x="7419960" y="1160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  <a:ea typeface="Tahoma"/>
              </a:rPr>
              <a:t>EP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084549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D72-AA34-4FC2-95EA-2D5AF43A5E4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5640" y="1125000"/>
            <a:ext cx="795672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к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стик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 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гу из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т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и пр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ч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б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 (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ћи у виду 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уп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ст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: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ђ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2A5C-B3B9-4897-83BF-B930E8D7AD0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hteck 17"/>
          <p:cNvSpPr/>
          <p:nvPr/>
        </p:nvSpPr>
        <p:spPr>
          <a:xfrm>
            <a:off x="824040" y="470232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Rechteck 18"/>
          <p:cNvSpPr/>
          <p:nvPr/>
        </p:nvSpPr>
        <p:spPr>
          <a:xfrm>
            <a:off x="824040" y="532296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Rechteck 7"/>
          <p:cNvSpPr/>
          <p:nvPr/>
        </p:nvSpPr>
        <p:spPr>
          <a:xfrm>
            <a:off x="824040" y="326556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Rechteck 6"/>
          <p:cNvSpPr/>
          <p:nvPr/>
        </p:nvSpPr>
        <p:spPr>
          <a:xfrm>
            <a:off x="824040" y="257184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Rechteck 5"/>
          <p:cNvSpPr/>
          <p:nvPr/>
        </p:nvSpPr>
        <p:spPr>
          <a:xfrm>
            <a:off x="824040" y="191448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ни 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 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2" name="Rechteck 3"/>
          <p:cNvSpPr/>
          <p:nvPr/>
        </p:nvSpPr>
        <p:spPr>
          <a:xfrm>
            <a:off x="4657680" y="1494000"/>
            <a:ext cx="1935360" cy="455904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3" name="Rechteck 4"/>
          <p:cNvSpPr/>
          <p:nvPr/>
        </p:nvSpPr>
        <p:spPr>
          <a:xfrm>
            <a:off x="6738840" y="1494000"/>
            <a:ext cx="1935360" cy="455904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Textfeld 8"/>
          <p:cNvSpPr/>
          <p:nvPr/>
        </p:nvSpPr>
        <p:spPr>
          <a:xfrm>
            <a:off x="411480" y="1476360"/>
            <a:ext cx="41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Rechteck 9"/>
          <p:cNvSpPr/>
          <p:nvPr/>
        </p:nvSpPr>
        <p:spPr>
          <a:xfrm>
            <a:off x="4923000" y="1160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  <a:ea typeface="Tahoma"/>
              </a:rPr>
              <a:t>US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4735825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Rechteck 10"/>
          <p:cNvSpPr/>
          <p:nvPr/>
        </p:nvSpPr>
        <p:spPr>
          <a:xfrm>
            <a:off x="6964560" y="11653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  <a:ea typeface="Tahoma"/>
              </a:rPr>
              <a:t>EP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084549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feld 19"/>
          <p:cNvSpPr/>
          <p:nvPr/>
        </p:nvSpPr>
        <p:spPr>
          <a:xfrm>
            <a:off x="768240" y="425772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8" name="Textfeld 29"/>
          <p:cNvSpPr/>
          <p:nvPr/>
        </p:nvSpPr>
        <p:spPr>
          <a:xfrm>
            <a:off x="5318640" y="26510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9" name="Textfeld 30"/>
          <p:cNvSpPr/>
          <p:nvPr/>
        </p:nvSpPr>
        <p:spPr>
          <a:xfrm>
            <a:off x="5391720" y="4781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Textfeld 31"/>
          <p:cNvSpPr/>
          <p:nvPr/>
        </p:nvSpPr>
        <p:spPr>
          <a:xfrm>
            <a:off x="5391720" y="5402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Textfeld 32"/>
          <p:cNvSpPr/>
          <p:nvPr/>
        </p:nvSpPr>
        <p:spPr>
          <a:xfrm>
            <a:off x="7436160" y="5402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Textfeld 33"/>
          <p:cNvSpPr/>
          <p:nvPr/>
        </p:nvSpPr>
        <p:spPr>
          <a:xfrm>
            <a:off x="7430040" y="4781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Textfeld 34"/>
          <p:cNvSpPr/>
          <p:nvPr/>
        </p:nvSpPr>
        <p:spPr>
          <a:xfrm>
            <a:off x="7436160" y="3344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5332320" y="3320640"/>
            <a:ext cx="426960" cy="323640"/>
            <a:chOff x="5332320" y="3320640"/>
            <a:chExt cx="426960" cy="323640"/>
          </a:xfrm>
        </p:grpSpPr>
        <p:sp>
          <p:nvSpPr>
            <p:cNvPr id="245" name="Line 29"/>
            <p:cNvSpPr/>
            <p:nvPr/>
          </p:nvSpPr>
          <p:spPr>
            <a:xfrm>
              <a:off x="5332320" y="3439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46" name="Line 30"/>
            <p:cNvSpPr/>
            <p:nvPr/>
          </p:nvSpPr>
          <p:spPr>
            <a:xfrm flipV="1">
              <a:off x="5505480" y="3320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47" name="Group 31"/>
          <p:cNvGrpSpPr/>
          <p:nvPr/>
        </p:nvGrpSpPr>
        <p:grpSpPr>
          <a:xfrm>
            <a:off x="5332320" y="1988640"/>
            <a:ext cx="426960" cy="323640"/>
            <a:chOff x="5332320" y="1988640"/>
            <a:chExt cx="426960" cy="323640"/>
          </a:xfrm>
        </p:grpSpPr>
        <p:sp>
          <p:nvSpPr>
            <p:cNvPr id="248" name="Line 32"/>
            <p:cNvSpPr/>
            <p:nvPr/>
          </p:nvSpPr>
          <p:spPr>
            <a:xfrm>
              <a:off x="5332320" y="2107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 flipV="1">
              <a:off x="5505480" y="1988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0" name="Group 34"/>
          <p:cNvGrpSpPr/>
          <p:nvPr/>
        </p:nvGrpSpPr>
        <p:grpSpPr>
          <a:xfrm>
            <a:off x="7488360" y="2636640"/>
            <a:ext cx="426960" cy="323640"/>
            <a:chOff x="7488360" y="2636640"/>
            <a:chExt cx="426960" cy="323640"/>
          </a:xfrm>
        </p:grpSpPr>
        <p:sp>
          <p:nvSpPr>
            <p:cNvPr id="251" name="Line 35"/>
            <p:cNvSpPr/>
            <p:nvPr/>
          </p:nvSpPr>
          <p:spPr>
            <a:xfrm>
              <a:off x="7488360" y="275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V="1">
              <a:off x="7661520" y="263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7488360" y="2025360"/>
            <a:ext cx="426960" cy="323640"/>
            <a:chOff x="7488360" y="2025360"/>
            <a:chExt cx="426960" cy="323640"/>
          </a:xfrm>
        </p:grpSpPr>
        <p:sp>
          <p:nvSpPr>
            <p:cNvPr id="254" name="Line 38"/>
            <p:cNvSpPr/>
            <p:nvPr/>
          </p:nvSpPr>
          <p:spPr>
            <a:xfrm>
              <a:off x="7488360" y="214452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 flipV="1">
              <a:off x="7661520" y="202536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5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148F-B270-4A45-BA84-38334FB0C187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125000"/>
            <a:ext cx="76788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ч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и, њ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,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чи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их из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гл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ић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и →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тивни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спу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ит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лик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EP 0845498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Rechteck 3"/>
          <p:cNvSpPr/>
          <p:nvPr/>
        </p:nvSpPr>
        <p:spPr>
          <a:xfrm>
            <a:off x="811080" y="3933720"/>
            <a:ext cx="7412040" cy="17636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тс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 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тив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 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ja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ух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ин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ички т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и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ш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из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ђу в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j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и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ин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и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ух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тни 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 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ух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чн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, 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 из гру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 б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ф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ми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oj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78E-296F-4DCD-9F05-3DAA55357C0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hteck 9"/>
          <p:cNvSpPr/>
          <p:nvPr/>
        </p:nvSpPr>
        <p:spPr>
          <a:xfrm>
            <a:off x="792000" y="2928960"/>
            <a:ext cx="1187640" cy="3207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Rechteck 6"/>
          <p:cNvSpPr/>
          <p:nvPr/>
        </p:nvSpPr>
        <p:spPr>
          <a:xfrm>
            <a:off x="3095640" y="5873760"/>
            <a:ext cx="347652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Rechteck 5"/>
          <p:cNvSpPr/>
          <p:nvPr/>
        </p:nvSpPr>
        <p:spPr>
          <a:xfrm>
            <a:off x="2771640" y="4689360"/>
            <a:ext cx="270036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Textfeld 11"/>
          <p:cNvSpPr/>
          <p:nvPr/>
        </p:nvSpPr>
        <p:spPr>
          <a:xfrm>
            <a:off x="7343640" y="1268280"/>
            <a:ext cx="1584360" cy="155412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к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љ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ивн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Rechteck 9"/>
          <p:cNvSpPr/>
          <p:nvPr/>
        </p:nvSpPr>
        <p:spPr>
          <a:xfrm>
            <a:off x="1800360" y="2637000"/>
            <a:ext cx="4138560" cy="2919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Rechteck 7"/>
          <p:cNvSpPr/>
          <p:nvPr/>
        </p:nvSpPr>
        <p:spPr>
          <a:xfrm>
            <a:off x="3635280" y="1492200"/>
            <a:ext cx="2484360" cy="2923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522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к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љу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8" name="Textfeld 14"/>
          <p:cNvSpPr/>
          <p:nvPr/>
        </p:nvSpPr>
        <p:spPr>
          <a:xfrm>
            <a:off x="7343640" y="3392640"/>
            <a:ext cx="1471680" cy="824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0845…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Textfeld 15"/>
          <p:cNvSpPr/>
          <p:nvPr/>
        </p:nvSpPr>
        <p:spPr>
          <a:xfrm>
            <a:off x="7343640" y="4653000"/>
            <a:ext cx="1471680" cy="8240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лик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US4735…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Rechteck 4"/>
          <p:cNvSpPr/>
          <p:nvPr/>
        </p:nvSpPr>
        <p:spPr>
          <a:xfrm>
            <a:off x="755640" y="1125360"/>
            <a:ext cx="622764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си, ...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 п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у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ђи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 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чким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ск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,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j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, си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ни или к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цни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...,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ђ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ђу в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и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чку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у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(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),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ку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..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н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из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ф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и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них 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чких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: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ф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м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ити,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т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ђ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у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ршин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, 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н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из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ч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 и 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 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тиз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ин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ним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у,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и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г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ити ири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н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ил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 гру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2FD9-D8FF-4E2B-8145-BDEC4DBD302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576360" y="2205000"/>
            <a:ext cx="7883280" cy="4068720"/>
          </a:xfrm>
          <a:prstGeom prst="rect">
            <a:avLst/>
          </a:prstGeom>
          <a:ln w="0">
            <a:noFill/>
          </a:ln>
        </p:spPr>
      </p:pic>
      <p:sp>
        <p:nvSpPr>
          <p:cNvPr id="289" name="Rechteck 3"/>
          <p:cNvSpPr/>
          <p:nvPr/>
        </p:nvSpPr>
        <p:spPr>
          <a:xfrm>
            <a:off x="826920" y="1268280"/>
            <a:ext cx="741708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DD4-DAA4-4FE5-AC45-F15FA3BCB95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м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ктни 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тички 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в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99" name="Picture 6" descr="surface4[1]"/>
          <p:cNvPicPr/>
          <p:nvPr/>
        </p:nvPicPr>
        <p:blipFill>
          <a:blip r:embed="rId1"/>
          <a:stretch/>
        </p:blipFill>
        <p:spPr>
          <a:xfrm>
            <a:off x="6156360" y="1197000"/>
            <a:ext cx="2801880" cy="1878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8"/>
          <p:cNvSpPr/>
          <p:nvPr/>
        </p:nvSpPr>
        <p:spPr>
          <a:xfrm>
            <a:off x="755640" y="1047240"/>
            <a:ext cx="54007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и 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чки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зу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здржљив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и к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фи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FIFA-e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љ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љу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ућу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у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н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вим в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ским ус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и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.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ђ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ини 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стити 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иш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удућ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, штити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г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г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, 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љ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ћи ви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 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т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у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г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у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р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слу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 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тских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ив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лик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ид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стити. И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ини фуд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(5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x5)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ли 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ф,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ц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и иг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и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410160" y="3201840"/>
            <a:ext cx="23385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инт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тички тр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вњ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кв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рцним п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к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и ч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тиц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м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гум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П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тп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рни сл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j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упстр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т у 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сн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ви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Tahoma"/>
              </a:rPr>
              <a:t> 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п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дл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666666"/>
                </a:solidFill>
                <a:latin typeface="Arial"/>
                <a:ea typeface="Tahoma"/>
              </a:rPr>
              <a:t>г</a:t>
            </a:r>
            <a:r>
              <a:rPr b="0" lang="sr-Latn-RS" sz="1600" spc="-1" strike="noStrike">
                <a:solidFill>
                  <a:srgbClr val="666666"/>
                </a:solidFill>
                <a:latin typeface="Arial"/>
                <a:ea typeface="Tahoma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1D0-48CB-47C7-8123-84AEA1AAB69F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3840" y="1125000"/>
            <a:ext cx="8011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тн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ички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и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у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у 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 УВ з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т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уг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.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. M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шк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цикл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и,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у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тн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дину 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з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a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  <a:ea typeface="Tahoma"/>
              </a:rPr>
              <a:t>р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  <a:ea typeface="Tahoma"/>
              </a:rPr>
              <a:t>je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0" name="Inhaltsplatzhalter 2"/>
          <p:cNvSpPr/>
          <p:nvPr/>
        </p:nvSpPr>
        <p:spPr>
          <a:xfrm>
            <a:off x="754200" y="3213000"/>
            <a:ext cx="770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штитити пр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 имит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de-DE" sz="1800" spc="-1" strike="noStrike">
                <a:solidFill>
                  <a:srgbClr val="404b56"/>
                </a:solidFill>
                <a:latin typeface="Arial"/>
              </a:rPr>
              <a:t>je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в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, 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и 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, УВ-с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д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ц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х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љи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су с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ти 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 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 п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(т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њ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) или 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ни м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)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б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х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у 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чи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р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de-DE" sz="1800" spc="-1" strike="noStrike">
                <a:solidFill>
                  <a:srgbClr val="404b56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A16-24D5-477B-96C7-0610FBCAF74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8" name="Gerade Verbindung 4"/>
          <p:cNvSpPr/>
          <p:nvPr/>
        </p:nvSpPr>
        <p:spPr>
          <a:xfrm>
            <a:off x="817560" y="1557360"/>
            <a:ext cx="710244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Rechteck 5"/>
          <p:cNvSpPr/>
          <p:nvPr/>
        </p:nvSpPr>
        <p:spPr>
          <a:xfrm>
            <a:off x="828720" y="2241720"/>
            <a:ext cx="7630920" cy="10674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ит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бу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„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и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, 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и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”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нички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.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и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гу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 - 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у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ничк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стик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и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?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Rechteck 6"/>
          <p:cNvSpPr/>
          <p:nvPr/>
        </p:nvSpPr>
        <p:spPr>
          <a:xfrm>
            <a:off x="790560" y="1160640"/>
            <a:ext cx="779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: „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н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,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им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ивним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жу, 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,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-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и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и 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УВ з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т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уг 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Rechteck 7"/>
          <p:cNvSpPr/>
          <p:nvPr/>
        </p:nvSpPr>
        <p:spPr>
          <a:xfrm>
            <a:off x="790560" y="338940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: „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н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т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 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ичн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Rechteck 8"/>
          <p:cNvSpPr/>
          <p:nvPr/>
        </p:nvSpPr>
        <p:spPr>
          <a:xfrm>
            <a:off x="826920" y="4000680"/>
            <a:ext cx="7632720" cy="5806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и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иђ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ћ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љ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и м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ити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им сличним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Rechteck 9"/>
          <p:cNvSpPr/>
          <p:nvPr/>
        </p:nvSpPr>
        <p:spPr>
          <a:xfrm>
            <a:off x="738360" y="4689360"/>
            <a:ext cx="77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тни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: „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тн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чки т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ути 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чни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Gerade Verbindung 10"/>
          <p:cNvSpPr/>
          <p:nvPr/>
        </p:nvSpPr>
        <p:spPr>
          <a:xfrm>
            <a:off x="846000" y="3533760"/>
            <a:ext cx="7613640" cy="3492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hteck 12"/>
          <p:cNvSpPr/>
          <p:nvPr/>
        </p:nvSpPr>
        <p:spPr>
          <a:xfrm>
            <a:off x="826920" y="5373720"/>
            <a:ext cx="7632720" cy="684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и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6" name="Gerade Verbindung 13"/>
          <p:cNvSpPr/>
          <p:nvPr/>
        </p:nvSpPr>
        <p:spPr>
          <a:xfrm>
            <a:off x="846000" y="3855960"/>
            <a:ext cx="4878360" cy="180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7" name="Gerade Verbindung 4"/>
          <p:cNvSpPr/>
          <p:nvPr/>
        </p:nvSpPr>
        <p:spPr>
          <a:xfrm>
            <a:off x="822240" y="1305000"/>
            <a:ext cx="7097760" cy="612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8" name="Gerade Verbindung 13"/>
          <p:cNvSpPr/>
          <p:nvPr/>
        </p:nvSpPr>
        <p:spPr>
          <a:xfrm>
            <a:off x="822240" y="1808280"/>
            <a:ext cx="709776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B196-4C72-41D0-9C33-15A19DE3041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Gerade Verbindung 13"/>
          <p:cNvSpPr/>
          <p:nvPr/>
        </p:nvSpPr>
        <p:spPr>
          <a:xfrm>
            <a:off x="790560" y="2060640"/>
            <a:ext cx="284472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7" name="Inhaltsplatzhalter 2"/>
          <p:cNvSpPr/>
          <p:nvPr/>
        </p:nvSpPr>
        <p:spPr>
          <a:xfrm>
            <a:off x="755640" y="1125360"/>
            <a:ext cx="75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рил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м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ж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 US 4,735,825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„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M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д 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и 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з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и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г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су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г 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чку 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ву”,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j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сли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Tahoma"/>
              </a:rPr>
              <a:t>к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Rechteck 9"/>
          <p:cNvSpPr/>
          <p:nvPr/>
        </p:nvSpPr>
        <p:spPr>
          <a:xfrm>
            <a:off x="4751280" y="2239920"/>
            <a:ext cx="3708360" cy="41418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 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личити 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и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и у 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у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 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њу,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лу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и 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у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кључ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ћи и 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чну гуму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чни 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у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ик плути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 или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ш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 г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, укључ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ћи 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чну гуму и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 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стил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 в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у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и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у или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г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„пу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”,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ку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 или 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и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уви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.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(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 2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 45-50)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826920" y="2359080"/>
            <a:ext cx="3343320" cy="4022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A16-70E2-4405-BE9B-0E95EAF2DCA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Уп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ђив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њ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дв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п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7" name="Rechteck 3"/>
          <p:cNvSpPr/>
          <p:nvPr/>
        </p:nvSpPr>
        <p:spPr>
          <a:xfrm>
            <a:off x="820800" y="1257480"/>
            <a:ext cx="317664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н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Rechteck 4"/>
          <p:cNvSpPr/>
          <p:nvPr/>
        </p:nvSpPr>
        <p:spPr>
          <a:xfrm>
            <a:off x="4140360" y="1260360"/>
            <a:ext cx="467964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Tahoma"/>
              </a:rPr>
              <a:t>U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ahoma"/>
              </a:rPr>
              <a:t>4735825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Rechteck 5"/>
          <p:cNvSpPr/>
          <p:nvPr/>
        </p:nvSpPr>
        <p:spPr>
          <a:xfrm>
            <a:off x="820800" y="2228760"/>
            <a:ext cx="3174840" cy="2460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тни 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ички 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ути 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чн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hteck 6"/>
          <p:cNvSpPr/>
          <p:nvPr/>
        </p:nvSpPr>
        <p:spPr>
          <a:xfrm>
            <a:off x="4176720" y="2228760"/>
            <a:ext cx="4643280" cy="24480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 1: „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ту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 з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б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...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ч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: (a)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ш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т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и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 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у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 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ст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и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, (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б) 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ђи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б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ш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...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из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ђу нити 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штрч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увис ... и (ц) 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врг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 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у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ућ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ст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ж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уши, п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тирку 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пу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ус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ви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уш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 ...”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 2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 45-50: „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д 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,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зличити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т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ити 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ути 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ли, 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у ... гу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ни г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ну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т, укључу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j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ућ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и 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  <a:ea typeface="Tahoma"/>
              </a:rPr>
              <a:t>сичну гуму ...”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Rechteck 9"/>
          <p:cNvSpPr/>
          <p:nvPr/>
        </p:nvSpPr>
        <p:spPr>
          <a:xfrm>
            <a:off x="803160" y="4976640"/>
            <a:ext cx="3194280" cy="1204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„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 из гру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и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 б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feld 10"/>
          <p:cNvSpPr/>
          <p:nvPr/>
        </p:nvSpPr>
        <p:spPr>
          <a:xfrm rot="19975200">
            <a:off x="585000" y="2941920"/>
            <a:ext cx="35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c0362b"/>
                </a:solidFill>
                <a:latin typeface="Arial"/>
                <a:ea typeface="Tahoma"/>
              </a:rPr>
              <a:t>Ни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  <a:ea typeface="Tahoma"/>
              </a:rPr>
              <a:t>je 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endParaRPr b="0" lang="en-US" sz="5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Textfeld 11"/>
          <p:cNvSpPr/>
          <p:nvPr/>
        </p:nvSpPr>
        <p:spPr>
          <a:xfrm>
            <a:off x="3995640" y="4857840"/>
            <a:ext cx="5077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 (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ти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н б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к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и 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мињу с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у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ку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нту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US 4735825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и п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с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љ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j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у п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бну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рсту „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п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тич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г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”)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T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ђ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т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и  ин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нтив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 (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пр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ч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j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п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к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з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o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 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и 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и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j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и 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из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зи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j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у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рги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j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у, 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б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љ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у, у 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д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у н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 o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с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a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л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врст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 </a:t>
            </a:r>
            <a:r>
              <a:rPr b="0" lang="sr-RS" sz="1500" spc="-1" strike="noStrike">
                <a:solidFill>
                  <a:srgbClr val="c0362b"/>
                </a:solidFill>
                <a:latin typeface="Arial"/>
                <a:ea typeface="Tahoma"/>
              </a:rPr>
              <a:t>гум</a:t>
            </a:r>
            <a:r>
              <a:rPr b="0" lang="en-US" sz="1500" spc="-1" strike="noStrike">
                <a:solidFill>
                  <a:srgbClr val="c0362b"/>
                </a:solidFill>
                <a:latin typeface="Arial"/>
                <a:ea typeface="Tahoma"/>
              </a:rPr>
              <a:t>e)</a:t>
            </a:r>
            <a:endParaRPr b="0" lang="en-US" sz="15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A67C-2CCC-4CE0-B51B-6054C757EF0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в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штиту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  <a:ea typeface="Tahoma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Tahoma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1" name="Rechteck 3"/>
          <p:cNvSpPr/>
          <p:nvPr/>
        </p:nvSpPr>
        <p:spPr>
          <a:xfrm>
            <a:off x="826920" y="1268280"/>
            <a:ext cx="5977080" cy="2268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и 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ити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тн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ички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ут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ч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из гр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.”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62" name="Picture 7" descr="surface4[1]"/>
          <p:cNvPicPr/>
          <p:nvPr/>
        </p:nvPicPr>
        <p:blipFill>
          <a:blip r:embed="rId1"/>
          <a:stretch/>
        </p:blipFill>
        <p:spPr>
          <a:xfrm>
            <a:off x="826920" y="3860640"/>
            <a:ext cx="2802240" cy="18781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3B6-6974-4D15-A072-DC061B2B29B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сн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0" name="Textfeld 5"/>
          <p:cNvSpPr/>
          <p:nvPr/>
        </p:nvSpPr>
        <p:spPr>
          <a:xfrm>
            <a:off x="792360" y="1160640"/>
            <a:ext cx="72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и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ифич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Rechteck 7"/>
          <p:cNvSpPr/>
          <p:nvPr/>
        </p:nvSpPr>
        <p:spPr>
          <a:xfrm>
            <a:off x="828720" y="1598760"/>
            <a:ext cx="3979800" cy="1314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Шир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 с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би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2" name="Rechteck 8"/>
          <p:cNvSpPr/>
          <p:nvPr/>
        </p:nvSpPr>
        <p:spPr>
          <a:xfrm>
            <a:off x="4948200" y="1582560"/>
            <a:ext cx="3760920" cy="16671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С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цифични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и с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и с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ч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г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изв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и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к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и би п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с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љ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ц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лну 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в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ду 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Tahoma"/>
              </a:rPr>
              <a:t>н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a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hteck 9"/>
          <p:cNvSpPr/>
          <p:nvPr/>
        </p:nvSpPr>
        <p:spPr>
          <a:xfrm>
            <a:off x="826920" y="3533760"/>
            <a:ext cx="3980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ири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Rechteck 10"/>
          <p:cNvSpPr/>
          <p:nvPr/>
        </p:nvSpPr>
        <p:spPr>
          <a:xfrm>
            <a:off x="4948200" y="4300560"/>
            <a:ext cx="3764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Rechteck 11"/>
          <p:cNvSpPr/>
          <p:nvPr/>
        </p:nvSpPr>
        <p:spPr>
          <a:xfrm>
            <a:off x="4948200" y="4957920"/>
            <a:ext cx="3764160" cy="5108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76" name="Form 13"/>
          <p:cNvCxnSpPr>
            <a:stCxn id="173" idx="2"/>
            <a:endCxn id="174" idx="1"/>
          </p:cNvCxnSpPr>
          <p:nvPr/>
        </p:nvCxnSpPr>
        <p:spPr>
          <a:xfrm flipH="1" rot="16200000">
            <a:off x="3627360" y="3234960"/>
            <a:ext cx="511920" cy="213120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cxnSp>
        <p:nvCxnSpPr>
          <p:cNvPr id="177" name="Form 14"/>
          <p:cNvCxnSpPr>
            <a:stCxn id="173" idx="2"/>
            <a:endCxn id="175" idx="1"/>
          </p:cNvCxnSpPr>
          <p:nvPr/>
        </p:nvCxnSpPr>
        <p:spPr>
          <a:xfrm flipH="1" rot="16200000">
            <a:off x="3298680" y="3563640"/>
            <a:ext cx="1169280" cy="213120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sp>
        <p:nvSpPr>
          <p:cNvPr id="1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424-E192-45BC-8D8D-50B6D2D7269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5" name="Rechteck 3"/>
          <p:cNvSpPr/>
          <p:nvPr/>
        </p:nvSpPr>
        <p:spPr>
          <a:xfrm>
            <a:off x="826920" y="1262160"/>
            <a:ext cx="7275600" cy="1533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 1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тн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ички 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ут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из гр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Rechteck 4"/>
          <p:cNvSpPr/>
          <p:nvPr/>
        </p:nvSpPr>
        <p:spPr>
          <a:xfrm>
            <a:off x="1692360" y="2982960"/>
            <a:ext cx="642600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у 1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ути с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 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р хид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Tahoma"/>
              </a:rPr>
              <a:t>н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Rechteck 5"/>
          <p:cNvSpPr/>
          <p:nvPr/>
        </p:nvSpPr>
        <p:spPr>
          <a:xfrm>
            <a:off x="1685880" y="3774960"/>
            <a:ext cx="6450120" cy="12956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 3: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„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M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 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х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ву 2 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з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ч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т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ш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 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ути 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к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р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из гру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: 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бут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(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БС);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п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(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С);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ти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-сти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н (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  <a:ea typeface="Tahoma"/>
              </a:rPr>
              <a:t>E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  <a:ea typeface="Tahoma"/>
              </a:rPr>
              <a:t>ПС)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88" name="Form 7"/>
          <p:cNvCxnSpPr>
            <a:stCxn id="186" idx="1"/>
          </p:cNvCxnSpPr>
          <p:nvPr/>
        </p:nvCxnSpPr>
        <p:spPr>
          <a:xfrm flipH="1">
            <a:off x="1223280" y="3330360"/>
            <a:ext cx="469080" cy="13320"/>
          </a:xfrm>
          <a:prstGeom prst="straightConnector1">
            <a:avLst/>
          </a:prstGeom>
          <a:ln w="25560">
            <a:solidFill>
              <a:srgbClr val="4c575f"/>
            </a:solidFill>
            <a:miter/>
          </a:ln>
        </p:spPr>
      </p:cxnSp>
      <p:cxnSp>
        <p:nvCxnSpPr>
          <p:cNvPr id="189" name="Form 8"/>
          <p:cNvCxnSpPr>
            <a:stCxn id="187" idx="1"/>
          </p:cNvCxnSpPr>
          <p:nvPr/>
        </p:nvCxnSpPr>
        <p:spPr>
          <a:xfrm rot="10800000">
            <a:off x="1210680" y="2796480"/>
            <a:ext cx="475200" cy="162612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sp>
        <p:nvSpPr>
          <p:cNvPr id="190" name="Rechteck 10"/>
          <p:cNvSpPr/>
          <p:nvPr/>
        </p:nvSpPr>
        <p:spPr>
          <a:xfrm>
            <a:off x="826920" y="5214960"/>
            <a:ext cx="7309080" cy="1058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ити 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ити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И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87A7-C3D5-4989-83FC-2AA515DDB57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562120" y="6541920"/>
            <a:ext cx="52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ц)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ин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ички 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6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5T19:30:14Z</dcterms:modified>
  <cp:revision>5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