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397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10800" y="746280"/>
            <a:ext cx="496116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77880" y="4714920"/>
            <a:ext cx="54259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942768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39760" y="942768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C423A99-35D2-4E6E-8328-729BDCC3418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77880" y="4714920"/>
            <a:ext cx="542592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Foliennummernplatzhalter 3"/>
          <p:cNvSpPr/>
          <p:nvPr/>
        </p:nvSpPr>
        <p:spPr>
          <a:xfrm>
            <a:off x="3840120" y="9428040"/>
            <a:ext cx="294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3E4EFA8-5617-4829-A91D-716E2BE9223C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7880" y="4714920"/>
            <a:ext cx="54259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ч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S 6061253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1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у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)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спу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у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ви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у.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,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 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ф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му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з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лик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7880" y="4714920"/>
            <a:ext cx="54259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 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кр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прил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спит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ку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у 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 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j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,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унк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ч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у (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и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ив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ubber”)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лик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функ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цу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гур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у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них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жи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у 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с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Foliennummernplatzhalter 3"/>
          <p:cNvSpPr/>
          <p:nvPr/>
        </p:nvSpPr>
        <p:spPr>
          <a:xfrm>
            <a:off x="3840120" y="9428040"/>
            <a:ext cx="294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2F80C22-B727-406D-9512-475DD33575E4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7880" y="4714920"/>
            <a:ext cx="54259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из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х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и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гу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ши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у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у у 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ул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д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з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ц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прил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ив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и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лич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мич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.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ул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гу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куп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тив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(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), 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утк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ив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и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рич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лич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77880" y="4714920"/>
            <a:ext cx="54259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апоме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, 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д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лу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ш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т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личит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 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ку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у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с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/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су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и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и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.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„flyback”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 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ским у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,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ви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л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DC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и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н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пр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утку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зи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 б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р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,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ид и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к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ну стр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di/dt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индуктив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сф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плиту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ши из си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23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 AC,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плиту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ћ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1 000 V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у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зи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 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 и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љ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у м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у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гу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 и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м губиц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7880" y="4714920"/>
            <a:ext cx="54259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lyback”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„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rward”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лич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х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C-DC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ф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с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).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сличн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фигу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пр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сф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их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н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лич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м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ч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„flyback”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 б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у 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ск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ћ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виду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б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ћ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н 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би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му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e: 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и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ки и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”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р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7880" y="4714920"/>
            <a:ext cx="54259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ти у ш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мислу,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р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лу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б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уг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e R6)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х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из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„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”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им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ц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+C,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C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ним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7880" y="4714920"/>
            <a:ext cx="54259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nuuber”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м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гушницу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у” или „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lamper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5640" y="36828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0800" y="112536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640" y="36828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0800" y="36828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51960" y="112536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8640" y="112536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5640" y="36828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51960" y="36828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8640" y="36828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0BADD-56DA-4CB0-8E3E-19F28EC7B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F4699-2327-4B5D-AEF8-8A71EFBB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D1C36-2162-44AE-BE72-20D88784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0800" y="112536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B5A8F-8BC6-49D1-AAD4-DBEC2D2C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BCFB3-AEFF-4722-AFFB-0ACEE3FF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3597E-5EEC-4CE5-9ED3-0501D943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0800" y="112536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5640" y="36828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1E9E2-487C-404D-A102-77863DE4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0800" y="112536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90800" y="36828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81C03-8D7A-4B19-A518-9248EB9F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0800" y="112536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5640" y="36828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32BD7-1C8B-49FE-88B6-E1A2199B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55640" y="36828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7D4AA-E325-4021-A7D5-FCFBA71B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90800" y="112536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55640" y="36828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90800" y="36828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54093-02BB-4B43-947A-0CC691D30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51960" y="112536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8640" y="112536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55640" y="36828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51960" y="36828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8640" y="36828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250CE-985A-4C04-B8EA-DA7CCD74E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0800" y="112536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0800" y="112536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5640" y="36828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0800" y="112536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0800" y="36828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0800" y="112536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5640" y="36828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524280"/>
            <a:ext cx="28958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755640" y="112536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-26352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527040" indent="-25416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2" marL="808200" indent="-279720">
              <a:lnSpc>
                <a:spcPct val="120000"/>
              </a:lnSpc>
              <a:buClr>
                <a:srgbClr val="404b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buClr>
                <a:srgbClr val="404b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816120" y="378000"/>
            <a:ext cx="8342280" cy="17280"/>
          </a:xfrm>
          <a:prstGeom prst="rect">
            <a:avLst/>
          </a:prstGeom>
          <a:solidFill>
            <a:srgbClr val="c03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5" name="Picture 9" descr="EPO_rgb_300dpi"/>
          <p:cNvPicPr/>
          <p:nvPr/>
        </p:nvPicPr>
        <p:blipFill>
          <a:blip r:embed="rId2"/>
          <a:stretch/>
        </p:blipFill>
        <p:spPr>
          <a:xfrm>
            <a:off x="0" y="0"/>
            <a:ext cx="792000" cy="3967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Sub-module C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Understanding patent claims - (e) Electrical power converter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8388360" y="6632640"/>
            <a:ext cx="755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303C-D1DC-41BF-ADE2-4A9F17ACB9AF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15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7"/>
          <p:cNvSpPr/>
          <p:nvPr/>
        </p:nvSpPr>
        <p:spPr>
          <a:xfrm>
            <a:off x="8656560" y="618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45" name="Coloredframe"/>
          <p:cNvSpPr/>
          <p:nvPr/>
        </p:nvSpPr>
        <p:spPr>
          <a:xfrm>
            <a:off x="1208160" y="0"/>
            <a:ext cx="7993080" cy="587520"/>
          </a:xfrm>
          <a:prstGeom prst="rect">
            <a:avLst/>
          </a:prstGeom>
          <a:solidFill>
            <a:srgbClr val="c03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46" name="Picture 9" descr="EPO_rgb_300dpi"/>
          <p:cNvPicPr/>
          <p:nvPr/>
        </p:nvPicPr>
        <p:blipFill>
          <a:blip r:embed="rId2"/>
          <a:stretch/>
        </p:blipFill>
        <p:spPr>
          <a:xfrm>
            <a:off x="0" y="0"/>
            <a:ext cx="1166760" cy="584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EPO_PPT_Titel"/>
          <p:cNvPicPr/>
          <p:nvPr/>
        </p:nvPicPr>
        <p:blipFill>
          <a:blip r:embed="rId3"/>
          <a:stretch/>
        </p:blipFill>
        <p:spPr>
          <a:xfrm>
            <a:off x="0" y="5425920"/>
            <a:ext cx="9144000" cy="1432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55640" y="112536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-26352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527040" indent="-25416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2" marL="808200" indent="-279720">
              <a:lnSpc>
                <a:spcPct val="120000"/>
              </a:lnSpc>
              <a:buClr>
                <a:srgbClr val="404b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buClr>
                <a:srgbClr val="404b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c575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5A83-CC92-4557-91F7-2D1B4466046B}" type="slidenum">
              <a:rPr b="0" lang="de-DE" sz="1400" spc="-1" strike="noStrike">
                <a:solidFill>
                  <a:srgbClr val="4c575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160280"/>
            <a:ext cx="8136000" cy="28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зум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нтних з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a </a:t>
            </a:r>
            <a:br>
              <a:rPr sz="3600"/>
            </a:b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(e) </a:t>
            </a: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нв</a:t>
            </a: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рт</a:t>
            </a: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ри </a:t>
            </a: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ктричн</a:t>
            </a: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e e</a:t>
            </a: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рги</a:t>
            </a: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je</a:t>
            </a:r>
            <a:endParaRPr b="1" lang="en-US" sz="36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7128000" y="4941720"/>
            <a:ext cx="1584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M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ишљ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-a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96" name="Rechteck 3"/>
          <p:cNvSpPr/>
          <p:nvPr/>
        </p:nvSpPr>
        <p:spPr>
          <a:xfrm>
            <a:off x="826920" y="1268280"/>
            <a:ext cx="4861080" cy="313236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7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1" lang="en-US" sz="17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7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1" lang="en-US" sz="17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700" spc="-1" strike="noStrike">
                <a:solidFill>
                  <a:srgbClr val="4c575f"/>
                </a:solidFill>
                <a:latin typeface="Arial"/>
              </a:rPr>
              <a:t>в п</a:t>
            </a:r>
            <a:r>
              <a:rPr b="1" lang="en-US" sz="17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700" spc="-1" strike="noStrike">
                <a:solidFill>
                  <a:srgbClr val="4c575f"/>
                </a:solidFill>
                <a:latin typeface="Arial"/>
              </a:rPr>
              <a:t>дн</a:t>
            </a:r>
            <a:r>
              <a:rPr b="1" lang="en-US" sz="17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700" spc="-1" strike="noStrike">
                <a:solidFill>
                  <a:srgbClr val="4c575f"/>
                </a:solidFill>
                <a:latin typeface="Arial"/>
              </a:rPr>
              <a:t>си</a:t>
            </a:r>
            <a:r>
              <a:rPr b="1" lang="en-US" sz="17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7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1" lang="en-US" sz="17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lang="sr-RS" sz="1700" spc="-1" strike="noStrike">
                <a:solidFill>
                  <a:srgbClr val="4c575f"/>
                </a:solidFill>
                <a:latin typeface="Arial"/>
              </a:rPr>
              <a:t>при</a:t>
            </a:r>
            <a:r>
              <a:rPr b="1" lang="en-US" sz="1700" spc="-1" strike="noStrike">
                <a:solidFill>
                  <a:srgbClr val="4c575f"/>
                </a:solidFill>
                <a:latin typeface="Arial"/>
              </a:rPr>
              <a:t>ja</a:t>
            </a:r>
            <a:r>
              <a:rPr b="1" lang="sr-RS" sz="17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1" lang="en-US" sz="1700" spc="-1" strike="noStrike">
                <a:solidFill>
                  <a:srgbClr val="4c575f"/>
                </a:solidFill>
                <a:latin typeface="Arial"/>
              </a:rPr>
              <a:t>e: </a:t>
            </a:r>
            <a:endParaRPr b="0" lang="en-US" sz="17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„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кид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чки изв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р н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j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нд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нз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скл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дишт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 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ктричн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 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рги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je,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нсф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рм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м с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прим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рним н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j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м,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кунд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рним н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j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м и к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мут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ци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ним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нзист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м к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и им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ри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ску в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зу с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прим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рним н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j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м, к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кт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ристич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н п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шт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 je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прим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рни н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j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изд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љ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н н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лун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je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j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 j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дним изв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м, т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 je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нд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нз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р у св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м кућишту п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лн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н с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j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дв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лун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ja.”</a:t>
            </a:r>
            <a:endParaRPr b="0" lang="en-US" sz="17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7" name="Rechteck 4"/>
          <p:cNvSpPr/>
          <p:nvPr/>
        </p:nvSpPr>
        <p:spPr>
          <a:xfrm>
            <a:off x="809640" y="4498920"/>
            <a:ext cx="4878360" cy="73044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j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ћ при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у 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т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US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6061253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8" name="Rechteck 5"/>
          <p:cNvSpPr/>
          <p:nvPr/>
        </p:nvSpPr>
        <p:spPr>
          <a:xfrm>
            <a:off x="826920" y="5408640"/>
            <a:ext cx="7921800" cy="93672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дг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р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-a: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Из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и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с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j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х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ли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ш п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к бу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штић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!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9" name="Rechteck 6"/>
          <p:cNvSpPr/>
          <p:nvPr/>
        </p:nvSpPr>
        <p:spPr>
          <a:xfrm>
            <a:off x="6048360" y="1665360"/>
            <a:ext cx="2700360" cy="64260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1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лн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N1,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2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лн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N3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0" name="Rechteck 7"/>
          <p:cNvSpPr/>
          <p:nvPr/>
        </p:nvSpPr>
        <p:spPr>
          <a:xfrm>
            <a:off x="7439400" y="116064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US 6061253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201" name="Picture 9" descr=""/>
          <p:cNvPicPr/>
          <p:nvPr/>
        </p:nvPicPr>
        <p:blipFill>
          <a:blip r:embed="rId1"/>
          <a:srcRect l="10000" t="9774" r="0" b="0"/>
          <a:stretch/>
        </p:blipFill>
        <p:spPr>
          <a:xfrm>
            <a:off x="5904000" y="2708280"/>
            <a:ext cx="2914560" cy="199224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8990-93B4-40BE-8D69-119D3BB2D4B2}" type="slidenum">
              <a:rPr b="0" lang="de-DE" sz="16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6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4" name="Rectangle 10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5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6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e)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и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трич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г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7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0/15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љ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и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755640" y="112536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e 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ж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сти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?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г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 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: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пр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,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ђу 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с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ни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ви м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гу изм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нити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 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 при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 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 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ин 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бу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 (и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ћи у виду ц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уп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ни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)?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2631-C133-499E-B99D-E0A7B76BB70D}" type="slidenum">
              <a:rPr b="0" lang="de-DE" sz="16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6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3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4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e)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и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трич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г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1/15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hteck 7"/>
          <p:cNvSpPr/>
          <p:nvPr/>
        </p:nvSpPr>
        <p:spPr>
          <a:xfrm>
            <a:off x="826920" y="3247920"/>
            <a:ext cx="7958160" cy="51120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Дим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зи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ис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у циљу п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иш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сцил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ци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j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7" name="Rechteck 17"/>
          <p:cNvSpPr/>
          <p:nvPr/>
        </p:nvSpPr>
        <p:spPr>
          <a:xfrm>
            <a:off x="826920" y="5372280"/>
            <a:ext cx="7956720" cy="51084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р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ригу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/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цитив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ст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8" name="Rechteck 17"/>
          <p:cNvSpPr/>
          <p:nvPr/>
        </p:nvSpPr>
        <p:spPr>
          <a:xfrm>
            <a:off x="826920" y="4710240"/>
            <a:ext cx="7974360" cy="51120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ригу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с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у 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j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ди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ч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9" name="Rechteck 6"/>
          <p:cNvSpPr/>
          <p:nvPr/>
        </p:nvSpPr>
        <p:spPr>
          <a:xfrm>
            <a:off x="826920" y="2579760"/>
            <a:ext cx="7974360" cy="51120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в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ун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ja,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в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д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з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0" name="Rechteck 5"/>
          <p:cNvSpPr/>
          <p:nvPr/>
        </p:nvSpPr>
        <p:spPr>
          <a:xfrm>
            <a:off x="826920" y="1922400"/>
            <a:ext cx="7974360" cy="51120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д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з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 п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н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им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У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ђи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м 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хни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22" name="Rechteck 3"/>
          <p:cNvSpPr/>
          <p:nvPr/>
        </p:nvSpPr>
        <p:spPr>
          <a:xfrm>
            <a:off x="4638600" y="1501920"/>
            <a:ext cx="1935360" cy="4519440"/>
          </a:xfrm>
          <a:prstGeom prst="rect">
            <a:avLst/>
          </a:prstGeom>
          <a:solidFill>
            <a:srgbClr val="b3c5d2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3" name="Rechteck 4"/>
          <p:cNvSpPr/>
          <p:nvPr/>
        </p:nvSpPr>
        <p:spPr>
          <a:xfrm>
            <a:off x="6719760" y="1501920"/>
            <a:ext cx="1935360" cy="4519440"/>
          </a:xfrm>
          <a:prstGeom prst="rect">
            <a:avLst/>
          </a:prstGeom>
          <a:solidFill>
            <a:srgbClr val="b3c5d2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4" name="Textfeld 8"/>
          <p:cNvSpPr/>
          <p:nvPr/>
        </p:nvSpPr>
        <p:spPr>
          <a:xfrm>
            <a:off x="501840" y="1484280"/>
            <a:ext cx="41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T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хнич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к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ристи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с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5" name="Rechteck 9"/>
          <p:cNvSpPr/>
          <p:nvPr/>
        </p:nvSpPr>
        <p:spPr>
          <a:xfrm>
            <a:off x="4935960" y="116856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DE402922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6" name="Rechteck 10"/>
          <p:cNvSpPr/>
          <p:nvPr/>
        </p:nvSpPr>
        <p:spPr>
          <a:xfrm>
            <a:off x="6971040" y="117324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US6061253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7" name="Textfeld 11"/>
          <p:cNvSpPr/>
          <p:nvPr/>
        </p:nvSpPr>
        <p:spPr>
          <a:xfrm>
            <a:off x="2011320" y="4892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8" name="Textfeld 19"/>
          <p:cNvSpPr/>
          <p:nvPr/>
        </p:nvSpPr>
        <p:spPr>
          <a:xfrm>
            <a:off x="768240" y="4286160"/>
            <a:ext cx="33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сти/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хнички 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зул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9" name="Textfeld 22"/>
          <p:cNvSpPr/>
          <p:nvPr/>
        </p:nvSpPr>
        <p:spPr>
          <a:xfrm>
            <a:off x="6852240" y="4184640"/>
            <a:ext cx="210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(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тив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пригуш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ње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)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0" name="Textfeld 29"/>
          <p:cNvSpPr/>
          <p:nvPr/>
        </p:nvSpPr>
        <p:spPr>
          <a:xfrm>
            <a:off x="5299560" y="26100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е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1" name="Textfeld 30"/>
          <p:cNvSpPr/>
          <p:nvPr/>
        </p:nvSpPr>
        <p:spPr>
          <a:xfrm>
            <a:off x="5296320" y="47912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е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2" name="Textfeld 33"/>
          <p:cNvSpPr/>
          <p:nvPr/>
        </p:nvSpPr>
        <p:spPr>
          <a:xfrm>
            <a:off x="7410960" y="47401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е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3" name="Textfeld 34"/>
          <p:cNvSpPr/>
          <p:nvPr/>
        </p:nvSpPr>
        <p:spPr>
          <a:xfrm>
            <a:off x="7415640" y="32781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е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4" name="Textfeld 34"/>
          <p:cNvSpPr/>
          <p:nvPr/>
        </p:nvSpPr>
        <p:spPr>
          <a:xfrm>
            <a:off x="5316840" y="33148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е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5" name="Textfeld 22"/>
          <p:cNvSpPr/>
          <p:nvPr/>
        </p:nvSpPr>
        <p:spPr>
          <a:xfrm>
            <a:off x="4479120" y="4184640"/>
            <a:ext cx="21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(п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ив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пригуш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)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6" name="Textfeld 30"/>
          <p:cNvSpPr/>
          <p:nvPr/>
        </p:nvSpPr>
        <p:spPr>
          <a:xfrm>
            <a:off x="5296320" y="54388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е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7" name="Textfeld 30"/>
          <p:cNvSpPr/>
          <p:nvPr/>
        </p:nvSpPr>
        <p:spPr>
          <a:xfrm>
            <a:off x="7415640" y="54021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е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grpSp>
        <p:nvGrpSpPr>
          <p:cNvPr id="238" name="Group 28"/>
          <p:cNvGrpSpPr/>
          <p:nvPr/>
        </p:nvGrpSpPr>
        <p:grpSpPr>
          <a:xfrm>
            <a:off x="5332320" y="1988640"/>
            <a:ext cx="426960" cy="323640"/>
            <a:chOff x="5332320" y="1988640"/>
            <a:chExt cx="426960" cy="323640"/>
          </a:xfrm>
        </p:grpSpPr>
        <p:sp>
          <p:nvSpPr>
            <p:cNvPr id="239" name="Line 29"/>
            <p:cNvSpPr/>
            <p:nvPr/>
          </p:nvSpPr>
          <p:spPr>
            <a:xfrm>
              <a:off x="5332320" y="2107800"/>
              <a:ext cx="177840" cy="154080"/>
            </a:xfrm>
            <a:prstGeom prst="line">
              <a:avLst/>
            </a:prstGeom>
            <a:ln w="838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4c575f"/>
                </a:solidFill>
                <a:latin typeface="Arial"/>
              </a:endParaRPr>
            </a:p>
          </p:txBody>
        </p:sp>
        <p:sp>
          <p:nvSpPr>
            <p:cNvPr id="240" name="Line 30"/>
            <p:cNvSpPr/>
            <p:nvPr/>
          </p:nvSpPr>
          <p:spPr>
            <a:xfrm flipV="1">
              <a:off x="5505480" y="1988640"/>
              <a:ext cx="253800" cy="323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4c575f"/>
                </a:solidFill>
                <a:latin typeface="Arial"/>
              </a:endParaRPr>
            </a:p>
          </p:txBody>
        </p:sp>
      </p:grpSp>
      <p:grpSp>
        <p:nvGrpSpPr>
          <p:cNvPr id="241" name="Group 31"/>
          <p:cNvGrpSpPr/>
          <p:nvPr/>
        </p:nvGrpSpPr>
        <p:grpSpPr>
          <a:xfrm>
            <a:off x="7488360" y="2636640"/>
            <a:ext cx="426960" cy="323640"/>
            <a:chOff x="7488360" y="2636640"/>
            <a:chExt cx="426960" cy="323640"/>
          </a:xfrm>
        </p:grpSpPr>
        <p:sp>
          <p:nvSpPr>
            <p:cNvPr id="242" name="Line 32"/>
            <p:cNvSpPr/>
            <p:nvPr/>
          </p:nvSpPr>
          <p:spPr>
            <a:xfrm>
              <a:off x="7488360" y="2755800"/>
              <a:ext cx="177840" cy="154080"/>
            </a:xfrm>
            <a:prstGeom prst="line">
              <a:avLst/>
            </a:prstGeom>
            <a:ln w="838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4c575f"/>
                </a:solidFill>
                <a:latin typeface="Arial"/>
              </a:endParaRPr>
            </a:p>
          </p:txBody>
        </p:sp>
        <p:sp>
          <p:nvSpPr>
            <p:cNvPr id="243" name="Line 33"/>
            <p:cNvSpPr/>
            <p:nvPr/>
          </p:nvSpPr>
          <p:spPr>
            <a:xfrm flipV="1">
              <a:off x="7661520" y="2636640"/>
              <a:ext cx="253800" cy="323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4c575f"/>
                </a:solidFill>
                <a:latin typeface="Arial"/>
              </a:endParaRPr>
            </a:p>
          </p:txBody>
        </p:sp>
      </p:grpSp>
      <p:grpSp>
        <p:nvGrpSpPr>
          <p:cNvPr id="244" name="Group 34"/>
          <p:cNvGrpSpPr/>
          <p:nvPr/>
        </p:nvGrpSpPr>
        <p:grpSpPr>
          <a:xfrm>
            <a:off x="7488360" y="2025360"/>
            <a:ext cx="426960" cy="323640"/>
            <a:chOff x="7488360" y="2025360"/>
            <a:chExt cx="426960" cy="323640"/>
          </a:xfrm>
        </p:grpSpPr>
        <p:sp>
          <p:nvSpPr>
            <p:cNvPr id="245" name="Line 35"/>
            <p:cNvSpPr/>
            <p:nvPr/>
          </p:nvSpPr>
          <p:spPr>
            <a:xfrm>
              <a:off x="7488360" y="2144520"/>
              <a:ext cx="177840" cy="154080"/>
            </a:xfrm>
            <a:prstGeom prst="line">
              <a:avLst/>
            </a:prstGeom>
            <a:ln w="838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4c575f"/>
                </a:solidFill>
                <a:latin typeface="Arial"/>
              </a:endParaRPr>
            </a:p>
          </p:txBody>
        </p:sp>
        <p:sp>
          <p:nvSpPr>
            <p:cNvPr id="246" name="Line 36"/>
            <p:cNvSpPr/>
            <p:nvPr/>
          </p:nvSpPr>
          <p:spPr>
            <a:xfrm flipV="1">
              <a:off x="7661520" y="2025360"/>
              <a:ext cx="253800" cy="323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4c575f"/>
                </a:solidFill>
                <a:latin typeface="Arial"/>
              </a:endParaRPr>
            </a:p>
          </p:txBody>
        </p:sp>
      </p:grpSp>
      <p:sp>
        <p:nvSpPr>
          <p:cNvPr id="247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F51B-A6F1-4E39-A70F-1706B00988A9}" type="slidenum">
              <a:rPr b="0" lang="de-DE" sz="16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6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9" name="Rectangle 34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0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1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e)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и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трич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г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2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2/15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hteck 3"/>
          <p:cNvSpPr/>
          <p:nvPr/>
        </p:nvSpPr>
        <p:spPr>
          <a:xfrm>
            <a:off x="826920" y="3429000"/>
            <a:ext cx="7309080" cy="270036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кид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чки изв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р н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j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нд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нз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м з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скл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дишт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 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ктричн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 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рги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je,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тр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нсф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рм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м с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прим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рним н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j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м, с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кунд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рним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j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м и к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мут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ци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ним тр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нзист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м к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j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и им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ри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ску в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зу с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прим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рним н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j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м, при ч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му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прим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рни н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j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изд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н н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лун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je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j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 j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дним изв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м, т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 je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нд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нз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р у св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кућишту п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лн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н с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j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дв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лун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ja,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j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je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кт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ристич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н п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шт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су 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цитивн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ст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бр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oj 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ja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бр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в н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чин д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сцил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ци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je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ст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j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у н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н д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ктивир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кид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им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j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у 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зличит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нтн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фр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кв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нци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и ст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м 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лимичн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уз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ja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мн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ништ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j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.”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улт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 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из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755640" y="1125000"/>
            <a:ext cx="774072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ки 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д п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oje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дин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чних 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нису п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зн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ти и, п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св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му суд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ћи,</a:t>
            </a:r>
            <a:endParaRPr b="0" lang="en-US" sz="15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нису 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чигл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дни у св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тлу пр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ђ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них д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кум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a, 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15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15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500" spc="-1" strike="noStrike">
                <a:solidFill>
                  <a:srgbClr val="404b56"/>
                </a:solidFill>
                <a:latin typeface="Arial"/>
              </a:rPr>
              <a:t>мбин</a:t>
            </a:r>
            <a:r>
              <a:rPr b="1" lang="en-US" sz="15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5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1" lang="en-US" sz="1500" spc="-1" strike="noStrike">
                <a:solidFill>
                  <a:srgbClr val="404b56"/>
                </a:solidFill>
                <a:latin typeface="Arial"/>
              </a:rPr>
              <a:t>ja </a:t>
            </a:r>
            <a:r>
              <a:rPr b="1" lang="sr-RS" sz="15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15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5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US" sz="15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500" spc="-1" strike="noStrike">
                <a:solidFill>
                  <a:srgbClr val="404b56"/>
                </a:solidFill>
                <a:latin typeface="Arial"/>
              </a:rPr>
              <a:t>кт</a:t>
            </a:r>
            <a:r>
              <a:rPr b="1" lang="en-US" sz="15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500" spc="-1" strike="noStrike">
                <a:solidFill>
                  <a:srgbClr val="404b56"/>
                </a:solidFill>
                <a:latin typeface="Arial"/>
              </a:rPr>
              <a:t>ристик</a:t>
            </a:r>
            <a:r>
              <a:rPr b="1" lang="en-US" sz="15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1500" spc="-1" strike="noStrike">
                <a:solidFill>
                  <a:srgbClr val="404b56"/>
                </a:solidFill>
                <a:latin typeface="Arial"/>
              </a:rPr>
              <a:t>ни</a:t>
            </a:r>
            <a:r>
              <a:rPr b="1" lang="en-US" sz="15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1" lang="sr-RS" sz="15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15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500" spc="-1" strike="noStrike">
                <a:solidFill>
                  <a:srgbClr val="404b56"/>
                </a:solidFill>
                <a:latin typeface="Arial"/>
              </a:rPr>
              <a:t>зн</a:t>
            </a:r>
            <a:r>
              <a:rPr b="1" lang="en-US" sz="15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5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1500" spc="-1" strike="noStrike">
                <a:solidFill>
                  <a:srgbClr val="404b56"/>
                </a:solidFill>
                <a:latin typeface="Arial"/>
              </a:rPr>
              <a:t>a,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e o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aj 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к д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си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1" lang="sr-RS" sz="15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15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5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1500" spc="-1" strike="noStrike">
                <a:solidFill>
                  <a:srgbClr val="404b56"/>
                </a:solidFill>
                <a:latin typeface="Arial"/>
              </a:rPr>
              <a:t>e, je</a:t>
            </a:r>
            <a:r>
              <a:rPr b="1" lang="sr-RS" sz="1500" spc="-1" strike="noStrike">
                <a:solidFill>
                  <a:srgbClr val="404b56"/>
                </a:solidFill>
                <a:latin typeface="Arial"/>
              </a:rPr>
              <a:t>динств</a:t>
            </a:r>
            <a:r>
              <a:rPr b="1" lang="en-US" sz="15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5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15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15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15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5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1" lang="en-US" sz="15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500" spc="-1" strike="noStrike">
                <a:solidFill>
                  <a:srgbClr val="404b56"/>
                </a:solidFill>
                <a:latin typeface="Arial"/>
              </a:rPr>
              <a:t>сти.</a:t>
            </a:r>
            <a:endParaRPr b="0" lang="en-US" sz="15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С 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бзир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м д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ни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je o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чигл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би с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мбин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м 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и су п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зн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ти</a:t>
            </a:r>
            <a:endParaRPr b="0" lang="en-US" sz="15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у ст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њу т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хник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гли п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стићи 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ви н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ви 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ф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кти → усл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в к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и с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e o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си н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инв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нтивни нив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o je 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испуњ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н.</a:t>
            </a:r>
            <a:endParaRPr b="0" lang="en-US" sz="15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в с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изм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нити к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би с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злик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ao o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д п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US" sz="1500" spc="-1" strike="noStrike">
                <a:solidFill>
                  <a:srgbClr val="404b56"/>
                </a:solidFill>
                <a:latin typeface="Arial"/>
              </a:rPr>
              <a:t>a US 6061253:</a:t>
            </a:r>
            <a:endParaRPr b="0" lang="en-US" sz="15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3B9A-E66E-4604-A888-C3E073C3770F}" type="slidenum">
              <a:rPr b="0" lang="de-DE" sz="16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6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9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0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e)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и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трич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г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1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3/15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hteck 9"/>
          <p:cNvSpPr/>
          <p:nvPr/>
        </p:nvSpPr>
        <p:spPr>
          <a:xfrm>
            <a:off x="738360" y="6019920"/>
            <a:ext cx="3112920" cy="29196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3" name="Rechteck 5"/>
          <p:cNvSpPr/>
          <p:nvPr/>
        </p:nvSpPr>
        <p:spPr>
          <a:xfrm>
            <a:off x="6192720" y="4913280"/>
            <a:ext cx="971640" cy="291960"/>
          </a:xfrm>
          <a:prstGeom prst="rect">
            <a:avLst/>
          </a:prstGeom>
          <a:solidFill>
            <a:srgbClr val="d1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4" name="Rechteck 9"/>
          <p:cNvSpPr/>
          <p:nvPr/>
        </p:nvSpPr>
        <p:spPr>
          <a:xfrm>
            <a:off x="755640" y="2374920"/>
            <a:ext cx="2411280" cy="29196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5" name="Rechteck 9"/>
          <p:cNvSpPr/>
          <p:nvPr/>
        </p:nvSpPr>
        <p:spPr>
          <a:xfrm>
            <a:off x="5764320" y="2168640"/>
            <a:ext cx="1400040" cy="29196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6" name="Rechteck 7"/>
          <p:cNvSpPr/>
          <p:nvPr/>
        </p:nvSpPr>
        <p:spPr>
          <a:xfrm>
            <a:off x="4500720" y="1895400"/>
            <a:ext cx="2527200" cy="292320"/>
          </a:xfrm>
          <a:prstGeom prst="rect">
            <a:avLst/>
          </a:prstGeom>
          <a:solidFill>
            <a:srgbClr val="eba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7" name="Rechteck 8"/>
          <p:cNvSpPr/>
          <p:nvPr/>
        </p:nvSpPr>
        <p:spPr>
          <a:xfrm>
            <a:off x="826920" y="4616280"/>
            <a:ext cx="3745080" cy="292320"/>
          </a:xfrm>
          <a:prstGeom prst="rect">
            <a:avLst/>
          </a:prstGeom>
          <a:solidFill>
            <a:srgbClr val="eba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8" name="Rechteck 7"/>
          <p:cNvSpPr/>
          <p:nvPr/>
        </p:nvSpPr>
        <p:spPr>
          <a:xfrm>
            <a:off x="2484360" y="1881360"/>
            <a:ext cx="1008000" cy="291960"/>
          </a:xfrm>
          <a:prstGeom prst="rect">
            <a:avLst/>
          </a:prstGeom>
          <a:solidFill>
            <a:srgbClr val="eba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9" name="Rechteck 9"/>
          <p:cNvSpPr/>
          <p:nvPr/>
        </p:nvSpPr>
        <p:spPr>
          <a:xfrm>
            <a:off x="2484360" y="5805360"/>
            <a:ext cx="4751640" cy="29232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0" name="Rechteck 8"/>
          <p:cNvSpPr/>
          <p:nvPr/>
        </p:nvSpPr>
        <p:spPr>
          <a:xfrm>
            <a:off x="826920" y="4468680"/>
            <a:ext cx="6337440" cy="292320"/>
          </a:xfrm>
          <a:prstGeom prst="rect">
            <a:avLst/>
          </a:prstGeom>
          <a:solidFill>
            <a:srgbClr val="eba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1" name="Rechteck 7"/>
          <p:cNvSpPr/>
          <p:nvPr/>
        </p:nvSpPr>
        <p:spPr>
          <a:xfrm>
            <a:off x="826920" y="4221000"/>
            <a:ext cx="6337440" cy="292320"/>
          </a:xfrm>
          <a:prstGeom prst="rect">
            <a:avLst/>
          </a:prstGeom>
          <a:solidFill>
            <a:srgbClr val="eba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2" name="Rechteck 5"/>
          <p:cNvSpPr/>
          <p:nvPr/>
        </p:nvSpPr>
        <p:spPr>
          <a:xfrm>
            <a:off x="826920" y="5157720"/>
            <a:ext cx="5256360" cy="292320"/>
          </a:xfrm>
          <a:prstGeom prst="rect">
            <a:avLst/>
          </a:prstGeom>
          <a:solidFill>
            <a:srgbClr val="d1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3" name="Rechteck 7"/>
          <p:cNvSpPr/>
          <p:nvPr/>
        </p:nvSpPr>
        <p:spPr>
          <a:xfrm>
            <a:off x="6012000" y="4005360"/>
            <a:ext cx="1152360" cy="291960"/>
          </a:xfrm>
          <a:prstGeom prst="rect">
            <a:avLst/>
          </a:prstGeom>
          <a:solidFill>
            <a:srgbClr val="eba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4" name="Rechteck 6"/>
          <p:cNvSpPr/>
          <p:nvPr/>
        </p:nvSpPr>
        <p:spPr>
          <a:xfrm>
            <a:off x="826920" y="3532320"/>
            <a:ext cx="2773440" cy="291960"/>
          </a:xfrm>
          <a:prstGeom prst="rect">
            <a:avLst/>
          </a:prstGeom>
          <a:solidFill>
            <a:srgbClr val="d1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5" name="Rechteck 5"/>
          <p:cNvSpPr/>
          <p:nvPr/>
        </p:nvSpPr>
        <p:spPr>
          <a:xfrm>
            <a:off x="826920" y="3281400"/>
            <a:ext cx="5883480" cy="291960"/>
          </a:xfrm>
          <a:prstGeom prst="rect">
            <a:avLst/>
          </a:prstGeom>
          <a:solidFill>
            <a:srgbClr val="d1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768996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ригин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лни 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ис пр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и 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т 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-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у</a:t>
            </a:r>
            <a:br>
              <a:rPr sz="2000"/>
            </a:b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ткр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љу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изм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нтних з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77" name="Textfeld 14"/>
          <p:cNvSpPr/>
          <p:nvPr/>
        </p:nvSpPr>
        <p:spPr>
          <a:xfrm>
            <a:off x="7704000" y="4043520"/>
            <a:ext cx="1440000" cy="77868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ffffff"/>
                </a:solidFill>
                <a:latin typeface="Arial"/>
              </a:rPr>
              <a:t>злику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0" lang="sr-RS" sz="15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ffffff"/>
                </a:solidFill>
                <a:latin typeface="Arial"/>
              </a:rPr>
              <a:t>д п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ffffff"/>
                </a:solidFill>
                <a:latin typeface="Arial"/>
              </a:rPr>
              <a:t>нт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DE40…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8" name="Textfeld 15"/>
          <p:cNvSpPr/>
          <p:nvPr/>
        </p:nvSpPr>
        <p:spPr>
          <a:xfrm>
            <a:off x="7704000" y="4979880"/>
            <a:ext cx="1440000" cy="77868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злику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 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US60…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9" name="Textfeld 11"/>
          <p:cNvSpPr/>
          <p:nvPr/>
        </p:nvSpPr>
        <p:spPr>
          <a:xfrm>
            <a:off x="7704000" y="2374920"/>
            <a:ext cx="1440000" cy="1463400"/>
          </a:xfrm>
          <a:prstGeom prst="rect">
            <a:avLst/>
          </a:prstGeom>
          <a:solidFill>
            <a:srgbClr val="a8a1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ffffff"/>
                </a:solidFill>
                <a:latin typeface="Arial"/>
              </a:rPr>
              <a:t>ткр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ffffff"/>
                </a:solidFill>
                <a:latin typeface="Arial"/>
              </a:rPr>
              <a:t>пљу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je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ffffff"/>
                </a:solidFill>
                <a:latin typeface="Arial"/>
              </a:rPr>
              <a:t>инв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ffffff"/>
                </a:solidFill>
                <a:latin typeface="Arial"/>
              </a:rPr>
              <a:t>нтивни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ffffff"/>
                </a:solidFill>
                <a:latin typeface="Arial"/>
              </a:rPr>
              <a:t>нив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o: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ffffff"/>
                </a:solidFill>
                <a:latin typeface="Arial"/>
              </a:rPr>
              <a:t>друг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ffffff"/>
                </a:solidFill>
                <a:latin typeface="Arial"/>
              </a:rPr>
              <a:t>чи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sr-RS" sz="15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ffffff"/>
                </a:solidFill>
                <a:latin typeface="Arial"/>
              </a:rPr>
              <a:t>хнички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ffffff"/>
                </a:solidFill>
                <a:latin typeface="Arial"/>
              </a:rPr>
              <a:t>зулт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0" name="Rechteck 4"/>
          <p:cNvSpPr/>
          <p:nvPr/>
        </p:nvSpPr>
        <p:spPr>
          <a:xfrm>
            <a:off x="755640" y="1190520"/>
            <a:ext cx="72658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у сврху, 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з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 j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je 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зб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ђ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ж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ригуш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j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j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ш 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зи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 „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snubber”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ж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,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j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рши 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 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имич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ригуш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их 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си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них 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. M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ж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г ти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,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j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j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шћ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исти, 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з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je,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ри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, из 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у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 DE 4029221.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и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чки из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 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j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,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у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у из з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1, 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je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у 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у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ту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US 6061253.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Циљ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г п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j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у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ж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жу з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ригуш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у п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и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ч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 из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у 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j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ут 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ку,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j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и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ти и п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з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и 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губит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у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и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ч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 из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у 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j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.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и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чки из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 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j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, </a:t>
            </a:r>
            <a:r>
              <a:rPr b="1" lang="sr-RS" sz="15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1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5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1" lang="en-US" sz="1500" spc="-1" strike="noStrike">
                <a:solidFill>
                  <a:srgbClr val="4c575f"/>
                </a:solidFill>
                <a:latin typeface="Arial"/>
              </a:rPr>
              <a:t>a o</a:t>
            </a:r>
            <a:r>
              <a:rPr b="1" lang="sr-RS" sz="15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1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500" spc="-1" strike="noStrike">
                <a:solidFill>
                  <a:srgbClr val="4c575f"/>
                </a:solidFill>
                <a:latin typeface="Arial"/>
              </a:rPr>
              <a:t>м пр</a:t>
            </a:r>
            <a:r>
              <a:rPr b="1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1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5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1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500" spc="-1" strike="noStrike">
                <a:solidFill>
                  <a:srgbClr val="4c575f"/>
                </a:solidFill>
                <a:latin typeface="Arial"/>
              </a:rPr>
              <a:t>ску,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...  При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ни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j 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j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з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љ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 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у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j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j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j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ним из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,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o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ж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ригуш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,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з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у с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 кућишту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ђ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 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у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j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. З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х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љу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ући 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j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и,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ригуш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рши 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j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и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ч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у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j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ри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г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ja, 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ри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 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j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у у ц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ини. 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...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ци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ци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j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j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у прили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 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тиви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у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ци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г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зис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j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у 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зличи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т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ф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ци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 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имич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уз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j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иш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j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у. 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зул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 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j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ригуш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у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ци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 т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зис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у при њ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 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тиви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њу. 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8043-48C7-4A3E-B0AE-7B08D7AB5D5C}" type="slidenum">
              <a:rPr b="0" lang="de-DE" sz="16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6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3" name="Rectangle 19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4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5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e)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и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трич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г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6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4/15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ч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из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88" name="Picture 5" descr=""/>
          <p:cNvPicPr/>
          <p:nvPr/>
        </p:nvPicPr>
        <p:blipFill>
          <a:blip r:embed="rId1"/>
          <a:stretch/>
        </p:blipFill>
        <p:spPr>
          <a:xfrm>
            <a:off x="431640" y="2457360"/>
            <a:ext cx="7166160" cy="3635640"/>
          </a:xfrm>
          <a:prstGeom prst="rect">
            <a:avLst/>
          </a:prstGeom>
          <a:ln w="0">
            <a:noFill/>
          </a:ln>
        </p:spPr>
      </p:pic>
      <p:sp>
        <p:nvSpPr>
          <p:cNvPr id="289" name="Rechteck 3"/>
          <p:cNvSpPr/>
          <p:nvPr/>
        </p:nvSpPr>
        <p:spPr>
          <a:xfrm>
            <a:off x="826920" y="1268280"/>
            <a:ext cx="6661440" cy="67644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дг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р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-a: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т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риз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!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7463-2F6B-47A0-B79A-4463572E539E}" type="slidenum">
              <a:rPr b="0" lang="de-DE" sz="16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6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93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94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e)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и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трич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г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95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5/15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5640" y="1125000"/>
            <a:ext cx="767880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и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трич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г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ж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 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игуш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служи 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тити г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ни 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и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 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си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них 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 у т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утку б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.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574560" y="2117880"/>
            <a:ext cx="3313080" cy="27511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4624-8CFB-4D3E-AD12-7E2D44732D08}" type="slidenum">
              <a:rPr b="0" lang="de-DE" sz="16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6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e)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и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трич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г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/15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и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и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j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:</a:t>
            </a:r>
            <a:br>
              <a:rPr sz="2400"/>
            </a:b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и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!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08" name="Gerade Verbindung 4"/>
          <p:cNvSpPr/>
          <p:nvPr/>
        </p:nvSpPr>
        <p:spPr>
          <a:xfrm>
            <a:off x="826920" y="1413000"/>
            <a:ext cx="6985080" cy="0"/>
          </a:xfrm>
          <a:prstGeom prst="line">
            <a:avLst/>
          </a:prstGeom>
          <a:ln w="25560">
            <a:solidFill>
              <a:srgbClr val="c03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9" name="Rechteck 5"/>
          <p:cNvSpPr/>
          <p:nvPr/>
        </p:nvSpPr>
        <p:spPr>
          <a:xfrm>
            <a:off x="822240" y="1649520"/>
            <a:ext cx="7818480" cy="91692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ти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 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си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них 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с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љ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нички 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. 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и 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у 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ти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и - 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ћ 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к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.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у 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хничк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кт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ристик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иж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ти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?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0" name="Rechteck 6"/>
          <p:cNvSpPr/>
          <p:nvPr/>
        </p:nvSpPr>
        <p:spPr>
          <a:xfrm>
            <a:off x="719280" y="12254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тни 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: „'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flyback'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трич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г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штити 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и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.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1" name="Rechteck 7"/>
          <p:cNvSpPr/>
          <p:nvPr/>
        </p:nvSpPr>
        <p:spPr>
          <a:xfrm>
            <a:off x="719280" y="2781360"/>
            <a:ext cx="77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тни 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: „'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flyback'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 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j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ним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и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ним 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j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.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2" name="Rechteck 8"/>
          <p:cNvSpPr/>
          <p:nvPr/>
        </p:nvSpPr>
        <p:spPr>
          <a:xfrm>
            <a:off x="826920" y="3473280"/>
            <a:ext cx="7777440" cy="91692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ж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и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иђ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 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т 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 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 при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игуш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истити 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личитим 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ун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ним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, 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и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 „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forward”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у.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3" name="Rechteck 9"/>
          <p:cNvSpPr/>
          <p:nvPr/>
        </p:nvSpPr>
        <p:spPr>
          <a:xfrm>
            <a:off x="719280" y="4587840"/>
            <a:ext cx="77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тни 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: „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и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ки из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 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j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ним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и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ним 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j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.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4" name="Gerade Verbindung 10"/>
          <p:cNvSpPr/>
          <p:nvPr/>
        </p:nvSpPr>
        <p:spPr>
          <a:xfrm>
            <a:off x="826920" y="2968560"/>
            <a:ext cx="7201080" cy="1800"/>
          </a:xfrm>
          <a:prstGeom prst="line">
            <a:avLst/>
          </a:prstGeom>
          <a:ln w="25560">
            <a:solidFill>
              <a:srgbClr val="c03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5" name="Rechteck 12"/>
          <p:cNvSpPr/>
          <p:nvPr/>
        </p:nvSpPr>
        <p:spPr>
          <a:xfrm>
            <a:off x="826920" y="5327640"/>
            <a:ext cx="7813800" cy="83808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Испитив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ст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хник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ли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тним з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хт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им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6" name="Gerade Verbindung 13"/>
          <p:cNvSpPr/>
          <p:nvPr/>
        </p:nvSpPr>
        <p:spPr>
          <a:xfrm>
            <a:off x="811080" y="3255840"/>
            <a:ext cx="5813640" cy="1800"/>
          </a:xfrm>
          <a:prstGeom prst="line">
            <a:avLst/>
          </a:prstGeom>
          <a:ln w="25560">
            <a:solidFill>
              <a:srgbClr val="c03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C597-A461-49E2-9324-22FDAFDD6D80}" type="slidenum">
              <a:rPr b="0" lang="de-DE" sz="16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6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e)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и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трич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г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3/15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улт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 испитив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хник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24" name="Inhaltsplatzhalter 2"/>
          <p:cNvSpPr/>
          <p:nvPr/>
        </p:nvSpPr>
        <p:spPr>
          <a:xfrm>
            <a:off x="755640" y="1015920"/>
            <a:ext cx="767880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рили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м испити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хни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,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ђ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 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чки п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тни д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кум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т,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 DE 40 29 221: „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кид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чки из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р 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j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”,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у 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j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м 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je 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 слич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к.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5" name="Rechteck 9"/>
          <p:cNvSpPr/>
          <p:nvPr/>
        </p:nvSpPr>
        <p:spPr>
          <a:xfrm>
            <a:off x="6543720" y="2168640"/>
            <a:ext cx="2300400" cy="271440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„…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ути изв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j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и им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ри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ску в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у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п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рник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д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з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л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рим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рним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j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м …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792000" y="2097000"/>
            <a:ext cx="5329440" cy="1752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754200" y="3860640"/>
            <a:ext cx="5689440" cy="19148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3125-2308-40BF-81C8-94F06DBED376}" type="slidenum">
              <a:rPr b="0" lang="de-DE" sz="16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6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e)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и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трич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г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4/15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hteck 9"/>
          <p:cNvSpPr/>
          <p:nvPr/>
        </p:nvSpPr>
        <p:spPr>
          <a:xfrm>
            <a:off x="826920" y="4005360"/>
            <a:ext cx="3492720" cy="223200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„…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ри ч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му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ри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рни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j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из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 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лу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j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 j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дним из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м, 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р у с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м кућишт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л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 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д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лу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ja.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У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ђи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Tahoma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д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Tahoma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с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36" name="Rechteck 3"/>
          <p:cNvSpPr/>
          <p:nvPr/>
        </p:nvSpPr>
        <p:spPr>
          <a:xfrm>
            <a:off x="826920" y="1276200"/>
            <a:ext cx="3492720" cy="73044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П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к п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нтним 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х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ви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7" name="Rechteck 4"/>
          <p:cNvSpPr/>
          <p:nvPr/>
        </p:nvSpPr>
        <p:spPr>
          <a:xfrm>
            <a:off x="4716360" y="1276200"/>
            <a:ext cx="3708360" cy="73044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E402922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8" name="Rechteck 5"/>
          <p:cNvSpPr/>
          <p:nvPr/>
        </p:nvSpPr>
        <p:spPr>
          <a:xfrm>
            <a:off x="809640" y="2152800"/>
            <a:ext cx="3510000" cy="156348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„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и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ки из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 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j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ним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 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и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ним 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j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.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9" name="Rechteck 6"/>
          <p:cNvSpPr/>
          <p:nvPr/>
        </p:nvSpPr>
        <p:spPr>
          <a:xfrm>
            <a:off x="4716360" y="2152800"/>
            <a:ext cx="3708360" cy="156348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„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и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ки из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 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и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ку 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у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ни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и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ним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j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.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0" name="Textfeld 11"/>
          <p:cNvSpPr/>
          <p:nvPr/>
        </p:nvSpPr>
        <p:spPr>
          <a:xfrm>
            <a:off x="4643280" y="3860640"/>
            <a:ext cx="39592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c036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c036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Ин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тивни ни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 (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дифи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ja 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зб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ђу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у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ђ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ригуш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ксим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лних 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ши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м п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кид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рим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F6F0-D08B-4F12-8B86-74D2FBAD38BB}" type="slidenum">
              <a:rPr b="0" lang="de-DE" sz="16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6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e)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и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трич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г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5/15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7" name="Textfeld 10"/>
          <p:cNvSpPr/>
          <p:nvPr/>
        </p:nvSpPr>
        <p:spPr>
          <a:xfrm rot="19975200">
            <a:off x="981720" y="2454480"/>
            <a:ext cx="316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c0362b"/>
                </a:solidFill>
                <a:latin typeface="Arial"/>
              </a:rPr>
              <a:t>Ни</a:t>
            </a:r>
            <a:r>
              <a:rPr b="1" lang="en-US" sz="4800" spc="-1" strike="noStrike">
                <a:solidFill>
                  <a:srgbClr val="c0362b"/>
                </a:solidFill>
                <a:latin typeface="Arial"/>
              </a:rPr>
              <a:t>je </a:t>
            </a:r>
            <a:r>
              <a:rPr b="1" lang="sr-RS" sz="4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1" lang="en-US" sz="4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4800" spc="-1" strike="noStrike">
                <a:solidFill>
                  <a:srgbClr val="c0362b"/>
                </a:solidFill>
                <a:latin typeface="Arial"/>
              </a:rPr>
              <a:t>в</a:t>
            </a:r>
            <a:r>
              <a:rPr b="1" lang="en-US" sz="4800" spc="-1" strike="noStrike">
                <a:solidFill>
                  <a:srgbClr val="c0362b"/>
                </a:solidFill>
                <a:latin typeface="Arial"/>
              </a:rPr>
              <a:t>o</a:t>
            </a:r>
            <a:endParaRPr b="0" lang="en-US" sz="48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87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-90,-112,10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87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-90,-112,10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 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штиту 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49" name="Rechteck 3"/>
          <p:cNvSpPr/>
          <p:nvPr/>
        </p:nvSpPr>
        <p:spPr>
          <a:xfrm>
            <a:off x="826920" y="1268280"/>
            <a:ext cx="4716720" cy="424836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в к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и ћ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бити п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дн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т: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„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и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ки из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 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к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иш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трич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г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,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сф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 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и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ним 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j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,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ун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ним 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j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 и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у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и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зис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и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ку 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у 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и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ним 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j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,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истич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и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ни 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j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з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љ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 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у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j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ним из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, 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 у с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 кућишту 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 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у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ja.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5616720" y="1125360"/>
            <a:ext cx="3058920" cy="25401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F7F9-6E8B-45AB-91A8-187CD496B5C1}" type="slidenum">
              <a:rPr b="0" lang="de-DE" sz="16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6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e)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и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трич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г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6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6/15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ишћ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исних 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них 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и</a:t>
            </a:r>
            <a:br>
              <a:rPr sz="2400"/>
            </a:b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у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ђ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шти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58" name="Rechteck 7"/>
          <p:cNvSpPr/>
          <p:nvPr/>
        </p:nvSpPr>
        <p:spPr>
          <a:xfrm>
            <a:off x="826920" y="1268280"/>
            <a:ext cx="3980160" cy="131472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исни (шири) 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х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 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сп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чи 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бил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9" name="Rechteck 8"/>
          <p:cNvSpPr/>
          <p:nvPr/>
        </p:nvSpPr>
        <p:spPr>
          <a:xfrm>
            <a:off x="4973760" y="1268280"/>
            <a:ext cx="3760560" cy="131472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висни (к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нкр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тни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и) з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хт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ви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ср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ни су т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чн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 o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дг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j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изв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дим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j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и би пр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дст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вљ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ли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нци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лну п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вр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ду п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нт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. 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0" name="Rechteck 9"/>
          <p:cNvSpPr/>
          <p:nvPr/>
        </p:nvSpPr>
        <p:spPr>
          <a:xfrm>
            <a:off x="826920" y="3203640"/>
            <a:ext cx="3980160" cy="51120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Гл</a:t>
            </a:r>
            <a:r>
              <a:rPr b="1" lang="sr-Latn-R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ни з</a:t>
            </a:r>
            <a:r>
              <a:rPr b="1" lang="sr-Latn-R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хт</a:t>
            </a:r>
            <a:r>
              <a:rPr b="1" lang="sr-Latn-R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1" name="Rechteck 10"/>
          <p:cNvSpPr/>
          <p:nvPr/>
        </p:nvSpPr>
        <p:spPr>
          <a:xfrm>
            <a:off x="4984920" y="3970440"/>
            <a:ext cx="3763800" cy="51120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Сп</a:t>
            </a:r>
            <a:r>
              <a:rPr b="1" lang="sr-Latn-R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цифич</a:t>
            </a:r>
            <a:r>
              <a:rPr b="1" lang="sr-Latn-R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 з</a:t>
            </a:r>
            <a:r>
              <a:rPr b="1" lang="sr-Latn-R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хт</a:t>
            </a:r>
            <a:r>
              <a:rPr b="1" lang="sr-Latn-R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sr-Latn-R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2" name="Rechteck 11"/>
          <p:cNvSpPr/>
          <p:nvPr/>
        </p:nvSpPr>
        <p:spPr>
          <a:xfrm>
            <a:off x="4984920" y="4627440"/>
            <a:ext cx="3763800" cy="51120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Сп</a:t>
            </a:r>
            <a:r>
              <a:rPr b="1" lang="sr-Latn-R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цифич</a:t>
            </a:r>
            <a:r>
              <a:rPr b="1" lang="sr-Latn-R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 з</a:t>
            </a:r>
            <a:r>
              <a:rPr b="1" lang="sr-Latn-R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хт</a:t>
            </a:r>
            <a:r>
              <a:rPr b="1" lang="sr-Latn-R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 Б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cxnSp>
        <p:nvCxnSpPr>
          <p:cNvPr id="163" name="Form 13"/>
          <p:cNvCxnSpPr>
            <a:stCxn id="160" idx="2"/>
            <a:endCxn id="161" idx="1"/>
          </p:cNvCxnSpPr>
          <p:nvPr/>
        </p:nvCxnSpPr>
        <p:spPr>
          <a:xfrm flipH="1" rot="16200000">
            <a:off x="3645720" y="2886480"/>
            <a:ext cx="511920" cy="2167920"/>
          </a:xfrm>
          <a:prstGeom prst="bentConnector2">
            <a:avLst/>
          </a:prstGeom>
          <a:ln w="25560">
            <a:solidFill>
              <a:srgbClr val="c0362b"/>
            </a:solidFill>
            <a:miter/>
          </a:ln>
        </p:spPr>
      </p:cxnSp>
      <p:cxnSp>
        <p:nvCxnSpPr>
          <p:cNvPr id="164" name="Form 14"/>
          <p:cNvCxnSpPr>
            <a:stCxn id="160" idx="2"/>
            <a:endCxn id="162" idx="1"/>
          </p:cNvCxnSpPr>
          <p:nvPr/>
        </p:nvCxnSpPr>
        <p:spPr>
          <a:xfrm flipH="1" rot="16200000">
            <a:off x="3317040" y="3214800"/>
            <a:ext cx="1168920" cy="2167920"/>
          </a:xfrm>
          <a:prstGeom prst="bentConnector2">
            <a:avLst/>
          </a:prstGeom>
          <a:ln w="25560">
            <a:solidFill>
              <a:srgbClr val="c0362b"/>
            </a:solidFill>
            <a:miter/>
          </a:ln>
        </p:spPr>
      </p:cxnSp>
      <p:sp>
        <p:nvSpPr>
          <p:cNvPr id="165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3E72-CFAC-4B50-9152-676CC06411F1}" type="slidenum">
              <a:rPr b="0" lang="de-DE" sz="16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6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e)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и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трич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г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0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7/15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-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у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cxnSp>
        <p:nvCxnSpPr>
          <p:cNvPr id="172" name="Form 7"/>
          <p:cNvCxnSpPr>
            <a:stCxn id="173" idx="1"/>
          </p:cNvCxnSpPr>
          <p:nvPr/>
        </p:nvCxnSpPr>
        <p:spPr>
          <a:xfrm rot="10800000">
            <a:off x="1102680" y="2780640"/>
            <a:ext cx="475200" cy="749880"/>
          </a:xfrm>
          <a:prstGeom prst="bentConnector2">
            <a:avLst/>
          </a:prstGeom>
          <a:ln w="25560">
            <a:solidFill>
              <a:srgbClr val="4c575f"/>
            </a:solidFill>
            <a:miter/>
          </a:ln>
        </p:spPr>
      </p:cxnSp>
      <p:cxnSp>
        <p:nvCxnSpPr>
          <p:cNvPr id="174" name="Form 8"/>
          <p:cNvCxnSpPr>
            <a:stCxn id="175" idx="1"/>
          </p:cNvCxnSpPr>
          <p:nvPr/>
        </p:nvCxnSpPr>
        <p:spPr>
          <a:xfrm rot="10800000">
            <a:off x="1102680" y="3060000"/>
            <a:ext cx="475200" cy="1626480"/>
          </a:xfrm>
          <a:prstGeom prst="bentConnector2">
            <a:avLst/>
          </a:prstGeom>
          <a:ln w="25560">
            <a:solidFill>
              <a:srgbClr val="4c575f"/>
            </a:solidFill>
            <a:miter/>
          </a:ln>
        </p:spPr>
      </p:cxnSp>
      <p:sp>
        <p:nvSpPr>
          <p:cNvPr id="176" name="Rechteck 3"/>
          <p:cNvSpPr/>
          <p:nvPr/>
        </p:nvSpPr>
        <p:spPr>
          <a:xfrm>
            <a:off x="825480" y="1268280"/>
            <a:ext cx="7454880" cy="153360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в 1: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„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и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ки из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 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...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з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љ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им при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 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j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ним из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 и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 у с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 кућишту 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у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ja.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3" name="Rechteck 4"/>
          <p:cNvSpPr/>
          <p:nvPr/>
        </p:nvSpPr>
        <p:spPr>
          <a:xfrm>
            <a:off x="1577880" y="2917800"/>
            <a:ext cx="6702480" cy="122400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в 2: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„У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ђ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j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з 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1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истич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у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итив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 и б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ja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и 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 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ин 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ци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 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 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тиви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и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личи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т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ф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ц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.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5" name="Rechteck 5"/>
          <p:cNvSpPr/>
          <p:nvPr/>
        </p:nvSpPr>
        <p:spPr>
          <a:xfrm>
            <a:off x="1577880" y="4222800"/>
            <a:ext cx="6702480" cy="92556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в 3: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„У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ђ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j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з 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1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истич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 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у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и т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зис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 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руг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.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7" name="Rechteck 10"/>
          <p:cNvSpPr/>
          <p:nvPr/>
        </p:nvSpPr>
        <p:spPr>
          <a:xfrm>
            <a:off x="826920" y="5397480"/>
            <a:ext cx="7453440" cy="80316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извршити с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пств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испитив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ст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хник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, a 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зм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трити д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ли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к, ПР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MA 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TE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ВИ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, 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в и н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o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чигл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н.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F75A-8F58-481A-9F4E-6A11FEE14A57}" type="slidenum">
              <a:rPr b="0" lang="de-DE" sz="16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6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1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e)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и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трич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г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8/15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хни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je j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ш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o 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85" name="Rechteck 8"/>
          <p:cNvSpPr/>
          <p:nvPr/>
        </p:nvSpPr>
        <p:spPr>
          <a:xfrm>
            <a:off x="826920" y="4797360"/>
            <a:ext cx="7453440" cy="119124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US 6061253: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„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ид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ки изв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 н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 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тивним „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snubber”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, к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с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 п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ћн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 пр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ид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 (Q2)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служи з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ут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и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 при нулт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j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ру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ли нулт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 н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у.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6" name="Rechteck 5"/>
          <p:cNvSpPr/>
          <p:nvPr/>
        </p:nvSpPr>
        <p:spPr>
          <a:xfrm>
            <a:off x="727200" y="2751120"/>
            <a:ext cx="35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„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M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ки пр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кид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чки изв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р н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aj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буч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187" name="Picture 7" descr=""/>
          <p:cNvPicPr/>
          <p:nvPr/>
        </p:nvPicPr>
        <p:blipFill>
          <a:blip r:embed="rId1"/>
          <a:srcRect l="0" t="9351" r="0" b="0"/>
          <a:stretch/>
        </p:blipFill>
        <p:spPr>
          <a:xfrm>
            <a:off x="4392720" y="2276640"/>
            <a:ext cx="3959280" cy="2447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"/>
          <p:cNvPicPr/>
          <p:nvPr/>
        </p:nvPicPr>
        <p:blipFill>
          <a:blip r:embed="rId2"/>
          <a:stretch/>
        </p:blipFill>
        <p:spPr>
          <a:xfrm>
            <a:off x="755640" y="1233360"/>
            <a:ext cx="5249880" cy="100656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C7CB-EAAB-4984-A7E0-727421F6C9B5}" type="slidenum">
              <a:rPr b="0" lang="de-DE" sz="16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6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2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e)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и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трич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г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9/15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15:29:21Z</dcterms:created>
  <dc:creator>rf40150</dc:creator>
  <dc:description/>
  <dc:language>en-US</dc:language>
  <cp:lastModifiedBy>VUKOV</cp:lastModifiedBy>
  <dcterms:modified xsi:type="dcterms:W3CDTF">2012-04-19T18:56:46Z</dcterms:modified>
  <cp:revision>39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chema">
    <vt:lpwstr>red</vt:lpwstr>
  </property>
</Properties>
</file>