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8040" y="0"/>
            <a:ext cx="29448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4400" y="5155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736-1C48-47A0-9DE6-65A348B0DF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1D2-E492-49BE-A6EA-178A417A97F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A21C-6859-48DE-94DD-AA465CD1FBF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FFA8-C6C2-4758-9BEA-8EEB916DF30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6273-9EE9-4C19-86DF-532D08BCDCC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сустни друг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буд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вa и другa мeдицинскa примeн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B4A7-770C-448D-9272-A3ED9C495A48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ECL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тур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у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C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у к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д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у 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у кључних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: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у 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м 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A78-E936-4765-9340-DEA15920B224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 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с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s” je „coach”. M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: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ir condition* (bus* OR coach*) /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ли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у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и џ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з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ж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ни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л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ри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л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д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црних 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ECL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B60H1: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”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пу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м гр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р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кну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 или сим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401C-6A25-44A0-A1EF-8F3FE5D741E8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, илу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х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ECL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B60H1,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у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: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ING OPERATIONS; TRANSPORTIN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;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)” 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HICLES IN GENERAL” (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 &gt; „ARRANGEMENTS OR ADAPTATIONS OF HEATING, COOLING,...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или у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…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B60H1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т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пр. а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си,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рупу /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кл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у кућиц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им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поље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Copy to search form”. 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notes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ур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т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ћиц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y to search form” /”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опирај у образа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а претраживање”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769-BB89-490C-A08F-631C44A26E0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31C6-0115-4959-80DA-C9FCBCFAFB33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6D86-4F4B-4DA6-8FCF-63DB07855953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„Advanced Search” /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„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„EP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„Publication Number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ил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к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SEARCH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св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EP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L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60H1/00H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27CD-672B-49B1-9912-28C860B260B8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105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м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ни 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(нпр. друг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иниш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л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к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Compact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бјаве,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б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к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ли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ц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бор опци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 patents list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оја листа патената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5426-00E7-45AC-A602-B4587AC6E002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ted documents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”) чи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ст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ли сл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ting documents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ци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”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ст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(ци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) на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540B-B2D7-42BA-90C8-BCE11C187B22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К,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FBED-D603-4828-92F7-E59B7AC180B9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pacene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у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у св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нис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F3DF-F865-4E3A-A137-DE9A30001A6E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70120" y="708120"/>
            <a:ext cx="5035320" cy="3776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3240" y="4717800"/>
            <a:ext cx="495936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pacene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угу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-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и-ф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уски-ш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и-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811-E998-421A-9743-355F26CAA31B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870120" y="708120"/>
            <a:ext cx="5035320" cy="3776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3240" y="4717800"/>
            <a:ext cx="495936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PADOC legal status” („INPADOC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с”) пр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(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) 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spacenet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ул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BC78-F96C-4C88-91FB-982C26677856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spacenet-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б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ск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линк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„Register”). 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A2A6-A08A-4E91-B6D0-F7DE84692546}" type="slidenum">
              <a:rPr b="0" lang="en-GB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spacene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уди 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у п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л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п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л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н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 з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л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ф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м 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 ст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1200" spc="-1" strike="noStrike">
                <a:solidFill>
                  <a:srgbClr val="000000"/>
                </a:solidFill>
                <a:latin typeface="Calibri"/>
              </a:rPr>
              <a:t>http://forums.epo.org/espace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- „Espacenet assistant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ин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 п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 з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 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ици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1200" spc="-1" strike="noStrike">
                <a:solidFill>
                  <a:srgbClr val="000000"/>
                </a:solidFill>
                <a:latin typeface="Calibri"/>
              </a:rPr>
              <a:t>espacenet@epo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у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чи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i="1" lang="sr-Latn-RS" sz="1200" spc="-1" strike="noStrike">
                <a:solidFill>
                  <a:srgbClr val="000000"/>
                </a:solidFill>
                <a:latin typeface="Calibri"/>
              </a:rPr>
              <a:t>info.eic@zis.gov.rs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учи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1200" spc="-1" strike="noStrike">
                <a:solidFill>
                  <a:srgbClr val="000000"/>
                </a:solidFill>
                <a:latin typeface="Calibri"/>
              </a:rPr>
              <a:t>http://www.epo.org/service-support/publication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њ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или 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, н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д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лит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pacene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MART SEARC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, ил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ICK SEARC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из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VANCED SEARC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 упи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MBER SEARC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у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)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ASSIFICATION SEARC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и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у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м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и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у кључних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pacenet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„help”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”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м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0353-27E6-4F0B-A7DC-B50CD9BC35C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C =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з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ц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ж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ни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у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илустр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ни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9D3-F325-407A-A3D1-A117D8F61D8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х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љивих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њих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ти при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устр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ћи при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ни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и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08B1-4DB5-4F9C-A310-3D58097FCDB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630-3C82-41B1-8539-0E05DD8BAA0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50F-116A-47F7-890C-D0C2B76B738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C935-B1F6-46C6-B2AD-19C3514A08C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4400" y="5158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086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269-F104-446D-8DFB-33C1454B532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44306-EEEB-4198-A3EB-5DD9FBF0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3C727-5105-471D-905D-7FEED2B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BA12A-E010-4330-8389-FA5164E5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C97D6-96F7-4648-A393-22F1A8A1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01E05-D82E-4700-8133-B01C6C6D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8ED48-65FB-4501-901C-E6DF55C8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E1F4-D637-4F6B-9E1F-A3E53BE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A844-B261-481F-8B69-B246CCF6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76C4-425E-4DCE-A5A7-97C2779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0E20-472A-4DDD-B9A8-22DF66A7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7D820-EDF3-4F2D-A730-BF34E89D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8E4A5-5687-467A-B589-82DC9482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3046-832E-4092-9F7A-7BA6CF489C6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2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Sub-module A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Searching for patents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9369-6051-4C16-BC73-A940CD62E708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3600"/>
            </a:br>
            <a:br>
              <a:rPr sz="800"/>
            </a:b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ристи б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space</a:t>
            </a:r>
            <a:r>
              <a:rPr b="0" lang="en-US" sz="2000" spc="-1" strike="noStrike">
                <a:solidFill>
                  <a:srgbClr val="404950"/>
                </a:solidFill>
                <a:latin typeface="Arial"/>
              </a:rPr>
              <a:t>net</a:t>
            </a:r>
            <a:br>
              <a:rPr sz="3600"/>
            </a:b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Untertitel 2"/>
          <p:cNvSpPr/>
          <p:nvPr/>
        </p:nvSpPr>
        <p:spPr>
          <a:xfrm>
            <a:off x="7054920" y="4962600"/>
            <a:ext cx="1752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rcRect l="0" t="15609" r="0" b="19618"/>
          <a:stretch/>
        </p:blipFill>
        <p:spPr>
          <a:xfrm>
            <a:off x="5791320" y="1265400"/>
            <a:ext cx="3352680" cy="2536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Patentni žargon u oblasti opšte tehnik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6691320" y="2479680"/>
            <a:ext cx="1044720" cy="504720"/>
          </a:xfrm>
          <a:prstGeom prst="ellipse">
            <a:avLst/>
          </a:prstGeom>
          <a:noFill/>
          <a:ln w="381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7267680" y="3021120"/>
            <a:ext cx="1044360" cy="504720"/>
          </a:xfrm>
          <a:prstGeom prst="ellipse">
            <a:avLst/>
          </a:prstGeom>
          <a:noFill/>
          <a:ln w="381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5829480" y="4151160"/>
            <a:ext cx="3314520" cy="2340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3"/>
          <p:cNvSpPr/>
          <p:nvPr/>
        </p:nvSpPr>
        <p:spPr>
          <a:xfrm>
            <a:off x="7723080" y="6660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Rechteck 7"/>
          <p:cNvSpPr/>
          <p:nvPr/>
        </p:nvSpPr>
        <p:spPr>
          <a:xfrm>
            <a:off x="834120" y="4465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едство за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чвршћивање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акључавањ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locking means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hteck 5"/>
          <p:cNvSpPr/>
          <p:nvPr/>
        </p:nvSpPr>
        <p:spPr>
          <a:xfrm>
            <a:off x="880920" y="1312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флексибилни део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a flexible member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5" name="Rechteck 6"/>
          <p:cNvSpPr/>
          <p:nvPr/>
        </p:nvSpPr>
        <p:spPr>
          <a:xfrm>
            <a:off x="3009960" y="1332000"/>
            <a:ext cx="302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мембрана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дијафрагма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membrane or diaphragm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53A-813E-4E11-86F1-BAD6E1D19E47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hteck 11"/>
          <p:cNvSpPr/>
          <p:nvPr/>
        </p:nvSpPr>
        <p:spPr>
          <a:xfrm>
            <a:off x="3000600" y="4465800"/>
            <a:ext cx="31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потпора у облику слова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U-shaped retainer,etc.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26840" y="1130040"/>
            <a:ext cx="40669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ш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б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 и уљ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рш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уп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д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ст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к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)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и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винил 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чн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м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Aft>
                <a:spcPts val="550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чн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24400" y="1158840"/>
            <a:ext cx="4728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T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фл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®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рил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и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рил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и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)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ли 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винил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 (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) 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рил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и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сти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с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; Styrofoam®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и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ни 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учук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м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л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рил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и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BS (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и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 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         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цкиц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PET (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л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 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ф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х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7751880" y="810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AF5-9BEB-4286-A4AC-0C13BC27B1C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404280"/>
            <a:ext cx="8136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х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130400"/>
            <a:ext cx="8213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ржи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 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 и 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          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= 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ч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 и Ц,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ж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друг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р: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 С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ржи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 м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и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у/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           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→ Ви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!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и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 и 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           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= 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oj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у з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упљ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 и 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         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р: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 С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и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у/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→ Ви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j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искључ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j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р с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и 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 м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виш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мп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ти,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искључив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 мл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ч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кис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ли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, 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лк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х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и в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уштински 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, и Ц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          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= 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и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Б и Ц, у 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у бити укључ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 ус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 д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ив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тичу 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т п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   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р: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уштински с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мл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ч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кис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ин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к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лу/в</a:t>
            </a:r>
            <a:r>
              <a:rPr b="0" lang="en-GB" sz="16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575f"/>
                </a:solidFill>
                <a:latin typeface="Arial"/>
              </a:rPr>
              <a:t>        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→ Ви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би м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гл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буд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укључ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 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мп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т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у вину 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пр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ч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у д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би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je 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ф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т пр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к</a:t>
            </a:r>
            <a:r>
              <a:rPr b="1" lang="en-GB" sz="1600" spc="-1" strike="noStrike">
                <a:solidFill>
                  <a:srgbClr val="c0362b"/>
                </a:solidFill>
                <a:latin typeface="Arial"/>
              </a:rPr>
              <a:t>a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7680240" y="8100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4025-50C1-4D67-89E2-4D9DFA9C0AD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х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/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55640" y="1224000"/>
            <a:ext cx="7678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ух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 и г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755640" y="172872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х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”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     = 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присуст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их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comprising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жи”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     =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присуст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их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containing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”    =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суст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х 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consisting of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759800" y="7776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0F7-9BC5-4FF3-A0F1-0B0EF77B2C7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49200" y="1130400"/>
            <a:ext cx="364032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к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  =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phthalmic solution)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ск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                  =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х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љив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harmaceutically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cceptable carier)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              =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ских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7765920" y="81000"/>
            <a:ext cx="13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9B1E-11A5-4615-9C85-56EB6F0C102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4202280" y="1130400"/>
            <a:ext cx="47844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,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м хид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и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pH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13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п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би струч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 у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струч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)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: 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, с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 или ми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 сврху.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уж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из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 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ити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лич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р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: кућни мик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)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Patentni žargon u oblasti farmaci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38360" y="1158840"/>
            <a:ext cx="383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с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a       =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ж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X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Y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ис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л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у 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љ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7751880" y="810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15A1-906A-4704-ADD3-D479FE789B5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176720" y="1158840"/>
            <a:ext cx="47926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у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: 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з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зир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„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”- suitable for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цини (=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цин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-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(=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ру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цин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6400" y="44244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иф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482760" y="1081080"/>
            <a:ext cx="7976880" cy="5407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29C7-430A-4B69-9733-8CA9903FE8E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 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: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л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у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82480" y="950760"/>
            <a:ext cx="8006040" cy="5511960"/>
            <a:chOff x="582480" y="950760"/>
            <a:chExt cx="8006040" cy="5511960"/>
          </a:xfrm>
        </p:grpSpPr>
        <p:pic>
          <p:nvPicPr>
            <p:cNvPr id="272" name="Picture 18" descr=""/>
            <p:cNvPicPr/>
            <p:nvPr/>
          </p:nvPicPr>
          <p:blipFill>
            <a:blip r:embed="rId1"/>
            <a:stretch/>
          </p:blipFill>
          <p:spPr>
            <a:xfrm>
              <a:off x="582480" y="950760"/>
              <a:ext cx="7917480" cy="47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7" descr=""/>
            <p:cNvPicPr/>
            <p:nvPr/>
          </p:nvPicPr>
          <p:blipFill>
            <a:blip r:embed="rId2"/>
            <a:stretch/>
          </p:blipFill>
          <p:spPr>
            <a:xfrm>
              <a:off x="2673360" y="5715000"/>
              <a:ext cx="3975120" cy="747720"/>
            </a:xfrm>
            <a:prstGeom prst="rect">
              <a:avLst/>
            </a:prstGeom>
            <a:ln w="25560">
              <a:solidFill>
                <a:srgbClr val="c00000"/>
              </a:solidFill>
              <a:miter/>
            </a:ln>
          </p:spPr>
        </p:pic>
        <p:sp>
          <p:nvSpPr>
            <p:cNvPr id="274" name="Rectangle 19"/>
            <p:cNvSpPr/>
            <p:nvPr/>
          </p:nvSpPr>
          <p:spPr>
            <a:xfrm>
              <a:off x="2449440" y="3886200"/>
              <a:ext cx="6139080" cy="293400"/>
            </a:xfrm>
            <a:prstGeom prst="rect">
              <a:avLst/>
            </a:prstGeom>
            <a:noFill/>
            <a:ln w="2844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27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6835-1A1D-49E0-9BE2-062DF31B032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: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br>
              <a:rPr sz="2400"/>
            </a:b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иф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(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CLA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82" name="Picture 15" descr=""/>
          <p:cNvPicPr/>
          <p:nvPr/>
        </p:nvPicPr>
        <p:blipFill>
          <a:blip r:embed="rId1"/>
          <a:stretch/>
        </p:blipFill>
        <p:spPr>
          <a:xfrm>
            <a:off x="947880" y="1182600"/>
            <a:ext cx="7445160" cy="364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"/>
          <p:cNvPicPr/>
          <p:nvPr/>
        </p:nvPicPr>
        <p:blipFill>
          <a:blip r:embed="rId2"/>
          <a:stretch/>
        </p:blipFill>
        <p:spPr>
          <a:xfrm>
            <a:off x="1093680" y="5607000"/>
            <a:ext cx="7299360" cy="625680"/>
          </a:xfrm>
          <a:prstGeom prst="rect">
            <a:avLst/>
          </a:prstGeom>
          <a:ln w="0">
            <a:noFill/>
          </a:ln>
        </p:spPr>
      </p:pic>
      <p:sp>
        <p:nvSpPr>
          <p:cNvPr id="284" name="Oval 17"/>
          <p:cNvSpPr/>
          <p:nvPr/>
        </p:nvSpPr>
        <p:spPr>
          <a:xfrm>
            <a:off x="7236000" y="5908680"/>
            <a:ext cx="1261800" cy="19512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1204920" y="5929200"/>
            <a:ext cx="3527280" cy="142920"/>
          </a:xfrm>
          <a:prstGeom prst="rect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4068720" y="4221000"/>
            <a:ext cx="4211640" cy="196920"/>
          </a:xfrm>
          <a:prstGeom prst="rect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7531200" y="3382920"/>
            <a:ext cx="880920" cy="26028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8" name="Oval 21"/>
          <p:cNvSpPr/>
          <p:nvPr/>
        </p:nvSpPr>
        <p:spPr>
          <a:xfrm>
            <a:off x="1009800" y="4187880"/>
            <a:ext cx="1076040" cy="23976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D77D-4D79-4E72-9007-D0AE2D0EBA36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8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м кл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6" name="Textfeld 21"/>
          <p:cNvSpPr/>
          <p:nvPr/>
        </p:nvSpPr>
        <p:spPr>
          <a:xfrm>
            <a:off x="7610040" y="5683320"/>
            <a:ext cx="6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62b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97" name="Picture 25" descr=""/>
          <p:cNvPicPr/>
          <p:nvPr/>
        </p:nvPicPr>
        <p:blipFill>
          <a:blip r:embed="rId1"/>
          <a:stretch/>
        </p:blipFill>
        <p:spPr>
          <a:xfrm>
            <a:off x="838080" y="1119240"/>
            <a:ext cx="7467840" cy="5033880"/>
          </a:xfrm>
          <a:prstGeom prst="rect">
            <a:avLst/>
          </a:prstGeom>
          <a:ln w="0">
            <a:noFill/>
          </a:ln>
        </p:spPr>
      </p:pic>
      <p:sp>
        <p:nvSpPr>
          <p:cNvPr id="298" name="Oval 17"/>
          <p:cNvSpPr/>
          <p:nvPr/>
        </p:nvSpPr>
        <p:spPr>
          <a:xfrm>
            <a:off x="1076400" y="5821200"/>
            <a:ext cx="3593880" cy="462240"/>
          </a:xfrm>
          <a:prstGeom prst="ellipse">
            <a:avLst/>
          </a:prstGeom>
          <a:noFill/>
          <a:ln w="7632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4581360" y="2633760"/>
            <a:ext cx="1027440" cy="830160"/>
          </a:xfrm>
          <a:prstGeom prst="line">
            <a:avLst/>
          </a:prstGeom>
          <a:ln w="152280">
            <a:solidFill>
              <a:srgbClr val="c036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F81-0F3F-43F6-9DDF-3D6E982D31AB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9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space</a:t>
            </a:r>
            <a:r>
              <a:rPr b="1" lang="en-US" sz="2400" spc="-1" strike="noStrike">
                <a:solidFill>
                  <a:srgbClr val="404950"/>
                </a:solidFill>
                <a:latin typeface="Arial"/>
              </a:rPr>
              <a:t>net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 ...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19844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60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л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 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х ин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иц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ин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труч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Textfeld 4"/>
          <p:cNvSpPr/>
          <p:nvPr/>
        </p:nvSpPr>
        <p:spPr>
          <a:xfrm>
            <a:off x="1301760" y="47116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http://worldwide.espacenet.com/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B0A5-7575-45CC-AA5D-1466B214D73F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201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них кри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07" name="Picture 13" descr=""/>
          <p:cNvPicPr/>
          <p:nvPr/>
        </p:nvPicPr>
        <p:blipFill>
          <a:blip r:embed="rId1"/>
          <a:stretch/>
        </p:blipFill>
        <p:spPr>
          <a:xfrm>
            <a:off x="1744560" y="1033560"/>
            <a:ext cx="4138560" cy="5437080"/>
          </a:xfrm>
          <a:prstGeom prst="rect">
            <a:avLst/>
          </a:prstGeom>
          <a:ln w="0">
            <a:noFill/>
          </a:ln>
        </p:spPr>
      </p:pic>
      <p:sp>
        <p:nvSpPr>
          <p:cNvPr id="308" name="Textfeld 10"/>
          <p:cNvSpPr/>
          <p:nvPr/>
        </p:nvSpPr>
        <p:spPr>
          <a:xfrm>
            <a:off x="6310800" y="4959360"/>
            <a:ext cx="263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c0362b"/>
                </a:solidFill>
                <a:latin typeface="Arial"/>
              </a:rPr>
              <a:t>Сaмo приjaвe пoднeтe oд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c0362b"/>
                </a:solidFill>
                <a:latin typeface="Arial"/>
              </a:rPr>
              <a:t>стрaнe oдрeђeних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c0362b"/>
                </a:solidFill>
                <a:latin typeface="Arial"/>
              </a:rPr>
              <a:t>прoнaлaзaч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9" name="Pfeil nach rechts 11"/>
          <p:cNvSpPr/>
          <p:nvPr/>
        </p:nvSpPr>
        <p:spPr>
          <a:xfrm rot="10800000">
            <a:off x="5927400" y="5122440"/>
            <a:ext cx="390600" cy="27612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0" name="Textfeld 14"/>
          <p:cNvSpPr/>
          <p:nvPr/>
        </p:nvSpPr>
        <p:spPr>
          <a:xfrm>
            <a:off x="6305400" y="419724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c0362b"/>
                </a:solidFill>
                <a:latin typeface="Arial"/>
              </a:rPr>
              <a:t>Сaмo приjaвe oбjaвљeнe у oдрeђeнoj гoдини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1" name="Pfeil nach rechts 15"/>
          <p:cNvSpPr/>
          <p:nvPr/>
        </p:nvSpPr>
        <p:spPr>
          <a:xfrm rot="10800000">
            <a:off x="5882760" y="4333680"/>
            <a:ext cx="390600" cy="27612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693800" y="5375160"/>
            <a:ext cx="1778040" cy="336600"/>
          </a:xfrm>
          <a:prstGeom prst="rect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3" name="Pfeil nach rechts 15"/>
          <p:cNvSpPr/>
          <p:nvPr/>
        </p:nvSpPr>
        <p:spPr>
          <a:xfrm rot="10800000">
            <a:off x="5833800" y="3206520"/>
            <a:ext cx="390600" cy="27612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313320" y="31654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c0362b"/>
                </a:solidFill>
                <a:latin typeface="Arial"/>
              </a:rPr>
              <a:t>Сaмo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П 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</a:rPr>
              <a:t>приjaв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197-5DC5-4BA6-8345-2F5A26EE5B0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8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0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spacenet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с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22DC-C87B-488C-BFD1-F5A123CCF152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1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328" name="Picture 14" descr=""/>
          <p:cNvPicPr/>
          <p:nvPr/>
        </p:nvPicPr>
        <p:blipFill>
          <a:blip r:embed="rId1"/>
          <a:stretch/>
        </p:blipFill>
        <p:spPr>
          <a:xfrm>
            <a:off x="755640" y="1158840"/>
            <a:ext cx="564372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1" descr=""/>
          <p:cNvPicPr/>
          <p:nvPr/>
        </p:nvPicPr>
        <p:blipFill>
          <a:blip r:embed="rId1"/>
          <a:stretch/>
        </p:blipFill>
        <p:spPr>
          <a:xfrm>
            <a:off x="830160" y="890640"/>
            <a:ext cx="6315120" cy="5218200"/>
          </a:xfrm>
          <a:prstGeom prst="rect">
            <a:avLst/>
          </a:prstGeom>
          <a:ln w="0">
            <a:noFill/>
          </a:ln>
        </p:spPr>
      </p:pic>
      <p:sp>
        <p:nvSpPr>
          <p:cNvPr id="330" name="Oval 4"/>
          <p:cNvSpPr/>
          <p:nvPr/>
        </p:nvSpPr>
        <p:spPr>
          <a:xfrm>
            <a:off x="1649520" y="4245120"/>
            <a:ext cx="1698480" cy="23328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1" name="Oval 4"/>
          <p:cNvSpPr/>
          <p:nvPr/>
        </p:nvSpPr>
        <p:spPr>
          <a:xfrm>
            <a:off x="709560" y="4443480"/>
            <a:ext cx="1177920" cy="30636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B26-0890-42D4-9688-A5C44F146A80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2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8" descr=""/>
          <p:cNvPicPr/>
          <p:nvPr/>
        </p:nvPicPr>
        <p:blipFill>
          <a:blip r:embed="rId1"/>
          <a:stretch/>
        </p:blipFill>
        <p:spPr>
          <a:xfrm>
            <a:off x="2681280" y="2050920"/>
            <a:ext cx="5923080" cy="4140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72960" y="1982880"/>
            <a:ext cx="22669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Д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кум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ти у к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им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 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цитир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 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P0200362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(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л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ч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р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кци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п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лим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р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з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,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к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у 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изум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д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битни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б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л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в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гр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д</a:t>
            </a: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Kary Mullis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0" name="Textfeld 5"/>
          <p:cNvSpPr/>
          <p:nvPr/>
        </p:nvSpPr>
        <p:spPr>
          <a:xfrm>
            <a:off x="5562720" y="1843200"/>
            <a:ext cx="202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В</a:t>
            </a:r>
            <a:r>
              <a:rPr b="1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e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м</a:t>
            </a:r>
            <a:r>
              <a:rPr b="1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утиц</a:t>
            </a:r>
            <a:r>
              <a:rPr b="1" lang="sr-Latn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aj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  <a:ea typeface="ヒラギノ角ゴ Pro W3"/>
              </a:rPr>
              <a:t>н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6000" y="763200"/>
            <a:ext cx="8334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с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цити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8E28-5FC0-4797-921F-044306D95FB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3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495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 и ш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д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sr-Latn-R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/>
          <a:stretch/>
        </p:blipFill>
        <p:spPr>
          <a:xfrm>
            <a:off x="330120" y="1133640"/>
            <a:ext cx="8529840" cy="48290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435B-660A-471A-A87E-CF9F298C9658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4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38360" y="727200"/>
            <a:ext cx="768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M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инс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57" name="Picture 11" descr=""/>
          <p:cNvPicPr/>
          <p:nvPr/>
        </p:nvPicPr>
        <p:blipFill>
          <a:blip r:embed="rId1"/>
          <a:stretch/>
        </p:blipFill>
        <p:spPr>
          <a:xfrm>
            <a:off x="770040" y="1986120"/>
            <a:ext cx="7627680" cy="2232000"/>
          </a:xfrm>
          <a:prstGeom prst="rect">
            <a:avLst/>
          </a:prstGeom>
          <a:ln w="0">
            <a:noFill/>
          </a:ln>
        </p:spPr>
      </p:pic>
      <p:sp>
        <p:nvSpPr>
          <p:cNvPr id="358" name="Oval 9"/>
          <p:cNvSpPr/>
          <p:nvPr/>
        </p:nvSpPr>
        <p:spPr>
          <a:xfrm>
            <a:off x="662040" y="2997360"/>
            <a:ext cx="1535040" cy="36180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9" name="Line 10"/>
          <p:cNvSpPr/>
          <p:nvPr/>
        </p:nvSpPr>
        <p:spPr>
          <a:xfrm flipH="1" flipV="1">
            <a:off x="2134800" y="3236400"/>
            <a:ext cx="803160" cy="568440"/>
          </a:xfrm>
          <a:prstGeom prst="line">
            <a:avLst/>
          </a:prstGeom>
          <a:ln w="152280">
            <a:solidFill>
              <a:srgbClr val="c036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360" name="Picture 12" descr=""/>
          <p:cNvPicPr/>
          <p:nvPr/>
        </p:nvPicPr>
        <p:blipFill>
          <a:blip r:embed="rId2"/>
          <a:stretch/>
        </p:blipFill>
        <p:spPr>
          <a:xfrm>
            <a:off x="1368360" y="4827600"/>
            <a:ext cx="6362640" cy="1189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5D5B-3839-4779-96BB-E9351A950455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5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404b56"/>
                </a:solidFill>
                <a:latin typeface="Arial"/>
              </a:rPr>
              <a:t>INPADOC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de-CH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ни ст</a:t>
            </a:r>
            <a:r>
              <a:rPr b="1" lang="de-CH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ус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728640" y="1684440"/>
            <a:ext cx="7688160" cy="3489120"/>
          </a:xfrm>
          <a:prstGeom prst="rect">
            <a:avLst/>
          </a:prstGeom>
          <a:ln w="0">
            <a:noFill/>
          </a:ln>
        </p:spPr>
      </p:pic>
      <p:sp>
        <p:nvSpPr>
          <p:cNvPr id="369" name="Oval 4"/>
          <p:cNvSpPr/>
          <p:nvPr/>
        </p:nvSpPr>
        <p:spPr>
          <a:xfrm>
            <a:off x="687240" y="1603440"/>
            <a:ext cx="2135160" cy="45396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6C13-5CAC-4645-8012-8569D3C25B1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6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1047600" y="1104840"/>
            <a:ext cx="6764400" cy="51976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AC32-D9E9-47C9-91FC-CFBAC4B844FB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7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ћ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сту и 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ивн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и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385" name="Picture 12" descr=""/>
          <p:cNvPicPr/>
          <p:nvPr/>
        </p:nvPicPr>
        <p:blipFill>
          <a:blip r:embed="rId1"/>
          <a:stretch/>
        </p:blipFill>
        <p:spPr>
          <a:xfrm>
            <a:off x="139680" y="907920"/>
            <a:ext cx="7881840" cy="3762360"/>
          </a:xfrm>
          <a:prstGeom prst="rect">
            <a:avLst/>
          </a:prstGeom>
          <a:ln w="0">
            <a:noFill/>
          </a:ln>
        </p:spPr>
      </p:pic>
      <p:sp>
        <p:nvSpPr>
          <p:cNvPr id="386" name="Rechteck 13"/>
          <p:cNvSpPr/>
          <p:nvPr/>
        </p:nvSpPr>
        <p:spPr>
          <a:xfrm>
            <a:off x="4138560" y="4352760"/>
            <a:ext cx="489924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c575f"/>
                </a:solidFill>
                <a:latin typeface="Arial"/>
              </a:rPr>
              <a:t>Дoдaтнa пoмoћ: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8e9ba5"/>
                </a:solidFill>
                <a:uFillTx/>
                <a:latin typeface="Arial"/>
              </a:rPr>
              <a:t>http://forums.epo.org/espacenet/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c575f"/>
                </a:solidFill>
                <a:latin typeface="Arial"/>
              </a:rPr>
              <a:t>helpdesk: </a:t>
            </a:r>
            <a:r>
              <a:rPr b="0" i="1" lang="en-US" sz="1700" spc="-1" strike="noStrike" u="sng">
                <a:solidFill>
                  <a:srgbClr val="8e9ba5"/>
                </a:solidFill>
                <a:uFillTx/>
                <a:latin typeface="Arial"/>
              </a:rPr>
              <a:t>espacenet@epo.org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8e9ba5"/>
                </a:solidFill>
                <a:uFillTx/>
                <a:latin typeface="Arial"/>
              </a:rPr>
              <a:t>http://www.epo.org/learning-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8e9ba5"/>
                </a:solidFill>
                <a:latin typeface="Arial"/>
              </a:rPr>
              <a:t>     </a:t>
            </a:r>
            <a:r>
              <a:rPr b="0" i="1" lang="en-US" sz="1700" spc="-1" strike="noStrike" u="sng">
                <a:solidFill>
                  <a:srgbClr val="8e9ba5"/>
                </a:solidFill>
                <a:uFillTx/>
                <a:latin typeface="Arial"/>
              </a:rPr>
              <a:t>events/events/training/patent-information.html 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8e9ba5"/>
                </a:solidFill>
                <a:uFillTx/>
                <a:latin typeface="Arial"/>
              </a:rPr>
              <a:t>www.epo.org/espacenet-assistant 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8e9ba5"/>
                </a:solidFill>
                <a:uFillTx/>
                <a:latin typeface="Arial"/>
              </a:rPr>
              <a:t>www.epo.org/pi-tour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8AF0-A918-44F9-B36B-FF850D643E5D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8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800" spc="-1" strike="noStrike">
              <a:solidFill>
                <a:srgbClr val="404b56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365040" y="422280"/>
            <a:ext cx="8672760" cy="5889600"/>
            <a:chOff x="365040" y="422280"/>
            <a:chExt cx="8672760" cy="5889600"/>
          </a:xfrm>
        </p:grpSpPr>
        <p:pic>
          <p:nvPicPr>
            <p:cNvPr id="109" name="Picture 7" descr=""/>
            <p:cNvPicPr/>
            <p:nvPr/>
          </p:nvPicPr>
          <p:blipFill>
            <a:blip r:embed="rId1"/>
            <a:stretch/>
          </p:blipFill>
          <p:spPr>
            <a:xfrm>
              <a:off x="576000" y="422280"/>
              <a:ext cx="8461800" cy="58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10"/>
            <p:cNvSpPr/>
            <p:nvPr/>
          </p:nvSpPr>
          <p:spPr>
            <a:xfrm>
              <a:off x="365040" y="1754280"/>
              <a:ext cx="1621440" cy="1199880"/>
            </a:xfrm>
            <a:prstGeom prst="ellipse">
              <a:avLst/>
            </a:prstGeom>
            <a:noFill/>
            <a:ln w="28440">
              <a:solidFill>
                <a:srgbClr val="c036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1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BB4-954A-4A5E-AAD2-EAB711521A0E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ључним 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л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8" name="Rechteck 4"/>
          <p:cNvSpPr/>
          <p:nvPr/>
        </p:nvSpPr>
        <p:spPr>
          <a:xfrm>
            <a:off x="822240" y="1623960"/>
            <a:ext cx="3838680" cy="4356000"/>
          </a:xfrm>
          <a:prstGeom prst="rect">
            <a:avLst/>
          </a:prstGeom>
          <a:solidFill>
            <a:srgbClr val="b3c5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Aft>
                <a:spcPts val="601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их п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4c575f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в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импл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4c575f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бим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4c575f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Скр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д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нк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  <a:ea typeface="Arial"/>
              </a:rPr>
              <a:t>н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  <a:ea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и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љу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и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ч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ку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у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Textfeld 5"/>
          <p:cNvSpPr/>
          <p:nvPr/>
        </p:nvSpPr>
        <p:spPr>
          <a:xfrm>
            <a:off x="765360" y="1158840"/>
            <a:ext cx="39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ључним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Rechteck 6"/>
          <p:cNvSpPr/>
          <p:nvPr/>
        </p:nvSpPr>
        <p:spPr>
          <a:xfrm>
            <a:off x="4862520" y="1590840"/>
            <a:ext cx="3921120" cy="4395600"/>
          </a:xfrm>
          <a:prstGeom prst="rect">
            <a:avLst/>
          </a:prstGeom>
          <a:solidFill>
            <a:srgbClr val="cdd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Aft>
                <a:spcPts val="1199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ф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с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руч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ф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(M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П) 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х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у структуру и вр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љ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: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иси 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су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 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ку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:  К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П-у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100%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feld 7"/>
          <p:cNvSpPr/>
          <p:nvPr/>
        </p:nvSpPr>
        <p:spPr>
          <a:xfrm>
            <a:off x="4806000" y="1171440"/>
            <a:ext cx="39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5A6-7493-44F8-9F3E-0DC161A1846A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16530" t="3060" r="10656" b="0"/>
          <a:stretch/>
        </p:blipFill>
        <p:spPr>
          <a:xfrm>
            <a:off x="6480000" y="2631960"/>
            <a:ext cx="1143000" cy="1211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3632" t="68756" r="9429" b="10678"/>
          <a:stretch/>
        </p:blipFill>
        <p:spPr>
          <a:xfrm>
            <a:off x="6230880" y="1262160"/>
            <a:ext cx="2247840" cy="85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rcRect l="12627" t="53411" r="49598" b="24159"/>
          <a:stretch/>
        </p:blipFill>
        <p:spPr>
          <a:xfrm>
            <a:off x="6616800" y="4181400"/>
            <a:ext cx="1643040" cy="1357560"/>
          </a:xfrm>
          <a:prstGeom prst="rect">
            <a:avLst/>
          </a:prstGeom>
          <a:ln w="0">
            <a:noFill/>
          </a:ln>
        </p:spPr>
      </p:pic>
      <p:sp>
        <p:nvSpPr>
          <p:cNvPr id="132" name="Rechteck 9"/>
          <p:cNvSpPr/>
          <p:nvPr/>
        </p:nvSpPr>
        <p:spPr>
          <a:xfrm>
            <a:off x="746280" y="1160640"/>
            <a:ext cx="64180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нстру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 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ис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writing instrument)                     (pen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мнoштвo куглицa         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куглични 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a plurality of balls)                   (ball bearing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 сф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ч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  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              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фи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и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toy ball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 сигур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х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spherical object  with floppy filaments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o promote sure capture)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694640" y="81000"/>
            <a:ext cx="14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AFD-AB85-43E8-8CA8-AD8AE5C93294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744480" y="1174680"/>
            <a:ext cx="403236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рич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с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electrical power source for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lectronic circuits)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ут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уп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ни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 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semiconductor switching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device with a control electrode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ски и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ств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a  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тричну спр</a:t>
            </a: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galvanically isolated electrical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coupling means)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430880" y="11685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batery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43" name="Picture 14" descr=""/>
          <p:cNvPicPr/>
          <p:nvPr/>
        </p:nvPicPr>
        <p:blipFill>
          <a:blip r:embed="rId1"/>
          <a:stretch/>
        </p:blipFill>
        <p:spPr>
          <a:xfrm>
            <a:off x="7054920" y="3095640"/>
            <a:ext cx="1898640" cy="135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6"/>
          <p:cNvSpPr/>
          <p:nvPr/>
        </p:nvSpPr>
        <p:spPr>
          <a:xfrm>
            <a:off x="4519440" y="2779560"/>
            <a:ext cx="2008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и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transistor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4430880" y="4762440"/>
            <a:ext cx="230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сф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transformer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46" name="Picture 20" descr=""/>
          <p:cNvPicPr/>
          <p:nvPr/>
        </p:nvPicPr>
        <p:blipFill>
          <a:blip r:embed="rId2"/>
          <a:stretch/>
        </p:blipFill>
        <p:spPr>
          <a:xfrm>
            <a:off x="7273800" y="830160"/>
            <a:ext cx="1152720" cy="186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"/>
          <p:cNvPicPr/>
          <p:nvPr/>
        </p:nvPicPr>
        <p:blipFill>
          <a:blip r:embed="rId3"/>
          <a:stretch/>
        </p:blipFill>
        <p:spPr>
          <a:xfrm>
            <a:off x="6835680" y="4862520"/>
            <a:ext cx="1635120" cy="137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7709040" y="810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EBF-5B87-4169-8949-08F746E4E86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443560" y="3411360"/>
            <a:ext cx="3546360" cy="2081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3938760" y="3154320"/>
            <a:ext cx="2232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стру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current collector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7054920" y="1500120"/>
            <a:ext cx="1681200" cy="1170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736560" y="1170000"/>
            <a:ext cx="338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hoto-transmitting device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022640" y="119556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= LED 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a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ту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7709040" y="810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857160" y="3089160"/>
            <a:ext cx="3408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ур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ђ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aj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з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пр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узим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њ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стру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j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из 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л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ктричн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г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к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бл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(arrangement for tapping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power from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an electrical cable)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	</a:t>
            </a:r>
            <a:r>
              <a:rPr b="1" lang="sr-Latn-RS" sz="1800" spc="-1" strike="noStrike">
                <a:solidFill>
                  <a:srgbClr val="4c575f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A10-76A9-42EE-AA4E-F49C6AB73FD1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53136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0" name="Rechteck 3"/>
          <p:cNvSpPr/>
          <p:nvPr/>
        </p:nvSpPr>
        <p:spPr>
          <a:xfrm>
            <a:off x="741240" y="116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здуж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и 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longate member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128000" y="1165320"/>
            <a:ext cx="1595160" cy="2247840"/>
          </a:xfrm>
          <a:prstGeom prst="rect">
            <a:avLst/>
          </a:prstGeom>
          <a:ln w="0">
            <a:noFill/>
          </a:ln>
        </p:spPr>
      </p:pic>
      <p:sp>
        <p:nvSpPr>
          <p:cNvPr id="172" name="Rechteck 5"/>
          <p:cNvSpPr/>
          <p:nvPr/>
        </p:nvSpPr>
        <p:spPr>
          <a:xfrm>
            <a:off x="3581280" y="1190520"/>
            <a:ext cx="28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= ц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, уз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ни в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,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тич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pipe, riser, cable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r optical fibre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Rechteck 6"/>
          <p:cNvSpPr/>
          <p:nvPr/>
        </p:nvSpPr>
        <p:spPr>
          <a:xfrm>
            <a:off x="760320" y="35593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ри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wing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Rechteck 7"/>
          <p:cNvSpPr/>
          <p:nvPr/>
        </p:nvSpPr>
        <p:spPr>
          <a:xfrm>
            <a:off x="3587760" y="35910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= врaтa или прoзo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door or window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rcRect l="4110" t="0" r="0" b="0"/>
          <a:stretch/>
        </p:blipFill>
        <p:spPr>
          <a:xfrm>
            <a:off x="6745320" y="3413160"/>
            <a:ext cx="1925640" cy="3040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7709040" y="81000"/>
            <a:ext cx="14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1A9-B412-45B5-A5A6-EB34B1D4344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4" name="Rechteck 5"/>
          <p:cNvSpPr/>
          <p:nvPr/>
        </p:nvSpPr>
        <p:spPr>
          <a:xfrm>
            <a:off x="767520" y="115560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ст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к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ш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г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energy-storing means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5" name="Rechteck 6"/>
          <p:cNvSpPr/>
          <p:nvPr/>
        </p:nvSpPr>
        <p:spPr>
          <a:xfrm>
            <a:off x="4432680" y="118440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=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уг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(spring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6" name="Rechteck 7"/>
          <p:cNvSpPr/>
          <p:nvPr/>
        </p:nvSpPr>
        <p:spPr>
          <a:xfrm>
            <a:off x="930960" y="3760920"/>
            <a:ext cx="35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ст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ичвршћи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(fastening means)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Rechteck 8"/>
          <p:cNvSpPr/>
          <p:nvPr/>
        </p:nvSpPr>
        <p:spPr>
          <a:xfrm>
            <a:off x="4395240" y="3760920"/>
            <a:ext cx="36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=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, ш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 или з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в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тд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nail, screw or rivet, etc.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585120" y="1019160"/>
            <a:ext cx="2404800" cy="2711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rcRect l="4248" t="0" r="0" b="0"/>
          <a:stretch/>
        </p:blipFill>
        <p:spPr>
          <a:xfrm>
            <a:off x="4827600" y="434196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3"/>
          <p:cNvSpPr/>
          <p:nvPr/>
        </p:nvSpPr>
        <p:spPr>
          <a:xfrm>
            <a:off x="7680240" y="8100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c0362b"/>
                </a:solidFill>
                <a:latin typeface="Arial"/>
              </a:rPr>
              <a:t>Opcioni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A1F7-5A63-4867-A805-91073DC07F83}" type="slidenum">
              <a:rPr b="0" lang="de-DE" sz="18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8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одмодул А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28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Nils Omland</dc:creator>
  <dc:description/>
  <dc:language>en-US</dc:language>
  <cp:lastModifiedBy>VUKOV</cp:lastModifiedBy>
  <dcterms:modified xsi:type="dcterms:W3CDTF">2012-04-14T11:51:16Z</dcterms:modified>
  <cp:revision>588</cp:revision>
  <dc:subject/>
  <dc:title>Patents are all around 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