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sabelle Brandt - E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4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20DBF5-5DDF-4284-AA7C-578358D4F1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6778A1-6CF4-4B97-9C8D-DB9CA54EC86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0F3AE5-FDC1-4327-8E30-7CBAF05A4F5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1DD4D7-9C6C-4E86-8274-9897231AB9E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62067E-3F12-4EE7-917A-E53CF8FE42C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A0EB16-A239-476C-A1B9-C19D7F01758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њ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(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уш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у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у појав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US 495572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=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н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уш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у с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577915-B5AC-4B96-BDAF-B51CC5B8509E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3227B2-585A-4219-A537-27578C5F5C6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њ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уш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г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м 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мисл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(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уш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,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у с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б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уш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,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6CFD34-C88F-46A4-A7C4-DE0BCFF404D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EE67E1-92A5-4790-A276-4E7110149F2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86632EB-3D2B-4DDE-B3FC-D669DDACEC1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,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33D8BC-D8BE-4E84-B58C-A5C6A38A5FA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47F7CB-ADD6-4F21-B2AB-D125D1DE2D9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FFF2FB-66B5-4FB4-89B0-6BEC7C91FF1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46E21D-A609-4709-A83B-567244F9092E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уч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х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х,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у 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: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зв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г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и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ш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т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7F2462-80AC-4B5F-8DCC-D817954A057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у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уж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и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и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мислу.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Инстр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б.”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Инстр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1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10 и 15 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010D92-B329-456B-8D82-C83062B3456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liennummernplatzhalter 6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B6597F-4CC7-4856-9DD1-619CEDFF7291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196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8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196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8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sabelle Brandt - EP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41440" indent="-2732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08200" indent="-26532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082520" indent="-27288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pic>
        <p:nvPicPr>
          <p:cNvPr id="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Sub-module C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Understanding patent claims - (g) Automatic power switch for a hearing aid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8388360" y="6632640"/>
            <a:ext cx="75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C7C8-AAE5-46A3-8F79-0B91B7B73FC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41440" indent="-2732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08200" indent="-26532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082520" indent="-27288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575f"/>
                </a:solidFill>
                <a:latin typeface="Times New Roman"/>
              </a:rPr>
              <a:t>Isabelle Brandt  EP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60280"/>
            <a:ext cx="82440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br>
              <a:rPr sz="3600"/>
            </a:b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(г)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 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ут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тски пр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кид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ч з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слушни</a:t>
            </a:r>
            <a:br>
              <a:rPr sz="3600"/>
            </a:b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    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08720" y="4976640"/>
            <a:ext cx="15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928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ш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3" name="Inhaltsplatzhalter 2"/>
          <p:cNvSpPr/>
          <p:nvPr/>
        </p:nvSpPr>
        <p:spPr>
          <a:xfrm>
            <a:off x="719280" y="1125360"/>
            <a:ext cx="767844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ису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: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...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ћи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ми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слу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устичн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у с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с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зву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дух шир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слу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ли ус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ви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кући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 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уст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пи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слуш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ћи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н.”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...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9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с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 ми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2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слу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5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луш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 9 слуш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финис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прављачким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у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и н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ву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 ст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вучни притис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 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ски сиг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 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скључ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луш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.”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hteck 9"/>
          <p:cNvSpPr/>
          <p:nvPr/>
        </p:nvSpPr>
        <p:spPr>
          <a:xfrm>
            <a:off x="719280" y="1125360"/>
            <a:ext cx="799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tabLst>
                <a:tab algn="l" pos="0"/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r>
              <a:rPr b="0" lang="en-GB" sz="1800" spc="-1" strike="noStrike" u="sng">
                <a:solidFill>
                  <a:srgbClr val="4c575f"/>
                </a:solidFill>
                <a:uFillTx/>
                <a:latin typeface="Arial"/>
              </a:rPr>
              <a:t> 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вучни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вучн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к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ми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DSP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: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2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br>
              <a:rPr sz="1800"/>
            </a:b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твр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br>
              <a:rPr sz="1800"/>
            </a:b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или н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90" name="Rechteck 12"/>
          <p:cNvSpPr/>
          <p:nvPr/>
        </p:nvSpPr>
        <p:spPr>
          <a:xfrm>
            <a:off x="826920" y="4797360"/>
            <a:ext cx="7885440" cy="14749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ПО-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:</a:t>
            </a:r>
            <a:endParaRPr b="0" lang="en-US" sz="17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кт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ристик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су присутн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у ст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њу т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.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т, пр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тним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вим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,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7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Изм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нит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 a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лит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ш пр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к буд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штић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н!</a:t>
            </a:r>
            <a:endParaRPr b="0" lang="en-US" sz="17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91" name="Titel 1"/>
          <p:cNvSpPr/>
          <p:nvPr/>
        </p:nvSpPr>
        <p:spPr>
          <a:xfrm>
            <a:off x="719280" y="404640"/>
            <a:ext cx="768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Уп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ђив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дв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пр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ск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endParaRPr b="0" lang="en-US" sz="24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928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19280" y="1125360"/>
            <a:ext cx="7812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кр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 при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 претраживања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истик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з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у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и 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 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у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К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к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с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з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хт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ви м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гу изм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ити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би пр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чин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 бу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в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ж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ист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ису б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бух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тним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: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у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и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ђ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hteck 9"/>
          <p:cNvSpPr/>
          <p:nvPr/>
        </p:nvSpPr>
        <p:spPr>
          <a:xfrm>
            <a:off x="647640" y="425772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05" name="Titel 1"/>
          <p:cNvSpPr/>
          <p:nvPr/>
        </p:nvSpPr>
        <p:spPr>
          <a:xfrm>
            <a:off x="719280" y="404640"/>
            <a:ext cx="768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Уп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ђив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дв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пр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  <a:ea typeface="Tahoma"/>
              </a:rPr>
              <a:t>ск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endParaRPr b="0" lang="en-US" sz="24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06" name="Textfeld 19"/>
          <p:cNvSpPr/>
          <p:nvPr/>
        </p:nvSpPr>
        <p:spPr>
          <a:xfrm>
            <a:off x="569880" y="5624640"/>
            <a:ext cx="33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/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нички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ул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07" name="Rechteck 17"/>
          <p:cNvSpPr/>
          <p:nvPr/>
        </p:nvSpPr>
        <p:spPr>
          <a:xfrm>
            <a:off x="3851280" y="5481720"/>
            <a:ext cx="4537080" cy="8269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луш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з у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т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 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08" name="Rechteck 9"/>
          <p:cNvSpPr/>
          <p:nvPr/>
        </p:nvSpPr>
        <p:spPr>
          <a:xfrm>
            <a:off x="719280" y="1138320"/>
            <a:ext cx="799308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tabLst>
                <a:tab algn="l" pos="0"/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tabLst>
                <a:tab algn="l" pos="0"/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r>
              <a:rPr b="0" lang="en-GB" sz="1800" spc="-1" strike="noStrike" u="sng">
                <a:solidFill>
                  <a:srgbClr val="4c575f"/>
                </a:solidFill>
                <a:uFillTx/>
                <a:latin typeface="Arial"/>
              </a:rPr>
              <a:t> 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вучник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вучн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к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ми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DSP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: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2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br>
              <a:rPr sz="1800"/>
            </a:b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твр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br>
              <a:rPr sz="1800"/>
            </a:b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или н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0362b"/>
              </a:buClr>
              <a:buFont typeface="Arial"/>
              <a:buChar char="•"/>
              <a:tabLst>
                <a:tab algn="l" pos="152388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руги мик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у уху 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 Н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E!</a:t>
            </a:r>
            <a:r>
              <a:rPr b="0" lang="en-GB" sz="1800" spc="-1" strike="noStrike">
                <a:solidFill>
                  <a:srgbClr val="c0362b"/>
                </a:solidFill>
                <a:latin typeface="Symbol"/>
                <a:ea typeface="Symbol"/>
              </a:rPr>
              <a:t>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928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18920" y="1088640"/>
            <a:ext cx="767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дру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у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US 2002076057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откривено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ив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руг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 мик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 ух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сти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аптивање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 у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луш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зву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притиску </a:t>
            </a:r>
            <a:r>
              <a:rPr b="0" lang="sr-RS" sz="1800" spc="-1" strike="noStrike">
                <a:solidFill>
                  <a:srgbClr val="404b56"/>
                </a:solidFill>
                <a:latin typeface="Symbol"/>
                <a:ea typeface="Symbol"/>
              </a:rPr>
              <a:t>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ик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у уху)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M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тим, 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, њ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мби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ци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ja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и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з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у, 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j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динств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у пр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т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з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г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у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из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л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ћ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и </a:t>
            </a:r>
            <a:r>
              <a:rPr b="0" lang="sr-RS" sz="1800" spc="-1" strike="noStrike">
                <a:solidFill>
                  <a:srgbClr val="404b56"/>
                </a:solidFill>
                <a:latin typeface="Symbol"/>
                <a:ea typeface="Symbol"/>
              </a:rPr>
              <a:t>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у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ивни н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пу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ти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лик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чких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, US 4955729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уш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)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US 2002076057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к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у уху)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4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700200" y="907920"/>
            <a:ext cx="66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719280" y="873000"/>
            <a:ext cx="8100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ис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 слуш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и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 с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 или из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из ушн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г 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рисни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слушн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г 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,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и 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нфигурис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н д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изврши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клузи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j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у ушн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г 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,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 с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: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фигурис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 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ви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трични сиг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 и 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у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e 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и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 звуч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e;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притис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e 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вим п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 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ви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трични сиг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 и ст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ин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; 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руг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фигурис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 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и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у звучну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у и 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њу 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у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 друг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сиг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при ч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му 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j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други пр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тв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ч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зву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микр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ф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н 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и 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вљ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н т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прим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 e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мит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ну звучну 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рги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j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у из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унутр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шњ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сти 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клудир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г ушн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г 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рисник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слушн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г 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i="1" lang="sr-RS" sz="14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1" i="1" lang="en-GB" sz="1400" spc="-1" strike="noStrike">
                <a:solidFill>
                  <a:srgbClr val="c0362b"/>
                </a:solidFill>
                <a:latin typeface="Arial"/>
              </a:rPr>
              <a:t>a;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руг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притис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e 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ругим п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 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руги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трични сиг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 и ст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руг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ин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;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у звуч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сиг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e 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вим и другим 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 з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притис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 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и друг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ин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и друг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ин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 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у 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уп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ђи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утврди 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 ст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 у ушни 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 или из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 из уш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23" name="Textfeld 11"/>
          <p:cNvSpPr/>
          <p:nvPr/>
        </p:nvSpPr>
        <p:spPr>
          <a:xfrm>
            <a:off x="395280" y="5373720"/>
            <a:ext cx="7678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0362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24" name="Rechteck 12"/>
          <p:cNvSpPr/>
          <p:nvPr/>
        </p:nvSpPr>
        <p:spPr>
          <a:xfrm>
            <a:off x="826920" y="5337000"/>
            <a:ext cx="7993080" cy="10083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н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тивни ни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 (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функц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 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у 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лушн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з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 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ис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 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j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п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)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25" name="Titel 1"/>
          <p:cNvSpPr/>
          <p:nvPr/>
        </p:nvSpPr>
        <p:spPr>
          <a:xfrm>
            <a:off x="755640" y="414360"/>
            <a:ext cx="7905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и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endParaRPr b="0" lang="en-US" sz="24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5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hteck 6"/>
          <p:cNvSpPr/>
          <p:nvPr/>
        </p:nvSpPr>
        <p:spPr>
          <a:xfrm>
            <a:off x="3240000" y="2852640"/>
            <a:ext cx="3637080" cy="29232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32" name="Rechteck 5"/>
          <p:cNvSpPr/>
          <p:nvPr/>
        </p:nvSpPr>
        <p:spPr>
          <a:xfrm>
            <a:off x="3564000" y="1698480"/>
            <a:ext cx="3779640" cy="29232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33" name="Rechteck 9"/>
          <p:cNvSpPr/>
          <p:nvPr/>
        </p:nvSpPr>
        <p:spPr>
          <a:xfrm>
            <a:off x="792000" y="4473720"/>
            <a:ext cx="6661440" cy="255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34" name="Rechteck 7"/>
          <p:cNvSpPr/>
          <p:nvPr/>
        </p:nvSpPr>
        <p:spPr>
          <a:xfrm>
            <a:off x="5113440" y="3537000"/>
            <a:ext cx="1096920" cy="29196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8920" y="549360"/>
            <a:ext cx="82818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риги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н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ис п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у</a:t>
            </a:r>
            <a:br>
              <a:rPr sz="2000"/>
            </a:b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ржава изм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6" name="Textfeld 14"/>
          <p:cNvSpPr/>
          <p:nvPr/>
        </p:nvSpPr>
        <p:spPr>
          <a:xfrm>
            <a:off x="7740720" y="3645000"/>
            <a:ext cx="1403280" cy="8240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лик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 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4955...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37" name="Textfeld 15"/>
          <p:cNvSpPr/>
          <p:nvPr/>
        </p:nvSpPr>
        <p:spPr>
          <a:xfrm>
            <a:off x="7740720" y="4905360"/>
            <a:ext cx="1403280" cy="824040"/>
          </a:xfrm>
          <a:prstGeom prst="rect">
            <a:avLst/>
          </a:prstGeom>
          <a:solidFill>
            <a:srgbClr val="bec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лик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US2002...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38" name="Rechteck 5"/>
          <p:cNvSpPr/>
          <p:nvPr/>
        </p:nvSpPr>
        <p:spPr>
          <a:xfrm>
            <a:off x="826920" y="1913040"/>
            <a:ext cx="1735200" cy="29196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39" name="Rechteck 7"/>
          <p:cNvSpPr/>
          <p:nvPr/>
        </p:nvSpPr>
        <p:spPr>
          <a:xfrm>
            <a:off x="792000" y="3968640"/>
            <a:ext cx="3529080" cy="29232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40" name="Rechteck 8"/>
          <p:cNvSpPr/>
          <p:nvPr/>
        </p:nvSpPr>
        <p:spPr>
          <a:xfrm>
            <a:off x="792000" y="4941720"/>
            <a:ext cx="6661440" cy="93672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41" name="Textfeld 11"/>
          <p:cNvSpPr/>
          <p:nvPr/>
        </p:nvSpPr>
        <p:spPr>
          <a:xfrm>
            <a:off x="7740720" y="1690560"/>
            <a:ext cx="1398600" cy="1554120"/>
          </a:xfrm>
          <a:prstGeom prst="rect">
            <a:avLst/>
          </a:prstGeom>
          <a:solidFill>
            <a:srgbClr val="a8a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одржава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н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тивни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и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ру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хнички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ул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42" name="Rechteck 7"/>
          <p:cNvSpPr/>
          <p:nvPr/>
        </p:nvSpPr>
        <p:spPr>
          <a:xfrm>
            <a:off x="792000" y="3753000"/>
            <a:ext cx="1368720" cy="29196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43" name="Rechteck 9"/>
          <p:cNvSpPr/>
          <p:nvPr/>
        </p:nvSpPr>
        <p:spPr>
          <a:xfrm>
            <a:off x="792000" y="4689360"/>
            <a:ext cx="2592720" cy="255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44" name="Rechteck 4"/>
          <p:cNvSpPr/>
          <p:nvPr/>
        </p:nvSpPr>
        <p:spPr>
          <a:xfrm>
            <a:off x="719280" y="1190520"/>
            <a:ext cx="702144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уштина проналаска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истити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и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и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/или с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и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скључ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ли 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м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“stand by”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им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.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[0004]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рну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,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истити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j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и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с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ски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.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ис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мик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љ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ти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 у заптивену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шну шупљину, ф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ити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 звучник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и. ...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и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ID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I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тврди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 звучник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20 у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и у заптивену ушну шупљину ...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чник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х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ист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тврђ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 звучник 20 у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и у заптивену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шну шупљину. ...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чник н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ID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IO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ус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 х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ич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у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функ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уст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рш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 звучни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20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ик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30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ним ус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6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5904000" cy="4189320"/>
          </a:xfrm>
          <a:prstGeom prst="rect">
            <a:avLst/>
          </a:prstGeom>
          <a:ln w="0">
            <a:noFill/>
          </a:ln>
        </p:spPr>
      </p:pic>
      <p:sp>
        <p:nvSpPr>
          <p:cNvPr id="252" name="Rechteck 3"/>
          <p:cNvSpPr/>
          <p:nvPr/>
        </p:nvSpPr>
        <p:spPr>
          <a:xfrm>
            <a:off x="826920" y="1268280"/>
            <a:ext cx="5724720" cy="676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из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!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7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928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лушн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18920" y="1125360"/>
            <a:ext cx="7678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фигу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ушних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: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д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: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к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-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SP -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вучник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1727280" y="2529000"/>
            <a:ext cx="3978360" cy="204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2"/>
          <a:stretch/>
        </p:blipFill>
        <p:spPr>
          <a:xfrm>
            <a:off x="5651640" y="2925720"/>
            <a:ext cx="100800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492840" y="3068640"/>
            <a:ext cx="13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х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55640" y="1123920"/>
            <a:ext cx="7740720" cy="17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ушн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уги мик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ву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рити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у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ш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ву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рити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им 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зв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тврд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ушн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у ушн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 или је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 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ушн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в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;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,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в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7" name="Inhaltsplatzhalter 2"/>
          <p:cNvSpPr/>
          <p:nvPr/>
        </p:nvSpPr>
        <p:spPr>
          <a:xfrm>
            <a:off x="709560" y="5121360"/>
            <a:ext cx="7678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ит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им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?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”  </a:t>
            </a:r>
            <a:r>
              <a:rPr b="0" lang="sr-RS" sz="1800" spc="-1" strike="noStrike">
                <a:solidFill>
                  <a:srgbClr val="404b56"/>
                </a:solidFill>
                <a:latin typeface="Symbol"/>
                <a:ea typeface="Symbol"/>
              </a:rPr>
              <a:t>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ити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 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” =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функци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c0362b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92840" y="3336840"/>
            <a:ext cx="13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х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1"/>
          <a:stretch/>
        </p:blipFill>
        <p:spPr>
          <a:xfrm>
            <a:off x="1692360" y="2889360"/>
            <a:ext cx="3986280" cy="1881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"/>
          <p:cNvPicPr/>
          <p:nvPr/>
        </p:nvPicPr>
        <p:blipFill>
          <a:blip r:embed="rId2"/>
          <a:stretch/>
        </p:blipFill>
        <p:spPr>
          <a:xfrm>
            <a:off x="5688000" y="3365640"/>
            <a:ext cx="1008000" cy="1403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928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: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7" name="Rechteck 5"/>
          <p:cNvSpPr/>
          <p:nvPr/>
        </p:nvSpPr>
        <p:spPr>
          <a:xfrm>
            <a:off x="826920" y="1844640"/>
            <a:ext cx="6661440" cy="2068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ти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 „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 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”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нички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.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–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нич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исти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?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18" name="Rechteck 6"/>
          <p:cNvSpPr/>
          <p:nvPr/>
        </p:nvSpPr>
        <p:spPr>
          <a:xfrm>
            <a:off x="719280" y="1160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Слуш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 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.”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24" name="Gerade Verbindung 4"/>
          <p:cNvSpPr/>
          <p:nvPr/>
        </p:nvSpPr>
        <p:spPr>
          <a:xfrm>
            <a:off x="826920" y="1351080"/>
            <a:ext cx="6661440" cy="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hteck 7"/>
          <p:cNvSpPr/>
          <p:nvPr/>
        </p:nvSpPr>
        <p:spPr>
          <a:xfrm>
            <a:off x="755640" y="1108080"/>
            <a:ext cx="738036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: „Слушни 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т 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и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т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у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ух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ли 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из ух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: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звучни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;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- 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рити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je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и 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д филт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 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пусни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пс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г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и д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нив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звучн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г притис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и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рични 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ул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зи у звучник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с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 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je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дн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г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;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мик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ф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;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друг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г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рити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je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и 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 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филт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пусни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пс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г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и д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нив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звучн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г притис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и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рични 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и изл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зи из звучни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с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друг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г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;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дигит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лну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у зву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б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рити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дв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их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у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утврди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ух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1" lang="sr-RS" sz="1500" spc="-1" strike="noStrike">
                <a:solidFill>
                  <a:srgbClr val="c0362b"/>
                </a:solidFill>
                <a:latin typeface="Arial"/>
              </a:rPr>
              <a:t>или ни</a:t>
            </a:r>
            <a:r>
              <a:rPr b="1" lang="en-US" sz="1500" spc="-1" strike="noStrike">
                <a:solidFill>
                  <a:srgbClr val="c0362b"/>
                </a:solidFill>
                <a:latin typeface="Arial"/>
              </a:rPr>
              <a:t>je.”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26" name="Rechteck 8"/>
          <p:cNvSpPr/>
          <p:nvPr/>
        </p:nvSpPr>
        <p:spPr>
          <a:xfrm>
            <a:off x="825480" y="4869000"/>
            <a:ext cx="7346880" cy="15541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: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и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 и 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умљив.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: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и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ђ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, 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 фил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усн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 ни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итис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ли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и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им другим с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ств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 притис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6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27" name="Titel 1"/>
          <p:cNvSpPr/>
          <p:nvPr/>
        </p:nvSpPr>
        <p:spPr>
          <a:xfrm>
            <a:off x="719280" y="512640"/>
            <a:ext cx="7689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к:</a:t>
            </a:r>
            <a:endParaRPr b="0" lang="en-US" sz="2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вит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!</a:t>
            </a:r>
            <a:endParaRPr b="0" lang="en-US" sz="24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33" name="Straight Connector 2"/>
          <p:cNvSpPr/>
          <p:nvPr/>
        </p:nvSpPr>
        <p:spPr>
          <a:xfrm>
            <a:off x="738360" y="1197000"/>
            <a:ext cx="7397640" cy="3465360"/>
          </a:xfrm>
          <a:prstGeom prst="line">
            <a:avLst/>
          </a:prstGeom>
          <a:ln w="284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34" name="Straight Connector 6"/>
          <p:cNvSpPr/>
          <p:nvPr/>
        </p:nvSpPr>
        <p:spPr>
          <a:xfrm flipV="1">
            <a:off x="825480" y="981000"/>
            <a:ext cx="7167600" cy="3681360"/>
          </a:xfrm>
          <a:prstGeom prst="line">
            <a:avLst/>
          </a:prstGeom>
          <a:ln w="284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hteck 9"/>
          <p:cNvSpPr/>
          <p:nvPr/>
        </p:nvSpPr>
        <p:spPr>
          <a:xfrm>
            <a:off x="755640" y="1133640"/>
            <a:ext cx="810108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: „Си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слуш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у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 или 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из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: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- пр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фигури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в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рични 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зву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</a:rPr>
              <a:t>(=&gt;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</a:rPr>
              <a:t>звучник)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;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- пр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рити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вим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зв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в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рични 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с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 пр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и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;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ру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в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фигури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у звучну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у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дру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</a:rPr>
              <a:t>(=&gt;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</a:rPr>
              <a:t>микр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</a:rPr>
              <a:t>ф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</a:rPr>
              <a:t>н)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;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- дру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рити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ругим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зв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руг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рични 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с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 дру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и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; 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у зву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вим и другим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н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ву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рити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и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ру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и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иг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и дру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и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у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у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тврди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 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у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 или 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5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37" name="Rechteck 12"/>
          <p:cNvSpPr/>
          <p:nvPr/>
        </p:nvSpPr>
        <p:spPr>
          <a:xfrm>
            <a:off x="826920" y="5516640"/>
            <a:ext cx="7813800" cy="8636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чи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иц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мик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 с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в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у ух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,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ити ш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д 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кту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j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мик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 изв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ретраживање с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к - </a:t>
            </a:r>
            <a:r>
              <a:rPr b="1" lang="sr-RS" sz="1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400" spc="-1" strike="noStrike">
                <a:solidFill>
                  <a:srgbClr val="ffffff"/>
                </a:solidFill>
                <a:latin typeface="Arial"/>
              </a:rPr>
              <a:t>нтним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4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400" spc="-1" strike="noStrike">
                <a:solidFill>
                  <a:srgbClr val="ffffff"/>
                </a:solidFill>
                <a:latin typeface="Arial"/>
              </a:rPr>
              <a:t>ви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4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38" name="Titel 1"/>
          <p:cNvSpPr/>
          <p:nvPr/>
        </p:nvSpPr>
        <p:spPr>
          <a:xfrm>
            <a:off x="719280" y="512640"/>
            <a:ext cx="7689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к:</a:t>
            </a:r>
            <a:endParaRPr b="0" lang="en-US" sz="2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вит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c575f"/>
                </a:solidFill>
                <a:latin typeface="Arial"/>
              </a:rPr>
              <a:t>e!</a:t>
            </a:r>
            <a:endParaRPr b="0" lang="en-US" sz="24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сних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и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5" name="Textfeld 5"/>
          <p:cNvSpPr/>
          <p:nvPr/>
        </p:nvSpPr>
        <p:spPr>
          <a:xfrm>
            <a:off x="772200" y="1173240"/>
            <a:ext cx="71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 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ж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ШИ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К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T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46" name="Rechteck 7"/>
          <p:cNvSpPr/>
          <p:nvPr/>
        </p:nvSpPr>
        <p:spPr>
          <a:xfrm>
            <a:off x="828720" y="1719360"/>
            <a:ext cx="3979800" cy="13143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ири (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)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и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би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47" name="Rechteck 8"/>
          <p:cNvSpPr/>
          <p:nvPr/>
        </p:nvSpPr>
        <p:spPr>
          <a:xfrm>
            <a:off x="4954680" y="1719360"/>
            <a:ext cx="3760560" cy="16016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к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ни (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)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 су 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и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 би 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ц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ну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у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48" name="Rechteck 9"/>
          <p:cNvSpPr/>
          <p:nvPr/>
        </p:nvSpPr>
        <p:spPr>
          <a:xfrm>
            <a:off x="844560" y="3654360"/>
            <a:ext cx="397980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ири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49" name="Rechteck 10"/>
          <p:cNvSpPr/>
          <p:nvPr/>
        </p:nvSpPr>
        <p:spPr>
          <a:xfrm>
            <a:off x="4957920" y="4421160"/>
            <a:ext cx="375444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к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1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50" name="Rechteck 11"/>
          <p:cNvSpPr/>
          <p:nvPr/>
        </p:nvSpPr>
        <p:spPr>
          <a:xfrm>
            <a:off x="4957920" y="5078520"/>
            <a:ext cx="375444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к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cxnSp>
        <p:nvCxnSpPr>
          <p:cNvPr id="151" name="Form 13"/>
          <p:cNvCxnSpPr>
            <a:stCxn id="148" idx="2"/>
            <a:endCxn id="149" idx="1"/>
          </p:cNvCxnSpPr>
          <p:nvPr/>
        </p:nvCxnSpPr>
        <p:spPr>
          <a:xfrm flipH="1" rot="16200000">
            <a:off x="3641040" y="3359520"/>
            <a:ext cx="511920" cy="2123280"/>
          </a:xfrm>
          <a:prstGeom prst="bentConnector2">
            <a:avLst/>
          </a:prstGeom>
          <a:ln w="25560">
            <a:solidFill>
              <a:srgbClr val="c0362b"/>
            </a:solidFill>
            <a:miter/>
          </a:ln>
        </p:spPr>
      </p:cxnSp>
      <p:cxnSp>
        <p:nvCxnSpPr>
          <p:cNvPr id="152" name="Form 14"/>
          <p:cNvCxnSpPr>
            <a:stCxn id="148" idx="2"/>
            <a:endCxn id="150" idx="1"/>
          </p:cNvCxnSpPr>
          <p:nvPr/>
        </p:nvCxnSpPr>
        <p:spPr>
          <a:xfrm flipH="1" rot="16200000">
            <a:off x="3312360" y="3688200"/>
            <a:ext cx="1169280" cy="2123280"/>
          </a:xfrm>
          <a:prstGeom prst="bentConnector2">
            <a:avLst/>
          </a:prstGeom>
          <a:ln w="25560">
            <a:solidFill>
              <a:srgbClr val="c0362b"/>
            </a:solidFill>
            <a:miter/>
          </a:ln>
        </p:spPr>
      </p:cxnSp>
      <p:sp>
        <p:nvSpPr>
          <p:cNvPr id="15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9" name="Rechteck 3"/>
          <p:cNvSpPr/>
          <p:nvPr/>
        </p:nvSpPr>
        <p:spPr>
          <a:xfrm>
            <a:off x="826920" y="1268280"/>
            <a:ext cx="7993080" cy="6480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1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х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.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60" name="Rechteck 4"/>
          <p:cNvSpPr/>
          <p:nvPr/>
        </p:nvSpPr>
        <p:spPr>
          <a:xfrm>
            <a:off x="2087640" y="2023920"/>
            <a:ext cx="6732360" cy="13338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2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Си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слуш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у зву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сиг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ину зву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вим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зву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61" name="Rechteck 5"/>
          <p:cNvSpPr/>
          <p:nvPr/>
        </p:nvSpPr>
        <p:spPr>
          <a:xfrm>
            <a:off x="2087640" y="3500280"/>
            <a:ext cx="6732360" cy="15843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3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Си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слуш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2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у зву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сиг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ину зву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вим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зву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луш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у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.”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cxnSp>
        <p:nvCxnSpPr>
          <p:cNvPr id="162" name="Form 7"/>
          <p:cNvCxnSpPr>
            <a:stCxn id="160" idx="1"/>
          </p:cNvCxnSpPr>
          <p:nvPr/>
        </p:nvCxnSpPr>
        <p:spPr>
          <a:xfrm rot="10800000">
            <a:off x="1612080" y="1904400"/>
            <a:ext cx="475560" cy="786240"/>
          </a:xfrm>
          <a:prstGeom prst="bentConnector2">
            <a:avLst/>
          </a:prstGeom>
          <a:ln w="25560">
            <a:solidFill>
              <a:srgbClr val="4c575f"/>
            </a:solidFill>
            <a:miter/>
          </a:ln>
        </p:spPr>
      </p:cxnSp>
      <p:cxnSp>
        <p:nvCxnSpPr>
          <p:cNvPr id="163" name="Form 8"/>
          <p:cNvCxnSpPr>
            <a:stCxn id="161" idx="1"/>
          </p:cNvCxnSpPr>
          <p:nvPr/>
        </p:nvCxnSpPr>
        <p:spPr>
          <a:xfrm rot="10800000">
            <a:off x="1612080" y="2666160"/>
            <a:ext cx="475560" cy="1626480"/>
          </a:xfrm>
          <a:prstGeom prst="bentConnector2">
            <a:avLst/>
          </a:prstGeom>
          <a:ln w="25560">
            <a:solidFill>
              <a:srgbClr val="4c575f"/>
            </a:solidFill>
            <a:miter/>
          </a:ln>
        </p:spPr>
      </p:cxnSp>
      <p:sp>
        <p:nvSpPr>
          <p:cNvPr id="164" name="Rechteck 10"/>
          <p:cNvSpPr/>
          <p:nvPr/>
        </p:nvSpPr>
        <p:spPr>
          <a:xfrm>
            <a:off x="809640" y="5470560"/>
            <a:ext cx="8010360" cy="7668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вршити 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ст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о претраживање 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, 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 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рит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, 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,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и 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иг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928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ш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1" name="Inhaltsplatzhalter 2"/>
          <p:cNvSpPr/>
          <p:nvPr/>
        </p:nvSpPr>
        <p:spPr>
          <a:xfrm>
            <a:off x="746280" y="1125360"/>
            <a:ext cx="81104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Прил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м претраживања с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,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ђ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je 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рички 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т,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US 4955729: „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Слушни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т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и с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искључу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je/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укључу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д г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рисник из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ди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с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пр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чи”,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у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j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м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je 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пис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 слич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к.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72" name="Rechteck 9"/>
          <p:cNvSpPr/>
          <p:nvPr/>
        </p:nvSpPr>
        <p:spPr>
          <a:xfrm>
            <a:off x="5543640" y="2133720"/>
            <a:ext cx="3492360" cy="12589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и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 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ри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и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ини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п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с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.”</a:t>
            </a: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971640" y="2673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rcRect l="0" t="12286" r="0" b="0"/>
          <a:stretch/>
        </p:blipFill>
        <p:spPr>
          <a:xfrm>
            <a:off x="6300720" y="3537000"/>
            <a:ext cx="2133720" cy="2052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2"/>
          <a:stretch/>
        </p:blipFill>
        <p:spPr>
          <a:xfrm>
            <a:off x="755640" y="2168640"/>
            <a:ext cx="4608360" cy="3367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5"/>
          <p:cNvSpPr/>
          <p:nvPr/>
        </p:nvSpPr>
        <p:spPr>
          <a:xfrm>
            <a:off x="5759280" y="569736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2: мик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;  5: слуш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иц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;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9: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ч; 3: п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oj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чив</a:t>
            </a: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ч</a:t>
            </a:r>
            <a:endParaRPr b="0" lang="en-US" sz="14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4c575f"/>
                </a:solidFill>
                <a:uFillTx/>
                <a:latin typeface="Arial"/>
              </a:rPr>
              <a:t>	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562120" y="6541920"/>
            <a:ext cx="56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г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ски 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луш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 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17</a:t>
            </a:r>
            <a:endParaRPr b="0" lang="en-US" sz="1200" spc="-1" strike="noStrike" u="sng">
              <a:solidFill>
                <a:srgbClr val="4c575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Isabelle Brandt</dc:creator>
  <dc:description/>
  <dc:language>en-US</dc:language>
  <cp:lastModifiedBy>VUKOV</cp:lastModifiedBy>
  <dcterms:modified xsi:type="dcterms:W3CDTF">2012-04-18T16:11:19Z</dcterms:modified>
  <cp:revision>538</cp:revision>
  <dc:subject/>
  <dc:title>Understanding patent clai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