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EE20-CBF5-47EB-933F-660FE1AE8EF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7137-D809-4098-B23A-92D1A487AAA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ку.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и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и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п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ил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ру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 (чл. 54(2)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а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к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и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у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и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у стру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инд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н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з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и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жи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 (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у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м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њи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гр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људ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љ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(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у стру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ри 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 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(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 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2-4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, 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2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и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вни н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ж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ч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,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н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ja: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123(2)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гим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бит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ин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: 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искључ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пит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р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ja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к 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Жу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ja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з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ни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,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 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/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н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: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д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t =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ск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2.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д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t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хиб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SP 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титити 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ми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T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н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т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/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би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: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људ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или 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њ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ирург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или 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ил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уд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њ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у (ч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53(ц)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ул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у 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и др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цин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, 2000)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ступ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х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с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н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ск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д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и инхиб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HSP 90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у 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ncer Treatment Report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з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укту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ин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 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у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ж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ф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њ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: „Инстр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д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.”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: „Инстр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1,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 10 и 15 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д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43(3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 1 = 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исни 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и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би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T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=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д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ги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(= инхиб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SP 90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=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и 2-4 = 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исни 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ниш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дућ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битн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или в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пр.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2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1 и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1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хиб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SP 90 17-AA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3, будућ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1.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1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д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 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4 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ул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3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2!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1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2, 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д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 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5AE87-1464-477A-AB06-AE40088F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A51C2-97F0-40AE-831F-A401445D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D1274-7ACD-4856-9E5B-CD54CBD5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3CD1C-E97E-4F7D-B502-0F0D6C37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DC4DA-1560-4D21-B1B6-BAC206E3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5280" y="41400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A6D9A-AF4B-44AD-97E1-9F15C3D7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CB9B5-6530-4ECC-AD53-0DA3E96F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184D9-863A-45DD-8DEE-774AA609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5E283-FB81-4F4C-83DD-D7E3734F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ADAA6-4D33-441F-9B48-2ABD0971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A01E5-9144-4D75-8134-2FACB659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1B872-CDF8-4313-82E6-C42A79FF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280" y="41400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42880" indent="-2700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806400" indent="-26172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43040" indent="-83484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Sub-module C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Understanding patent claims - (f) Drug for the treatment of canc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8388360" y="6632640"/>
            <a:ext cx="755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FA30-F8F1-4BF3-847E-DC2C15C331E3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Coloredframe"/>
          <p:cNvSpPr/>
          <p:nvPr/>
        </p:nvSpPr>
        <p:spPr>
          <a:xfrm>
            <a:off x="1208160" y="0"/>
            <a:ext cx="799308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PO_PPT_Titel"/>
          <p:cNvPicPr/>
          <p:nvPr/>
        </p:nvPicPr>
        <p:blipFill>
          <a:blip r:embed="rId3"/>
          <a:stretch/>
        </p:blipFill>
        <p:spPr>
          <a:xfrm>
            <a:off x="0" y="5425920"/>
            <a:ext cx="9144000" cy="1432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42880" indent="-2700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806400" indent="-26172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43040" indent="-83484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736B-27C3-484B-82CA-58B62DDD66BA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60280"/>
            <a:ext cx="7485120" cy="28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br>
              <a:rPr sz="3600"/>
            </a:b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(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ф) Л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к з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3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128000" y="4941720"/>
            <a:ext cx="1584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9280" y="41400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e 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o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8" name="Rechteck 8"/>
          <p:cNvSpPr/>
          <p:nvPr/>
        </p:nvSpPr>
        <p:spPr>
          <a:xfrm>
            <a:off x="826920" y="4149720"/>
            <a:ext cx="6697800" cy="9169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би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нхиби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HSP 90 ...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и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ц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си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ут 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б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ли цисп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, ...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нхибиц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... 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.”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hteck 5"/>
          <p:cNvSpPr/>
          <p:nvPr/>
        </p:nvSpPr>
        <p:spPr>
          <a:xfrm>
            <a:off x="781560" y="1165320"/>
            <a:ext cx="82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упци 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ш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и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 ци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ичних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 при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у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нхиби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HSP90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2" descr=""/>
          <p:cNvPicPr/>
          <p:nvPr/>
        </p:nvPicPr>
        <p:blipFill>
          <a:blip r:embed="rId1"/>
          <a:stretch/>
        </p:blipFill>
        <p:spPr>
          <a:xfrm>
            <a:off x="468360" y="1981080"/>
            <a:ext cx="7200720" cy="17002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5680-C76A-4DFC-BEF3-21E90C3D9F27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ф) 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9280" y="41400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M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ш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-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8" name="Rechteck 3"/>
          <p:cNvSpPr/>
          <p:nvPr/>
        </p:nvSpPr>
        <p:spPr>
          <a:xfrm>
            <a:off x="826920" y="1268280"/>
            <a:ext cx="4167360" cy="186084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п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и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и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д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инхиб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HSP 90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hteck 4"/>
          <p:cNvSpPr/>
          <p:nvPr/>
        </p:nvSpPr>
        <p:spPr>
          <a:xfrm>
            <a:off x="826920" y="3392640"/>
            <a:ext cx="4140360" cy="10792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 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у 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ћ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и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 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ти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 02/1592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hteck 5"/>
          <p:cNvSpPr/>
          <p:nvPr/>
        </p:nvSpPr>
        <p:spPr>
          <a:xfrm>
            <a:off x="826920" y="4702320"/>
            <a:ext cx="7885440" cy="11397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-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и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,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и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и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и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ш 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бу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штић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hteck 6"/>
          <p:cNvSpPr/>
          <p:nvPr/>
        </p:nvSpPr>
        <p:spPr>
          <a:xfrm>
            <a:off x="5097600" y="1268280"/>
            <a:ext cx="3614760" cy="18608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ди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и 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с п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(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пр, цисп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ин) и инхиби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SP 90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иш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и су у 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т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 02/15925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C270-1AB6-4FE2-99B0-357F32B757E1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ф) 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1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9280" y="41400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18920" y="1125360"/>
            <a:ext cx="7848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кр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прил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42880" indent="-270000">
              <a:lnSpc>
                <a:spcPct val="10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С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кр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у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42880" indent="-270000">
              <a:lnSpc>
                <a:spcPct val="10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 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и м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гу изм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ити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пр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бу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(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ћи у виду 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уп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)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у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: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,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16FB-C582-48C3-BB2E-69E984F615E9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ф) 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2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hteck 17"/>
          <p:cNvSpPr/>
          <p:nvPr/>
        </p:nvSpPr>
        <p:spPr>
          <a:xfrm>
            <a:off x="824040" y="5800680"/>
            <a:ext cx="799596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и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гиз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 (виш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итив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hteck 6"/>
          <p:cNvSpPr/>
          <p:nvPr/>
        </p:nvSpPr>
        <p:spPr>
          <a:xfrm>
            <a:off x="824040" y="2844720"/>
            <a:ext cx="7995960" cy="5112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 2: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1 +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нхиб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HSP90 = 17-A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hteck 6"/>
          <p:cNvSpPr/>
          <p:nvPr/>
        </p:nvSpPr>
        <p:spPr>
          <a:xfrm>
            <a:off x="824040" y="4141800"/>
            <a:ext cx="7995960" cy="5112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 4: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1 + 2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д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Pt =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hteck 9"/>
          <p:cNvSpPr/>
          <p:nvPr/>
        </p:nvSpPr>
        <p:spPr>
          <a:xfrm>
            <a:off x="4854240" y="1166760"/>
            <a:ext cx="20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Cancer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 Trea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hteck 17"/>
          <p:cNvSpPr/>
          <p:nvPr/>
        </p:nvSpPr>
        <p:spPr>
          <a:xfrm>
            <a:off x="824040" y="5210280"/>
            <a:ext cx="799596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љш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и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 (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итивни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hteck 6"/>
          <p:cNvSpPr/>
          <p:nvPr/>
        </p:nvSpPr>
        <p:spPr>
          <a:xfrm>
            <a:off x="824040" y="3508200"/>
            <a:ext cx="7995960" cy="5112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 3: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1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д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Pt =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hteck 5"/>
          <p:cNvSpPr/>
          <p:nvPr/>
        </p:nvSpPr>
        <p:spPr>
          <a:xfrm>
            <a:off x="824040" y="2197080"/>
            <a:ext cx="7995960" cy="5112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 1: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нхиб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HSP 90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д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9280" y="41400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п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ђив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 т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4" name="Rechteck 3"/>
          <p:cNvSpPr/>
          <p:nvPr/>
        </p:nvSpPr>
        <p:spPr>
          <a:xfrm>
            <a:off x="5111640" y="1808280"/>
            <a:ext cx="1584360" cy="4608360"/>
          </a:xfrm>
          <a:prstGeom prst="rect">
            <a:avLst/>
          </a:prstGeom>
          <a:solidFill>
            <a:srgbClr val="b3c5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hteck 4"/>
          <p:cNvSpPr/>
          <p:nvPr/>
        </p:nvSpPr>
        <p:spPr>
          <a:xfrm>
            <a:off x="6993000" y="1808280"/>
            <a:ext cx="1611360" cy="4608360"/>
          </a:xfrm>
          <a:prstGeom prst="rect">
            <a:avLst/>
          </a:prstGeom>
          <a:solidFill>
            <a:srgbClr val="b3c5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feld 8"/>
          <p:cNvSpPr/>
          <p:nvPr/>
        </p:nvSpPr>
        <p:spPr>
          <a:xfrm>
            <a:off x="738360" y="1844640"/>
            <a:ext cx="41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T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нич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ист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hteck 10"/>
          <p:cNvSpPr/>
          <p:nvPr/>
        </p:nvSpPr>
        <p:spPr>
          <a:xfrm>
            <a:off x="7012800" y="116064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WO 02/159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feld 19"/>
          <p:cNvSpPr/>
          <p:nvPr/>
        </p:nvSpPr>
        <p:spPr>
          <a:xfrm>
            <a:off x="742680" y="4844880"/>
            <a:ext cx="33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ти/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нички 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ул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feld 29"/>
          <p:cNvSpPr/>
          <p:nvPr/>
        </p:nvSpPr>
        <p:spPr>
          <a:xfrm>
            <a:off x="5524560" y="360216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feld 30"/>
          <p:cNvSpPr/>
          <p:nvPr/>
        </p:nvSpPr>
        <p:spPr>
          <a:xfrm>
            <a:off x="5645520" y="52894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feld 31"/>
          <p:cNvSpPr/>
          <p:nvPr/>
        </p:nvSpPr>
        <p:spPr>
          <a:xfrm>
            <a:off x="5645520" y="58723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feld 32"/>
          <p:cNvSpPr/>
          <p:nvPr/>
        </p:nvSpPr>
        <p:spPr>
          <a:xfrm>
            <a:off x="7690320" y="58723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feld 34"/>
          <p:cNvSpPr/>
          <p:nvPr/>
        </p:nvSpPr>
        <p:spPr>
          <a:xfrm>
            <a:off x="7648560" y="42148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feld 29"/>
          <p:cNvSpPr/>
          <p:nvPr/>
        </p:nvSpPr>
        <p:spPr>
          <a:xfrm>
            <a:off x="5528160" y="2270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feld 29"/>
          <p:cNvSpPr/>
          <p:nvPr/>
        </p:nvSpPr>
        <p:spPr>
          <a:xfrm>
            <a:off x="5528160" y="2917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feld 29"/>
          <p:cNvSpPr/>
          <p:nvPr/>
        </p:nvSpPr>
        <p:spPr>
          <a:xfrm>
            <a:off x="5528160" y="4214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feld 29"/>
          <p:cNvSpPr/>
          <p:nvPr/>
        </p:nvSpPr>
        <p:spPr>
          <a:xfrm>
            <a:off x="7652160" y="3602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feld 29"/>
          <p:cNvSpPr/>
          <p:nvPr/>
        </p:nvSpPr>
        <p:spPr>
          <a:xfrm>
            <a:off x="7652160" y="2917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Group 44"/>
          <p:cNvGrpSpPr/>
          <p:nvPr/>
        </p:nvGrpSpPr>
        <p:grpSpPr>
          <a:xfrm>
            <a:off x="7740720" y="2276280"/>
            <a:ext cx="426960" cy="323640"/>
            <a:chOff x="7740720" y="2276280"/>
            <a:chExt cx="426960" cy="323640"/>
          </a:xfrm>
        </p:grpSpPr>
        <p:sp>
          <p:nvSpPr>
            <p:cNvPr id="250" name="Line 45"/>
            <p:cNvSpPr/>
            <p:nvPr/>
          </p:nvSpPr>
          <p:spPr>
            <a:xfrm>
              <a:off x="7740720" y="239544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46"/>
            <p:cNvSpPr/>
            <p:nvPr/>
          </p:nvSpPr>
          <p:spPr>
            <a:xfrm flipV="1">
              <a:off x="7913880" y="227628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Group 47"/>
          <p:cNvGrpSpPr/>
          <p:nvPr/>
        </p:nvGrpSpPr>
        <p:grpSpPr>
          <a:xfrm>
            <a:off x="7721640" y="5297040"/>
            <a:ext cx="426960" cy="323640"/>
            <a:chOff x="7721640" y="5297040"/>
            <a:chExt cx="426960" cy="323640"/>
          </a:xfrm>
        </p:grpSpPr>
        <p:sp>
          <p:nvSpPr>
            <p:cNvPr id="253" name="Line 48"/>
            <p:cNvSpPr/>
            <p:nvPr/>
          </p:nvSpPr>
          <p:spPr>
            <a:xfrm>
              <a:off x="7721640" y="541620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49"/>
            <p:cNvSpPr/>
            <p:nvPr/>
          </p:nvSpPr>
          <p:spPr>
            <a:xfrm flipV="1">
              <a:off x="7894800" y="529704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4D48-AD42-4A00-96C5-F2A442789406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ф) 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3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19280" y="41400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45920" y="1125000"/>
            <a:ext cx="767844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н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,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би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к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ни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у, 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инст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у п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т.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M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тим,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 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зир с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в 2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у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17-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AG.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к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инхиб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HSP 90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WO 02/15925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уч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би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г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хиб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HSP 90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м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в 3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 уч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 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с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ип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и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.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, будући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WO 02/15925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би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п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г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в 4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ис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у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с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ип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и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17-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AG.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и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гистички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(= виш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итив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).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WO 02/15925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5FF1-F54D-47CD-B43D-9A3AE6FE5DC5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ф) 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4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9280" y="41400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18920" y="1125360"/>
            <a:ext cx="7678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другим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, 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или из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ћ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руч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утинс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или из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ћ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 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,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н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ивним (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н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иг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руч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)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17-AAG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кс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липл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тин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и д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и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гистич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e,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н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ив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792000" y="4473720"/>
            <a:ext cx="1525680" cy="1763640"/>
          </a:xfrm>
          <a:prstGeom prst="rect">
            <a:avLst/>
          </a:prstGeom>
          <a:ln w="0">
            <a:noFill/>
          </a:ln>
        </p:spPr>
      </p:pic>
      <p:sp>
        <p:nvSpPr>
          <p:cNvPr id="272" name="Line 9"/>
          <p:cNvSpPr/>
          <p:nvPr/>
        </p:nvSpPr>
        <p:spPr>
          <a:xfrm>
            <a:off x="2808360" y="5121360"/>
            <a:ext cx="0" cy="395280"/>
          </a:xfrm>
          <a:prstGeom prst="line">
            <a:avLst/>
          </a:prstGeom>
          <a:ln w="763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2627280" y="5318280"/>
            <a:ext cx="360360" cy="0"/>
          </a:xfrm>
          <a:prstGeom prst="line">
            <a:avLst/>
          </a:prstGeom>
          <a:ln w="763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5759280" y="5300640"/>
            <a:ext cx="358920" cy="0"/>
          </a:xfrm>
          <a:prstGeom prst="line">
            <a:avLst/>
          </a:prstGeom>
          <a:ln w="763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5759280" y="5408640"/>
            <a:ext cx="358920" cy="0"/>
          </a:xfrm>
          <a:prstGeom prst="line">
            <a:avLst/>
          </a:prstGeom>
          <a:ln w="763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6305760" y="5132520"/>
            <a:ext cx="260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c575f"/>
                </a:solidFill>
                <a:latin typeface="Arial"/>
              </a:rPr>
              <a:t>(н</a:t>
            </a:r>
            <a:r>
              <a:rPr b="1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c575f"/>
                </a:solidFill>
                <a:latin typeface="Arial"/>
              </a:rPr>
              <a:t>в + инв</a:t>
            </a:r>
            <a:r>
              <a:rPr b="1" lang="en-US" sz="20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c575f"/>
                </a:solidFill>
                <a:latin typeface="Arial"/>
              </a:rPr>
              <a:t>нтив</a:t>
            </a:r>
            <a:r>
              <a:rPr b="1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c575f"/>
                </a:solidFill>
                <a:latin typeface="Arial"/>
              </a:rPr>
              <a:t>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17" descr=""/>
          <p:cNvPicPr/>
          <p:nvPr/>
        </p:nvPicPr>
        <p:blipFill>
          <a:blip r:embed="rId2"/>
          <a:stretch/>
        </p:blipFill>
        <p:spPr>
          <a:xfrm>
            <a:off x="3276720" y="4834080"/>
            <a:ext cx="2377800" cy="11206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8"/>
          <p:cNvSpPr/>
          <p:nvPr/>
        </p:nvSpPr>
        <p:spPr>
          <a:xfrm>
            <a:off x="1154520" y="6165720"/>
            <a:ext cx="115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c575f"/>
                </a:solidFill>
                <a:latin typeface="Arial"/>
              </a:rPr>
              <a:t>R17 = alkylamin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392A-11D8-4040-93C6-A0804EE04732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ф) 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5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hteck 5"/>
          <p:cNvSpPr/>
          <p:nvPr/>
        </p:nvSpPr>
        <p:spPr>
          <a:xfrm>
            <a:off x="826920" y="4170240"/>
            <a:ext cx="865440" cy="29232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hteck 8"/>
          <p:cNvSpPr/>
          <p:nvPr/>
        </p:nvSpPr>
        <p:spPr>
          <a:xfrm>
            <a:off x="741240" y="2211480"/>
            <a:ext cx="951120" cy="29196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35120" y="55836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риги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лни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ис пр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-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у</a:t>
            </a:r>
            <a:br>
              <a:rPr sz="2000"/>
            </a:b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кр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љу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8" name="Textfeld 14"/>
          <p:cNvSpPr/>
          <p:nvPr/>
        </p:nvSpPr>
        <p:spPr>
          <a:xfrm>
            <a:off x="7775640" y="3176640"/>
            <a:ext cx="1368360" cy="13107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лику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 „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feld 15"/>
          <p:cNvSpPr/>
          <p:nvPr/>
        </p:nvSpPr>
        <p:spPr>
          <a:xfrm>
            <a:off x="7775640" y="4583160"/>
            <a:ext cx="1368360" cy="10674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лику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 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WO02/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6516720" y="2852640"/>
            <a:ext cx="934920" cy="28908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19"/>
          <p:cNvSpPr/>
          <p:nvPr/>
        </p:nvSpPr>
        <p:spPr>
          <a:xfrm>
            <a:off x="4932360" y="3213000"/>
            <a:ext cx="1584360" cy="28728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feld 11"/>
          <p:cNvSpPr/>
          <p:nvPr/>
        </p:nvSpPr>
        <p:spPr>
          <a:xfrm>
            <a:off x="7775640" y="1268280"/>
            <a:ext cx="1368360" cy="1797480"/>
          </a:xfrm>
          <a:prstGeom prst="rect">
            <a:avLst/>
          </a:prstGeom>
          <a:solidFill>
            <a:srgbClr val="a8a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к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љу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н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тив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и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ру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ч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хнич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ул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hteck 8"/>
          <p:cNvSpPr/>
          <p:nvPr/>
        </p:nvSpPr>
        <p:spPr>
          <a:xfrm>
            <a:off x="5724360" y="1881360"/>
            <a:ext cx="1584360" cy="29196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hteck 5"/>
          <p:cNvSpPr/>
          <p:nvPr/>
        </p:nvSpPr>
        <p:spPr>
          <a:xfrm>
            <a:off x="826920" y="4508640"/>
            <a:ext cx="5257800" cy="29196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hteck 5"/>
          <p:cNvSpPr/>
          <p:nvPr/>
        </p:nvSpPr>
        <p:spPr>
          <a:xfrm>
            <a:off x="2916360" y="2205000"/>
            <a:ext cx="2484360" cy="29196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hteck 5"/>
          <p:cNvSpPr/>
          <p:nvPr/>
        </p:nvSpPr>
        <p:spPr>
          <a:xfrm>
            <a:off x="4356000" y="4170240"/>
            <a:ext cx="2519640" cy="29232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hteck 5"/>
          <p:cNvSpPr/>
          <p:nvPr/>
        </p:nvSpPr>
        <p:spPr>
          <a:xfrm>
            <a:off x="6012000" y="3840120"/>
            <a:ext cx="1296720" cy="29232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hteck 4"/>
          <p:cNvSpPr/>
          <p:nvPr/>
        </p:nvSpPr>
        <p:spPr>
          <a:xfrm>
            <a:off x="738360" y="1125360"/>
            <a:ext cx="689436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Ta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нхиб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HSP90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д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 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гистичк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нхиб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HSP90 j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ч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17-AAG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д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 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j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 17-AAG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СКСБр-3 ћ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[0093]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с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,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у в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 Ц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17-AAG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цис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у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КБр-3 ћ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3A8F-B0C6-441E-B8A8-159D803219B5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2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ф) 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6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19280" y="41400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ч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719280" y="2384280"/>
            <a:ext cx="72374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1,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з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, г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х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17-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ки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-17-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и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ицин (17-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AG)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ки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hteck 3"/>
          <p:cNvSpPr/>
          <p:nvPr/>
        </p:nvSpPr>
        <p:spPr>
          <a:xfrm>
            <a:off x="826920" y="1268280"/>
            <a:ext cx="6661440" cy="6764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-a: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из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AAF2-11CA-44AC-A4BC-5DA2508BC025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ф) 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7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6875640" y="2565360"/>
            <a:ext cx="1525320" cy="176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"/>
          <p:cNvPicPr/>
          <p:nvPr/>
        </p:nvPicPr>
        <p:blipFill>
          <a:blip r:embed="rId2"/>
          <a:stretch/>
        </p:blipFill>
        <p:spPr>
          <a:xfrm>
            <a:off x="6478560" y="4900680"/>
            <a:ext cx="2378160" cy="1120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5120" y="595440"/>
            <a:ext cx="768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18920" y="1125360"/>
            <a:ext cx="6265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Heat shock”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ин 90 (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HSP 90)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        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шт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ус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х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у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;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Инхиби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р „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heat shock”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 90 (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инхиби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р 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HSP 90)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функ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HSP 90.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: 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ицин или 17-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ки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-17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си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ицин (17-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AG)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рди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и к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п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си п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и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    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си п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д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.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тици.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    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: цисп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н,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н,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п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н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740640" y="4292640"/>
            <a:ext cx="1893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c575f"/>
                </a:solidFill>
                <a:latin typeface="Arial"/>
              </a:rPr>
              <a:t>17-AAG, R</a:t>
            </a:r>
            <a:r>
              <a:rPr b="0" lang="en-GB" sz="1200" spc="-1" strike="noStrike" baseline="-25000">
                <a:solidFill>
                  <a:srgbClr val="4c575f"/>
                </a:solidFill>
                <a:latin typeface="Arial"/>
              </a:rPr>
              <a:t>17 </a:t>
            </a:r>
            <a:r>
              <a:rPr b="0" lang="en-GB" sz="1200" spc="-1" strike="noStrike">
                <a:solidFill>
                  <a:srgbClr val="4c575f"/>
                </a:solidFill>
                <a:latin typeface="Arial"/>
              </a:rPr>
              <a:t>= alkylami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7271640" y="6058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c575f"/>
                </a:solidFill>
                <a:latin typeface="Arial"/>
              </a:rPr>
              <a:t>Oxaliplat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C489-FD51-4EA9-8917-87B2A52E0E80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ф) 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9280" y="41400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5640" y="1123560"/>
            <a:ext cx="76788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н 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бриз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д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,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у, инхиб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HSP 90.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у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фич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п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17-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AG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гистичк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2" name="Inhaltsplatzhalter 2"/>
          <p:cNvSpPr/>
          <p:nvPr/>
        </p:nvSpPr>
        <p:spPr>
          <a:xfrm>
            <a:off x="826920" y="3392640"/>
            <a:ext cx="8137800" cy="298908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штитити п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 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 ими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j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ш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н”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→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у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м? (из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 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н 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”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→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уд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ил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њ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=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зу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 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	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ибилн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ди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с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→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„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”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    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”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чк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 → 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ућ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C116-3458-4F18-86A7-3FF77EA1C9AE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ф) 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hteck 6"/>
          <p:cNvSpPr/>
          <p:nvPr/>
        </p:nvSpPr>
        <p:spPr>
          <a:xfrm>
            <a:off x="738360" y="1160640"/>
            <a:ext cx="62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: „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д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 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9280" y="41400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: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!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1" name="Gerade Verbindung 4"/>
          <p:cNvSpPr/>
          <p:nvPr/>
        </p:nvSpPr>
        <p:spPr>
          <a:xfrm>
            <a:off x="822240" y="1335240"/>
            <a:ext cx="5765760" cy="31680"/>
          </a:xfrm>
          <a:prstGeom prst="line">
            <a:avLst/>
          </a:prstGeom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hteck 5"/>
          <p:cNvSpPr/>
          <p:nvPr/>
        </p:nvSpPr>
        <p:spPr>
          <a:xfrm>
            <a:off x="822240" y="1622520"/>
            <a:ext cx="7818480" cy="9169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T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д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 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и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у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м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.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 з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у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в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и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hteck 7"/>
          <p:cNvSpPr/>
          <p:nvPr/>
        </p:nvSpPr>
        <p:spPr>
          <a:xfrm>
            <a:off x="738360" y="2852640"/>
            <a:ext cx="77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: „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д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 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н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hteck 8"/>
          <p:cNvSpPr/>
          <p:nvPr/>
        </p:nvSpPr>
        <p:spPr>
          <a:xfrm>
            <a:off x="826920" y="3616200"/>
            <a:ext cx="7777440" cy="36828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му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ис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hteck 9"/>
          <p:cNvSpPr/>
          <p:nvPr/>
        </p:nvSpPr>
        <p:spPr>
          <a:xfrm>
            <a:off x="719280" y="4257720"/>
            <a:ext cx="77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: „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д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 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Gerade Verbindung 10"/>
          <p:cNvSpPr/>
          <p:nvPr/>
        </p:nvSpPr>
        <p:spPr>
          <a:xfrm>
            <a:off x="830160" y="3040200"/>
            <a:ext cx="7594560" cy="1440"/>
          </a:xfrm>
          <a:prstGeom prst="line">
            <a:avLst/>
          </a:prstGeom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hteck 12"/>
          <p:cNvSpPr/>
          <p:nvPr/>
        </p:nvSpPr>
        <p:spPr>
          <a:xfrm>
            <a:off x="826920" y="5013360"/>
            <a:ext cx="7813800" cy="9716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жив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к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 у з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у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з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Gerade Verbindung 10"/>
          <p:cNvSpPr/>
          <p:nvPr/>
        </p:nvSpPr>
        <p:spPr>
          <a:xfrm>
            <a:off x="828720" y="3321000"/>
            <a:ext cx="2230560" cy="7920"/>
          </a:xfrm>
          <a:prstGeom prst="line">
            <a:avLst/>
          </a:prstGeom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12CB-D152-469F-BDF0-B57CE4D3616A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ф) 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4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9280" y="41400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 п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6" name="Inhaltsplatzhalter 2"/>
          <p:cNvSpPr/>
          <p:nvPr/>
        </p:nvSpPr>
        <p:spPr>
          <a:xfrm>
            <a:off x="755640" y="1125360"/>
            <a:ext cx="76788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ил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 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ж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ч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 у ч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ису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j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Cancer Treatment Reports” 67(3) 235-238, 198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... 2 [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ки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]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ц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...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у цис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60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mg/m</a:t>
            </a:r>
            <a:r>
              <a:rPr b="0" lang="en-US" sz="1800" spc="-1" strike="noStrike" baseline="30000">
                <a:solidFill>
                  <a:srgbClr val="4c575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..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826920" y="3613320"/>
            <a:ext cx="7345440" cy="7520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ди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и 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с п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(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исп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ин) 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бу 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ћ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 из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 ч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 ч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ису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FFD6-BE92-47F1-8D98-AC9C5595010C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ф) 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5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41400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У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ђ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д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5" name="Rechteck 3"/>
          <p:cNvSpPr/>
          <p:nvPr/>
        </p:nvSpPr>
        <p:spPr>
          <a:xfrm>
            <a:off x="826920" y="1257480"/>
            <a:ext cx="3457800" cy="7300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 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тним 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х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ви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hteck 4"/>
          <p:cNvSpPr/>
          <p:nvPr/>
        </p:nvSpPr>
        <p:spPr>
          <a:xfrm>
            <a:off x="4888080" y="1257480"/>
            <a:ext cx="3213000" cy="7300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Ч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cer Treatment Report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hteck 5"/>
          <p:cNvSpPr/>
          <p:nvPr/>
        </p:nvSpPr>
        <p:spPr>
          <a:xfrm>
            <a:off x="819000" y="2133720"/>
            <a:ext cx="3465720" cy="197964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д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hteck 6"/>
          <p:cNvSpPr/>
          <p:nvPr/>
        </p:nvSpPr>
        <p:spPr>
          <a:xfrm>
            <a:off x="4888080" y="2133720"/>
            <a:ext cx="3213000" cy="19717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... 2 [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кињ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]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ци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д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у цисп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у д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60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mg/m</a:t>
            </a:r>
            <a:r>
              <a:rPr b="0" lang="en-GB" sz="1800" spc="-1" strike="noStrike" baseline="30000">
                <a:solidFill>
                  <a:srgbClr val="4c575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 ..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hteck 9"/>
          <p:cNvSpPr/>
          <p:nvPr/>
        </p:nvSpPr>
        <p:spPr>
          <a:xfrm>
            <a:off x="816120" y="4565520"/>
            <a:ext cx="3468600" cy="120492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ди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 инхиби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HSP 90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бу ..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feld 10"/>
          <p:cNvSpPr/>
          <p:nvPr/>
        </p:nvSpPr>
        <p:spPr>
          <a:xfrm rot="19975200">
            <a:off x="714600" y="2592720"/>
            <a:ext cx="353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5400" spc="-1" strike="noStrike">
                <a:solidFill>
                  <a:srgbClr val="c0362b"/>
                </a:solidFill>
                <a:latin typeface="Arial"/>
              </a:rPr>
              <a:t>Ни</a:t>
            </a:r>
            <a:r>
              <a:rPr b="1" lang="en-US" sz="54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1" lang="sr-RS" sz="54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US" sz="5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54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1" lang="en-US" sz="5400" spc="-1" strike="noStrike">
                <a:solidFill>
                  <a:srgbClr val="c0362b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feld 11"/>
          <p:cNvSpPr/>
          <p:nvPr/>
        </p:nvSpPr>
        <p:spPr>
          <a:xfrm>
            <a:off x="4848120" y="4473720"/>
            <a:ext cx="40449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c03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c03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н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ивни н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 (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с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љ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љш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A808-97EB-4280-8159-A4E9FE73A3A1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ф) 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6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87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90,-112,10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87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90,-112,10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19280" y="41400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иту 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9" name="Rechteck 3"/>
          <p:cNvSpPr/>
          <p:nvPr/>
        </p:nvSpPr>
        <p:spPr>
          <a:xfrm>
            <a:off x="826920" y="1268280"/>
            <a:ext cx="5988240" cy="193356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 ћ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бити п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д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инхиб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HSP 90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0F95-F363-4B83-B4E0-544B293980E3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ф) 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7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9280" y="41400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ишћ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сних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и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љш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7" name="Textfeld 5"/>
          <p:cNvSpPr/>
          <p:nvPr/>
        </p:nvSpPr>
        <p:spPr>
          <a:xfrm>
            <a:off x="790920" y="1160640"/>
            <a:ext cx="71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 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рж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ши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цифич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hteck 7"/>
          <p:cNvSpPr/>
          <p:nvPr/>
        </p:nvSpPr>
        <p:spPr>
          <a:xfrm>
            <a:off x="826920" y="1844640"/>
            <a:ext cx="3980160" cy="17128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Шири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сни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j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 су из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бит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исти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 бу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биђ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hteck 8"/>
          <p:cNvSpPr/>
          <p:nvPr/>
        </p:nvSpPr>
        <p:spPr>
          <a:xfrm>
            <a:off x="4937040" y="1860480"/>
            <a:ext cx="3775320" cy="17128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Шир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и з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сни з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н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сни з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и д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н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финишу ж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 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к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hteck 9"/>
          <p:cNvSpPr/>
          <p:nvPr/>
        </p:nvSpPr>
        <p:spPr>
          <a:xfrm>
            <a:off x="826920" y="3906720"/>
            <a:ext cx="398016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сни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hteck 10"/>
          <p:cNvSpPr/>
          <p:nvPr/>
        </p:nvSpPr>
        <p:spPr>
          <a:xfrm>
            <a:off x="4948200" y="4673520"/>
            <a:ext cx="376416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сни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hteck 11"/>
          <p:cNvSpPr/>
          <p:nvPr/>
        </p:nvSpPr>
        <p:spPr>
          <a:xfrm>
            <a:off x="4948200" y="5330880"/>
            <a:ext cx="376416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сни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3" name="Form 13"/>
          <p:cNvCxnSpPr>
            <a:stCxn id="170" idx="2"/>
            <a:endCxn id="171" idx="1"/>
          </p:cNvCxnSpPr>
          <p:nvPr/>
        </p:nvCxnSpPr>
        <p:spPr>
          <a:xfrm flipH="1" rot="16200000">
            <a:off x="3627360" y="3607920"/>
            <a:ext cx="511920" cy="2131200"/>
          </a:xfrm>
          <a:prstGeom prst="bentConnector2">
            <a:avLst/>
          </a:prstGeom>
          <a:ln w="25560">
            <a:solidFill>
              <a:srgbClr val="c0362b"/>
            </a:solidFill>
            <a:miter/>
          </a:ln>
        </p:spPr>
      </p:cxnSp>
      <p:cxnSp>
        <p:nvCxnSpPr>
          <p:cNvPr id="174" name="Form 14"/>
          <p:cNvCxnSpPr>
            <a:stCxn id="170" idx="2"/>
            <a:endCxn id="172" idx="1"/>
          </p:cNvCxnSpPr>
          <p:nvPr/>
        </p:nvCxnSpPr>
        <p:spPr>
          <a:xfrm flipH="1" rot="16200000">
            <a:off x="3298680" y="3936600"/>
            <a:ext cx="1169280" cy="2131200"/>
          </a:xfrm>
          <a:prstGeom prst="bentConnector2">
            <a:avLst/>
          </a:prstGeom>
          <a:ln w="25560">
            <a:solidFill>
              <a:srgbClr val="c0362b"/>
            </a:solidFill>
            <a:miter/>
          </a:ln>
        </p:spPr>
      </p:cxnSp>
      <p:sp>
        <p:nvSpPr>
          <p:cNvPr id="17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F507-8A1B-4A29-92B0-30FCA5A42E75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ф) 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8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Line 11"/>
          <p:cNvSpPr/>
          <p:nvPr/>
        </p:nvSpPr>
        <p:spPr>
          <a:xfrm>
            <a:off x="1150920" y="2313000"/>
            <a:ext cx="0" cy="1584360"/>
          </a:xfrm>
          <a:prstGeom prst="line">
            <a:avLst/>
          </a:prstGeom>
          <a:ln w="381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1150920" y="3897360"/>
            <a:ext cx="541440" cy="0"/>
          </a:xfrm>
          <a:prstGeom prst="line">
            <a:avLst/>
          </a:prstGeom>
          <a:ln w="381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1150920" y="3105000"/>
            <a:ext cx="541440" cy="0"/>
          </a:xfrm>
          <a:prstGeom prst="line">
            <a:avLst/>
          </a:prstGeom>
          <a:ln w="381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9280" y="378000"/>
            <a:ext cx="768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 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ск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м з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у з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br>
              <a:rPr sz="2000"/>
            </a:b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 (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)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5" name="Rechteck 3"/>
          <p:cNvSpPr/>
          <p:nvPr/>
        </p:nvSpPr>
        <p:spPr>
          <a:xfrm>
            <a:off x="825480" y="1284120"/>
            <a:ext cx="7275600" cy="113688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T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1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д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инхиб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HSP 90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hteck 4"/>
          <p:cNvSpPr/>
          <p:nvPr/>
        </p:nvSpPr>
        <p:spPr>
          <a:xfrm>
            <a:off x="1674720" y="2627280"/>
            <a:ext cx="6426360" cy="6937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2: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у 1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нхиб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HSP 90 17-AAG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hteck 5"/>
          <p:cNvSpPr/>
          <p:nvPr/>
        </p:nvSpPr>
        <p:spPr>
          <a:xfrm>
            <a:off x="1674720" y="3490920"/>
            <a:ext cx="6426360" cy="6937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3: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би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у 1 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ди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 п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п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hteck 10"/>
          <p:cNvSpPr/>
          <p:nvPr/>
        </p:nvSpPr>
        <p:spPr>
          <a:xfrm>
            <a:off x="809640" y="5397480"/>
            <a:ext cx="7866000" cy="8031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извршић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ст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жи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, 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 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рити 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И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 У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,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и 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чиг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hteck 5"/>
          <p:cNvSpPr/>
          <p:nvPr/>
        </p:nvSpPr>
        <p:spPr>
          <a:xfrm>
            <a:off x="1674720" y="4319640"/>
            <a:ext cx="6426360" cy="6937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4: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би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т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у 2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ди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 п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п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0" name="AutoShape 17"/>
          <p:cNvCxnSpPr>
            <a:endCxn id="186" idx="1"/>
          </p:cNvCxnSpPr>
          <p:nvPr/>
        </p:nvCxnSpPr>
        <p:spPr>
          <a:xfrm flipH="1" rot="10800000">
            <a:off x="1673640" y="2974320"/>
            <a:ext cx="2520" cy="1693080"/>
          </a:xfrm>
          <a:prstGeom prst="bentConnector3">
            <a:avLst>
              <a:gd name="adj1" fmla="val -14400000"/>
            </a:avLst>
          </a:prstGeom>
          <a:ln w="28440">
            <a:solidFill>
              <a:srgbClr val="c0362b"/>
            </a:solidFill>
            <a:miter/>
          </a:ln>
        </p:spPr>
      </p:cxnSp>
      <p:sp>
        <p:nvSpPr>
          <p:cNvPr id="19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2832-6043-4373-A951-8116327D2749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ф) 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9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29:21Z</dcterms:created>
  <dc:creator>rf40150</dc:creator>
  <dc:description/>
  <dc:language>en-US</dc:language>
  <cp:lastModifiedBy>VUKOV</cp:lastModifiedBy>
  <dcterms:modified xsi:type="dcterms:W3CDTF">2012-04-16T10:39:35Z</dcterms:modified>
  <cp:revision>49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hema">
    <vt:lpwstr>red</vt:lpwstr>
  </property>
</Properties>
</file>