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54C-5DDC-4C75-8DB8-98E1528378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E896-B9C3-4D5B-9AC7-5D3A714FA21D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06FB-020E-4F5B-A1C5-9A02AEBC66F5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28. 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2001: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р.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B0115850;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is Innovation Ltd;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lcolm Green, Tiancun Xia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лу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р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џ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M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упнику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и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упник 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кљу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м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л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р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),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12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 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ш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им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тр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ештај о претраживању сти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 Бр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етраживањ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,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у 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у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,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служ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и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, друг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п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и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j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,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оком претраживања 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ит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2001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и 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, узим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ћ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бзир т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г 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тупни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тд.?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умул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ивни т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и 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j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 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бич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з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: 3.000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фунти = 3.800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E234-3AE0-463B-AD2B-AF1A5CBE0049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12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луку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у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ли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слу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,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р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,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тн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ум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/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ум 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им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,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„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”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 приступ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и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у будућ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умул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ивни т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и 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j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 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 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г т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ут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бич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з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: 8.500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фунти = 10.500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F5B-EDF0-4E8D-8382-CD921C8C4F1E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упн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уп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з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слу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, ф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п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ки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у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, тим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ступи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а доказ концепта и „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ed”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ондовима ч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j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и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2003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р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личитим 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уп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з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лиж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у у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у 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,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у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з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упљ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42A3-2F77-4437-A951-662ADF7C5071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их 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 у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у 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 у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30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PCT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ата 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 нису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ли н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ч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и 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  бит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р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с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орисника 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лу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уп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з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уду стигл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ж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р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их тржи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ли прису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у и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, 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умул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ивни т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и 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j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 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 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г т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у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бич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з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: 16.000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фунти = 20.000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них при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 и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и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мљ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EE73-4963-441F-B2FA-907C1117AE89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м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ључ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лу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у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ут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у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п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кључ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CT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/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и у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о претраживању?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ч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испит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 приз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ључим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и м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гу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з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тичу 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с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г п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рци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e, 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ључ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с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жи у 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мишљ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т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 уп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им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751F-A5F2-4B7D-829B-9FE5EE1A3B01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тић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људ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ич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у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ржиш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џ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 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сф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је 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чним 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ниц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у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у тржиш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 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ним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т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 кл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 су 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и у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љи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и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и 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 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j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и у 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у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с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сти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ућ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и 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п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 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ин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ућ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 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љи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ч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з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ити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с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х ку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убли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 ст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у бити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с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ми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 б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људи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уди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цу 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ст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нити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у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у 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9FFA-CC44-457E-8806-822ADB520CB1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лу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2004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и пут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жи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: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у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ил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„spin-off”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дуст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,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су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у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них 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жи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них 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ички приступ. Иску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удст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б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ћ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 губит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 ИС б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д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ћ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пли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упу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.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лу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B409-91E3-4463-AED8-8E88D86D741E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 б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упити у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ки тим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слу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,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у 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му 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кључ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л Бартон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Barton)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(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30 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ку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дуст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)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н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вни д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Рој Липски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y Lipski)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(у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ни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ик)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ни извршни д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(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у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их ин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струч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дуст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 с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тд.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с у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ким т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 и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л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ни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иц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бит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ну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виз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будућ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(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 из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is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у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ким т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ич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кључ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у,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ви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ћи с ин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ћи п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1C83-C60A-4D07-A9ED-1F38CC020205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и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и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б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2005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Oxford Catalysts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куп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ближ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640.000 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 у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купи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шку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.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куп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у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утим,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р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2006. …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Oxford Catalysts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куп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ближ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20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л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из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ку 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IM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вних ин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умул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ивни т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и 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j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 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 д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г т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ут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бич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з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: 21 000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ФУ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 = 26 500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a je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с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ристил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р у прикљупљ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њу фин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си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ких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ст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5C1D-E314-4A45-9CC6-BCA24A805D3C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xford Catalysts Pl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a 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стингу 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 ч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 (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ључ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 2008) из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и 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</a:rPr>
              <a:t>90 мил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 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икупи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</a:rPr>
              <a:t>мил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фи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с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ких с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кун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и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 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ч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ст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чки 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ључ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 2008,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 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25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х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 из 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 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личит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, 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ру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ћ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и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ки 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 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х ви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них 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и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и 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ч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 Уни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 с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ни т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 су Уни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у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и с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ни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тф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удућ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и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их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 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ww.oxfordcatalysts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с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 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29D7-00D7-485E-8478-BDF90EDCF203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ич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удућ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и, 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 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,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je Oxford Catalysts,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т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 с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 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уштински з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. 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х људ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 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фи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с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ким с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ств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у суштински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ндустр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ти 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в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И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њи 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т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з индустр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ним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чи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с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 лиц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ци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 ћ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ругим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њу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ућити 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 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у 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 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e (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ц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и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ни т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 чи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,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з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и 20 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j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 з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и 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би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фи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с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ки исп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ив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 испити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уни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ним испити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,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и утврђ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 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 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у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 приз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удски т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и у случ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т 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заштитите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уду (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ж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тв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ити фи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нс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прих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 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у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</a:rPr>
              <a:t>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561-2EFB-451E-83DE-C3B0B5688894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M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 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и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Oxford Catalyst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C972-E3E8-4FC1-B9F8-9A63BD65775D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с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дски у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ик и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)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уту У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 дру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is Innovation Ltd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их 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ск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х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с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 искусни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н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џ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Isis Innovation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1987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Isis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м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ним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иц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 ж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л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ни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ици,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,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х и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j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н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у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У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.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 укључ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м и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и 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у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м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р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их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ул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ских услу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з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у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ли „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in-off”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удућ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ни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ици 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ул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и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лустр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ни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кр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ви пут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пи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м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ив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 у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н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-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циљу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ш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, 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лт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 при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(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буду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т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ћи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ш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у 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)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циљ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„spin-off”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)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лт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 у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у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при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них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ти уступ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ш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92A9-FDB5-4F5F-BD41-2D5DA3FDDF8E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j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 1963. 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м Грин (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lcolm Green)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први пут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с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д (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1989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M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м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 б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ик 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ку 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с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ду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1990, M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м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с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ature,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ун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мич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си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,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и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 б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-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у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1999, M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му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друж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 Ш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(Tiancun Xiao)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с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д сти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 К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дуст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их д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ли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унк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-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бидних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циљу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х и 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х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ки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дуст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,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 су 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с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с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дуст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з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њ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), при 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скључив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присуству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њу 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их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х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и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з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њ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), при 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у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и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и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в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скључив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присуств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њ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их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х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ини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8B0E-C570-4C96-A379-15C17389D40F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2000. 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с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ти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их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или су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т у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у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у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у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им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 л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у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т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ове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M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м 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ли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с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дски у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F82E-DC9C-45CE-9E83-53477ACD96C7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: з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/узбудљив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су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к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су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у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у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 пр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их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 из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жи уг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к,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из б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 си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них 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ни б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ну 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,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к? Сам водоник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т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 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ч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и 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или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ни уг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ци, 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ћ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, у п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у 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ти п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 у 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к 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уду 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ни 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. К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 у п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у 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 чи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ти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 и 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 бр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ус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у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вних ћ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 п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т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и п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дст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 фин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нс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ки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ктивн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тржишт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у п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Arial"/>
              </a:rPr>
              <a:t>с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л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т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и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в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у 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с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дс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уни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пу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г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с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ду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1A9F-0A54-443F-9F85-ABD95B13A39F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ти 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испу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ит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б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 (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 у 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у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ивни 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(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руч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индуст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и п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ив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итит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?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(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 изу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 у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им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изу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ибил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и,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53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-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je Isis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 б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  ун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з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 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иш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?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дуст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у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т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у 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у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ти у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ч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ти 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ух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 (решерш) 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ури. 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spacenet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 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ути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н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ш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кључних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(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Google-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) и 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виру структу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ф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24C5-34ED-4678-8A28-FD4938B65214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кунов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и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с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ми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зврш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e diligence”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жи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пит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их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них чин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жишт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?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дуст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при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у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(структу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жи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с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ит, 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ћи у виду 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уп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з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у с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им прих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с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уступ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у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ш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и 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у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 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?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рш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j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ш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хн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 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ку,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 ћ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ник 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„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” (freedom to operate)?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ругим 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 би би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 корисник ли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ст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и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,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у з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и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,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is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ми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иш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 в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, 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бљ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у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j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лу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би, 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р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ч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иш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мис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у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ти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т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спити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 у с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зи 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туп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изн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 пр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дуст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ти у случ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у д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ситу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29AE5-5886-4875-9C5F-14688813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024F4-61FB-46B5-A76D-F378D4FF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C79A9-C1A5-4C1E-92A4-535F8D4C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CD550-F559-43E0-BCE9-BC8C39E2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77F3B-3B89-443F-8439-ACD324A2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E7107-4AB0-457B-8C6F-EDADCE4C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4D1CE-D8FF-4FED-BBEE-D27EB6CE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CDD4F-9542-477D-A668-7DA38369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1BDA3-0939-4CE1-9FE6-9C4C101D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B91C2-3F95-4813-B8BD-3F4FD6E0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4845D-6DA7-452D-8346-8B807CA7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FFBBE-ADCA-42FE-92E7-35EF9384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22240" indent="-284040">
              <a:lnSpc>
                <a:spcPct val="12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Rectangle 1032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" name="Picture 1033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Sub-module B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The use of patents by a university spin-off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8388360" y="6632640"/>
            <a:ext cx="75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E5F6-9691-401C-96A9-4BF739BE443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22240" indent="-284040">
              <a:lnSpc>
                <a:spcPct val="12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4B24-C122-4592-A476-8309AC52A5FE}" type="datetime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507D-503E-4B82-B22E-D57CCF84E476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58920"/>
            <a:ext cx="753264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д стр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"spin-off"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4581360"/>
            <a:ext cx="8496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496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ст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(28. 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2001.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џ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у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Isis Innovation Ltd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три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: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ештај о претраживању из 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2636-C15E-4B76-9989-CC83C899B820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лу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PCT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67880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12 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р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р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и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(PCT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771840" y="11714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21. 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н 2002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B9AB-E841-407B-982F-EB8A009F6CD1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 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 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и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(2002-2004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ни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T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и д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 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 2003.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ч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ри 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M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(PCT)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ближ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упљи!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и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зи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д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и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и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3213-D8CA-47A1-A352-F707FBC3E2BC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ски п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 и п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 у 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и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5640" y="1696680"/>
            <a:ext cx="76788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/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ата 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пр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у Кини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ж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рици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 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-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762120" y="3886200"/>
            <a:ext cx="4419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755640" y="11905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 д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б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2003.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E277-4588-4152-B585-CC8D988D3AB2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 кључних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лу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и с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ки у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)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у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ут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у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у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кључ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м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PCT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/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ш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e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FCA6-5060-410E-B8D9-4C7067760634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4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жи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67880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жи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 с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им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к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љ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,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нг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уб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762120" y="39625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1320-19AB-4C9C-B6F0-BA8C1EF52CB0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5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0280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ут 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жишту - лиц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ц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ли "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pin-off"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личит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у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л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у индуст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(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кус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индуст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вних 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ички приступ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д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т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 их др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пу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ј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кун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ам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л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"spin-off"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8120-B684-46C4-BC6F-F2B05B3CA988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6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н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"spin-off"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(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2004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678800" cy="31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ки тим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б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чни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иц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су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ну у к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виз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удућ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40" name="Picture 4" descr="C:\Documents and Settings\TerryP\Desktop\Ox Cat photos\ace_IMG_1481.jpg"/>
          <p:cNvPicPr/>
          <p:nvPr/>
        </p:nvPicPr>
        <p:blipFill>
          <a:blip r:embed="rId1"/>
          <a:stretch/>
        </p:blipFill>
        <p:spPr>
          <a:xfrm>
            <a:off x="826920" y="4149720"/>
            <a:ext cx="3248280" cy="21668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4102200" y="609300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ил, Рој и Тијанкун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DD27-08DD-48F1-BA01-2005F4F5E54F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7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и 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 прикуп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765080"/>
            <a:ext cx="7678800" cy="17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indent="-2638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дате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38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б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2005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Oxford Catalysts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куп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 640.000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1000" indent="-2653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 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уштински 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6715080" y="3357720"/>
            <a:ext cx="2108160" cy="3016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762120" y="4152960"/>
            <a:ext cx="5486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куп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je 20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з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вних 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66440" y="1190520"/>
            <a:ext cx="19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б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 2005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765000" y="3573360"/>
            <a:ext cx="15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ил 2006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ADBD-F4EF-4002-AF77-18CF40B79D31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8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xford Catalysts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61" name="Picture 6" descr="C:\Documents and Settings\TerryP\Desktop\Ox Cat photos\lab-staff-group_ORL5902.jpg"/>
          <p:cNvPicPr/>
          <p:nvPr/>
        </p:nvPicPr>
        <p:blipFill>
          <a:blip r:embed="rId1"/>
          <a:stretch/>
        </p:blipFill>
        <p:spPr>
          <a:xfrm>
            <a:off x="4915080" y="2997360"/>
            <a:ext cx="3760560" cy="2500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C:\Documents and Settings\TerryP\Desktop\Ox Cat photos\Image_spider16_robert.jpg"/>
          <p:cNvPicPr/>
          <p:nvPr/>
        </p:nvPicPr>
        <p:blipFill>
          <a:blip r:embed="rId2"/>
          <a:stretch/>
        </p:blipFill>
        <p:spPr>
          <a:xfrm>
            <a:off x="844560" y="2997360"/>
            <a:ext cx="3798720" cy="252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755640" y="1125360"/>
            <a:ext cx="626436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стингу 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ч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 и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90 мил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љу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2008)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икупљ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je 25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ил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17EA-FBDC-42A0-B1FE-1E7EB908E102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9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рукту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уди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луч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j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62247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з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ки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жи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„spin-off”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2A7A-23AA-4D1F-AAC2-CC6BC0BB5AF3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1374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 су били кључ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ств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у к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8459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0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ници 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0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кључ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ћи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0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дски 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у слу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аштитите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д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0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 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уштински 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в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22240" indent="-284040">
              <a:lnSpc>
                <a:spcPct val="10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х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22240" indent="-284040">
              <a:lnSpc>
                <a:spcPct val="10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хунских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ч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822240" indent="-284040">
              <a:lnSpc>
                <a:spcPct val="100000"/>
              </a:lnSpc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р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0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лиценцирање технологије, у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826920" y="1052640"/>
            <a:ext cx="7263000" cy="14101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у к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ви т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j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м, к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o je Oxford Catalysts,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штић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кључн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дств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изгр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дњу п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.”                                                         T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иј</a:t>
            </a:r>
            <a:r>
              <a:rPr b="0" i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нкун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2BA5-16EF-4B87-A053-17D6DC89A5E9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0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ф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нф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e,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б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e9ba5"/>
                </a:solidFill>
                <a:uFillTx/>
                <a:latin typeface="Arial"/>
              </a:rPr>
              <a:t>http://www.isis-innovation.com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e9ba5"/>
                </a:solidFill>
                <a:uFillTx/>
                <a:latin typeface="Arial"/>
              </a:rPr>
              <a:t>http://www.oxfordcatalysts.com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ли 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ерију Поларду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e9ba5"/>
                </a:solidFill>
                <a:uFillTx/>
                <a:latin typeface="Arial"/>
              </a:rPr>
              <a:t>terry.pollard@isis.ox.ac.uk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CF1A-1D7B-432C-9ACB-D47CD4CD9DED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1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ц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сф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 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0040" y="1125360"/>
            <a:ext cx="6178320" cy="37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дски у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з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ик 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)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м 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чни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ици,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,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sis Innovation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з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врши 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08" name="Picture 6" descr="C:\Documents and Settings\TerryP\Desktop\ColourCrop.jpg"/>
          <p:cNvPicPr/>
          <p:nvPr/>
        </p:nvPicPr>
        <p:blipFill>
          <a:blip r:embed="rId1"/>
          <a:stretch/>
        </p:blipFill>
        <p:spPr>
          <a:xfrm>
            <a:off x="7000920" y="1252440"/>
            <a:ext cx="1662120" cy="663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826920" y="4734000"/>
            <a:ext cx="1678320" cy="6937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кр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255840" y="4579920"/>
            <a:ext cx="2300400" cy="100008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нг 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613560" y="5132520"/>
            <a:ext cx="1785960" cy="5396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613560" y="4437000"/>
            <a:ext cx="1785960" cy="53964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"spin-off"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cxnSp>
        <p:nvCxnSpPr>
          <p:cNvPr id="113" name="Gerade Verbindung mit Pfeil 46"/>
          <p:cNvCxnSpPr>
            <a:stCxn id="109" idx="3"/>
            <a:endCxn id="110" idx="1"/>
          </p:cNvCxnSpPr>
          <p:nvPr/>
        </p:nvCxnSpPr>
        <p:spPr>
          <a:xfrm flipV="1">
            <a:off x="2504880" y="5079240"/>
            <a:ext cx="751320" cy="2520"/>
          </a:xfrm>
          <a:prstGeom prst="straightConnector1">
            <a:avLst/>
          </a:prstGeom>
          <a:ln w="19080">
            <a:solidFill>
              <a:srgbClr val="4c575f"/>
            </a:solidFill>
            <a:miter/>
            <a:tailEnd len="med" type="arrow" w="med"/>
          </a:ln>
        </p:spPr>
      </p:cxnSp>
      <p:cxnSp>
        <p:nvCxnSpPr>
          <p:cNvPr id="114" name="Gerade Verbindung mit Pfeil 51"/>
          <p:cNvCxnSpPr>
            <a:stCxn id="110" idx="3"/>
            <a:endCxn id="111" idx="1"/>
          </p:cNvCxnSpPr>
          <p:nvPr/>
        </p:nvCxnSpPr>
        <p:spPr>
          <a:xfrm>
            <a:off x="5555880" y="5079600"/>
            <a:ext cx="1058040" cy="322920"/>
          </a:xfrm>
          <a:prstGeom prst="straightConnector1">
            <a:avLst/>
          </a:prstGeom>
          <a:ln w="19080">
            <a:solidFill>
              <a:srgbClr val="4c575f"/>
            </a:solidFill>
            <a:miter/>
            <a:tailEnd len="med" type="arrow" w="med"/>
          </a:ln>
        </p:spPr>
      </p:cxnSp>
      <p:cxnSp>
        <p:nvCxnSpPr>
          <p:cNvPr id="115" name="Gerade Verbindung mit Pfeil 52"/>
          <p:cNvCxnSpPr>
            <a:stCxn id="110" idx="3"/>
            <a:endCxn id="112" idx="1"/>
          </p:cNvCxnSpPr>
          <p:nvPr/>
        </p:nvCxnSpPr>
        <p:spPr>
          <a:xfrm flipV="1">
            <a:off x="5555880" y="4706640"/>
            <a:ext cx="1058040" cy="373680"/>
          </a:xfrm>
          <a:prstGeom prst="straightConnector1">
            <a:avLst/>
          </a:prstGeom>
          <a:ln w="19080">
            <a:solidFill>
              <a:srgbClr val="4c575f"/>
            </a:solidFill>
            <a:miter/>
            <a:tailEnd len="med" type="arrow" w="med"/>
          </a:ln>
        </p:spPr>
      </p:cxnSp>
      <p:sp>
        <p:nvSpPr>
          <p:cNvPr id="11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DCC2-2AB8-4AE5-B09E-BFE6668C8B82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ч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с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ки 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137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Малколм Грин (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Malcolm Green) je, 1990.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Natur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ун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ку 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ми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и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,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чи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!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му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, 1999.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друж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 Тијанкун Шиао (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iancun Xiao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ли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т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х и у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             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 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уз 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                  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у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г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ин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                              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683400" y="3886200"/>
            <a:ext cx="2209680" cy="2066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1BF-36D9-49F2-B840-51005D8DA43C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0840" y="1125000"/>
            <a:ext cx="7678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х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з 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у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г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, 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кључ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рисуству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ин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775600" y="521172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из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 у п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ху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826920" y="4005360"/>
            <a:ext cx="1905120" cy="1450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3"/>
          <p:cNvSpPr/>
          <p:nvPr/>
        </p:nvSpPr>
        <p:spPr>
          <a:xfrm>
            <a:off x="7812000" y="81000"/>
            <a:ext cx="13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Fakultativni slajd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90C3-9B78-43AF-A34D-ECF35A861622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34544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ј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кун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, 2000.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у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л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тин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их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у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ф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м 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ј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кун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ли су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ф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ф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дски ун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зи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44" name="Picture 4" descr="C:\Documents and Settings\TerryP\Desktop\Ox Cat photos\catalyst_ORL5778.jpg"/>
          <p:cNvPicPr/>
          <p:nvPr/>
        </p:nvPicPr>
        <p:blipFill>
          <a:blip r:embed="rId1"/>
          <a:stretch/>
        </p:blipFill>
        <p:spPr>
          <a:xfrm>
            <a:off x="6227640" y="3645000"/>
            <a:ext cx="2089440" cy="14144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826920" y="3645000"/>
            <a:ext cx="5400720" cy="141012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м д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ви п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к, 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буд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функци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нис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o,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ти мн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ристи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длучи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м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иј</a:t>
            </a:r>
            <a:r>
              <a:rPr b="0" i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04b56"/>
                </a:solidFill>
                <a:latin typeface="Arial"/>
              </a:rPr>
              <a:t>нкун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2DD6-F9B3-4765-B4DA-4232D0C7F66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ћ у с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ис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 CO2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778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њу 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ст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њу б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вних 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зи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жишт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826920" y="4081320"/>
            <a:ext cx="2089440" cy="2006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3000240" y="5861160"/>
            <a:ext cx="18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sr-Latn-CS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0" lang="sr-Latn-CS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sr-Latn-CS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sr-Latn-CS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х</a:t>
            </a:r>
            <a:r>
              <a:rPr b="0" lang="sr-Latn-CS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и</a:t>
            </a:r>
            <a:r>
              <a:rPr b="0" lang="sr-Latn-CS" sz="14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1CA1-D17F-40B4-8268-6DA320B0DD8B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 су испу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и ус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у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678800" cy="26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испу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у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(претраживање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вни 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дуст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и 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ив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536400" indent="-2682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ит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з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иш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у?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4C09-0AE7-4ABC-B362-87D03D3709D1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мис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у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м с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фит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и тр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у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 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”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лу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и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…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652F-4A6F-4156-A7A1-C76F8C991076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ул Б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ришћ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"spin-off"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2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Terry Pollard</dc:creator>
  <dc:description/>
  <dc:language>en-US</dc:language>
  <cp:lastModifiedBy>VUKOV</cp:lastModifiedBy>
  <dcterms:modified xsi:type="dcterms:W3CDTF">2012-04-17T16:19:25Z</dcterms:modified>
  <cp:revision>589</cp:revision>
  <dc:subject/>
  <dc:title>Bringing patents to mark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