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42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5.png" ContentType="image/png"/>
  <Override PartName="/ppt/media/image19.jpeg" ContentType="image/jpeg"/>
  <Override PartName="/ppt/media/image2.png" ContentType="image/png"/>
  <Override PartName="/ppt/media/image33.jpeg" ContentType="image/jpeg"/>
  <Override PartName="/ppt/media/image45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12.png" ContentType="image/png"/>
  <Override PartName="/ppt/media/image20.jpeg" ContentType="image/jpeg"/>
  <Override PartName="/ppt/media/image36.png" ContentType="image/png"/>
  <Override PartName="/ppt/media/image38.wmf" ContentType="image/x-wmf"/>
  <Override PartName="/ppt/media/image39.png" ContentType="image/png"/>
  <Override PartName="/ppt/media/image41.png" ContentType="image/png"/>
  <Override PartName="/ppt/media/image31.jpeg" ContentType="image/jpeg"/>
  <Override PartName="/ppt/media/image37.wmf" ContentType="image/x-wmf"/>
  <Override PartName="/ppt/media/image30.jpeg" ContentType="image/jpeg"/>
  <Override PartName="/ppt/media/image43.png" ContentType="image/png"/>
  <Override PartName="/ppt/media/image46.png" ContentType="image/png"/>
  <Override PartName="/ppt/media/image35.png" ContentType="image/png"/>
  <Override PartName="/ppt/media/image5.png" ContentType="image/png"/>
  <Override PartName="/ppt/media/image8.jpeg" ContentType="image/jpeg"/>
  <Override PartName="/ppt/media/image7.jpeg" ContentType="image/jpeg"/>
  <Override PartName="/ppt/media/image28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11.png" ContentType="image/png"/>
  <Override PartName="/ppt/media/image9.jpeg" ContentType="image/jpeg"/>
  <Override PartName="/ppt/media/image23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30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ldImg"/>
          </p:nvPr>
        </p:nvSpPr>
        <p:spPr>
          <a:xfrm>
            <a:off x="915840" y="515520"/>
            <a:ext cx="49644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3"/>
          </p:nvPr>
        </p:nvSpPr>
        <p:spPr>
          <a:xfrm>
            <a:off x="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4"/>
          </p:nvPr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CFCE8F-F6AB-4FDF-B535-AB1E6430B7FF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и циљ првих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ну у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љ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бу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 у 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љи,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у 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г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 и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, Кру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к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и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 и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т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1624,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г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 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 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и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ру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у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х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пр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г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њу и дистрибу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зних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ких 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г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.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пис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плици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ao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б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и 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их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них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F07C63-3FD0-4274-84D5-4A831EF7D331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з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Ват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и п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и 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шњ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 г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и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у 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ши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ни 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o”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а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цилинд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60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ћи цилиндр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ч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и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913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у 1769. 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и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913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1617. 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су 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истим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б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бр. 91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1769, 1770, 1771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5C0312-EA12-495E-9F29-7FE3F7172139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1930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их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дру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рб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ди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-у су,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1950-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х 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 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 су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лајн 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spac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. Espacent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м 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, з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х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у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н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1893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 – ну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37E95A-C9B9-46CA-87B0-05591161E2FD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б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(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и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”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80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купни б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них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х 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,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ти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у ви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ки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ски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су пр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с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1990-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: 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-a, PATST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E09631-7680-4541-A00E-1D83E3F66BF9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646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: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у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ти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у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у ви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к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руг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 с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с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ки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ск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е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: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j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1983.) и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ини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1998.)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ри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з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–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.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тит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жњу 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лики бр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нтних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1" lang="sr-RS" sz="11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1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1" lang="sr-RS" sz="1100" spc="-1" strike="noStrike">
                <a:solidFill>
                  <a:srgbClr val="000000"/>
                </a:solidFill>
                <a:latin typeface="Calibri"/>
              </a:rPr>
              <a:t>тск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100" spc="-1" strike="noStrike">
                <a:solidFill>
                  <a:srgbClr val="000000"/>
                </a:solidFill>
                <a:latin typeface="Calibri"/>
              </a:rPr>
              <a:t>м С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1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100" spc="-1" strike="noStrike">
                <a:solidFill>
                  <a:srgbClr val="000000"/>
                </a:solidFill>
                <a:latin typeface="Calibri"/>
              </a:rPr>
              <a:t>зу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. Из п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рсп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ктив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у р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су (к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и, у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квиру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г с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шњ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г сист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у в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ћини случ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j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вл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сник с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пств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) 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дв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сист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 (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мунистички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и к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пит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листички) ч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жд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и нису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лик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злик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ли: у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сист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у р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су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jao j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приз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и м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лу 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вч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ну 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к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ду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Виш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тистичких п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ћи 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: http://www.wipo.int/ipstats/en/statistics/patents/index.htm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BDB013-8BDB-4F7F-A02E-D7A393704F8C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ци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бити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у 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и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у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у (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)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кр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г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”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кључивих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ушт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ти друг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ц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ти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угим лиц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ли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у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или,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,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.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т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лу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M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ЦД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ВД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,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лни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и диг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х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б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м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н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у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рс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406E9D-F543-485F-AD6E-541337651A08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ч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х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-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р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р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р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р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ш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уг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и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бис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били сигурни д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ш п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с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ш, 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б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зврши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руч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руч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,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,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нику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у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труд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.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ци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бич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,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и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у 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 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шљ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 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н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з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м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им –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3B995C-077E-4304-A46E-30FECDCFD007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Библ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фски 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ц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у 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,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итд. - к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т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ст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бр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ул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и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и пун и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уги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и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м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ц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 и т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т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з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у 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 Cetus Corporation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ja M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лис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б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з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ир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etus Corporation 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и дру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offmann-La Roche AG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300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и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чких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.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з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пису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ик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offmann-La Roch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из 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, 1993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E4FEC3-0458-4D95-A327-0FD237E0E3D8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361A91-CC20-43EF-9C07-83EE99D73568}" type="slidenum">
              <a:rPr b="0" lang="en-US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пич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рукту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у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рт. 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и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 В. Бр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. M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 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B360253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19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к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у или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у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т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бух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 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 су 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и и и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ив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У С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-у 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 „г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j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” 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 г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ину 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-у,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у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кри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ци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бити индуст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и пр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љив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бил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билни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тим,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пит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ск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чну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тим,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у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, у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D4CA409-DB74-4A41-A8A5-BC94E67CCBE9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ушт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у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„?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крили,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г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”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ж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и лич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крили п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/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/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им купц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ључ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уг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кри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у 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љивих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нф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D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5AF071-622C-474D-AE1A-50F6A85E4F4B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у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ти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другим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T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и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ц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врху испит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ин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в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н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CT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,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-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или 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у 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PO)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CT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ст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м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х 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ир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CT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ву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пит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/или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или и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M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тим, 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ти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„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,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,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D6F8EA-1F11-45AF-A1A1-5D0FC166A057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 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з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њ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, 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у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ти при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(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 з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х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-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 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угих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х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)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у 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г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к б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х 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з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х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и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у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у 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ди чл. 67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4C9233-C483-462F-9566-38930B624338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141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љу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их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и и 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;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у 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- У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у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у 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у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30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: 31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)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пр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ст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12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: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лу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 пл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ш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л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жу з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иш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 18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ц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м пр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ст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м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65DAD9-ACF9-4FB8-83EB-0B28752214D9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18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ним 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пружит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м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ку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чк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при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т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у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д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утуж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и при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ни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д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, суд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врди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чин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- С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х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ду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у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F9D7A75-6C4B-493E-A8DD-C712B75248CB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кри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у б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у, жур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у, књизи ил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дру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у 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ти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,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ћи 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e 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”,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тим, 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ш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с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други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их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пу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у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у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бити 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вргнути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зиби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ин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нг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дру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лу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,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ту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бит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ч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цу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, у 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у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и,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и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: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т у смислу в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б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 ид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j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из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je (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ст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ржишту)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 кр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 м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)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тд. Ис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 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ико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 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 други п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н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нструм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01A0A7-FDDB-4253-A30D-ABDDD64CBD51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 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300.00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1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их 100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 ви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100 ми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(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д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 PATVAL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н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з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у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-у пр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1.500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и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-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3%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ш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–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ли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них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(AUTM US Licensing Survey 200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ул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и ист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иш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7.000 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% свих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тих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/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%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%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ш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%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рс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%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ку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%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(j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)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17%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(Суштин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дуст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у и 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чини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uri et al.,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рс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дуст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л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л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ким б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л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ључи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рс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ли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у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и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ш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ћих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390CF0-007E-469C-B6D7-58B68B45CFFC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Унив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рзит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ти у С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Д-у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зб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ђу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у у пр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ку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3%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г буџ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уч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истр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нцних 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к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 (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њу с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 1,1%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пи)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71FD97-5651-4AF1-B2F0-04E9DABD470E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ис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 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х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9.000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у 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1990-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х 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 с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2004, м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6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и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 (50% 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/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): 300.000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бич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j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ccagnoli et al., 200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A08957-51AF-4BA0-9B4A-11BF099F4E6D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ти: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ци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кр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пит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у п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утврд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су испу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с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у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с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: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х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, књи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ич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узич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им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ис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т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Жиг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и: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су дистинктивни 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упућ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услу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.:  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пи, 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слу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и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х в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или услу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услу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и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х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ку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ист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и диз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: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с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ди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и с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ни из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ч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х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к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индуст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и ди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з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с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,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г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и дистинкт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. 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ич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 ди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ити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ским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ист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и диз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 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у з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штиту: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с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ди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ди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.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 ди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,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тим,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у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с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ди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ч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с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м ди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: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в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х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с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у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у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љ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(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,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писи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 уг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кри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у 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љивих инф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/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ж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к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. M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тим,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у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зибил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ин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н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ку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с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ти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A19075-4893-4B4F-BBD9-14F48DAE8F9F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50% укуп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3%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их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80% укуп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10%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их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м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т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т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њу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б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ccagnoli et al., 200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5DA13F-0966-4FD6-8C87-43C94D472988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шку укуп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зи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т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j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зи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т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н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из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су 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в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, и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ћ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ку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тс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руж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ф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ку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.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зи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, 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пружи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увид у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в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, 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ку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9DF4CC-FECC-4A2B-A036-B5624A4D21BA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пл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ул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чних ис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60.000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и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ш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ст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 60.000 ми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кључ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ћи 1000 ми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ст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ик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ст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(2005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10.00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30.00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вних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ст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 „у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уд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с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, ProVendis, 25%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их ин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ис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 с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ис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ч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ру (укључ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ћи ч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)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ч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-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п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тигнућ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м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: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, 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 бил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в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и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24A544-FC16-4E6E-95ED-32ADA5229EF6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миш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–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к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сп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)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убр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л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р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л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духу 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и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.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e j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 1929. 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4F57EC-27E8-4E9A-A1A7-5850DAEEE9B8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 80%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нф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тупних у 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ти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туп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иг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руг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ив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с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 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ичи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 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су ус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функц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иш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чн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ч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-&gt; Ч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ч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р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му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ку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 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ти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у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у!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пи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д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ди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штим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393C75-323B-4CE2-8522-815DCB83C2BC}" type="slidenum">
              <a:rPr b="0" lang="en-US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7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0DBEDE-5A6D-47B1-BB49-9ABC57ECDB71}" type="slidenum">
              <a:rPr b="0" lang="en-US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 з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х 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 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с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ни 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шћ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je 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би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/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уч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ниш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 пл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си з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 с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у 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ви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 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ву 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т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с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ч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20 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”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нуж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„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”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: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б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ци, суп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п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ици, и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 Ин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ир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з 1973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- 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- 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х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80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60 ми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Onlin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- 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ис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E72718-B35D-4021-8D41-DC6038517600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м, „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вним” кључн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 п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ши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у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нуитивних кључних 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ч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ис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 ци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м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с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и пр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 „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”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у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с ци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ључи у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у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з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и 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, ти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„M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, ин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уг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у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M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тим,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упни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у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д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058981-B3C7-4D53-A168-A3716BF83C94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F1C0BA-DC53-4DA1-916C-E590C8B9CD20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834361-9BC8-46B8-AD45-5B7B508E687B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17AE82-C94D-4399-B16E-19E2440FB28B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828CB1-08AE-4055-9F67-D8EC0AFF8F7C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з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ну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ључним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с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л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ифи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ECLA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,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ф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(M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П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испит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и к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ифик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и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и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у или ви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ти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ECL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х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и си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у и 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ну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у.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 ви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у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ћ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L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других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у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e-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буду 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и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пу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руч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atent Information Tou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ив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у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FECDD5-B2DA-4547-8320-10130F1D6689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ис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у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e Sandvik,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je 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и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ц ин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ту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 12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их и књиг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ст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у в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 1.800 мил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(2007.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Dolby Laboratori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a je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кри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х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 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и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у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,  1960-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их г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исти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би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штити 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х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 и жиг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с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ш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ис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х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ш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a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W.L. Go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e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иц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,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руму с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ућ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, 1958.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ис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х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шки п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и 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PTFE-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 (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ф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®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и жиг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и (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Gore-Tex®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шљ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8.000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људи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ни прим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и 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луш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 им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ц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ту лиц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ци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х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e: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ARM Ltd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в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a 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г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ски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фи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ик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, 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и их 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и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(д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 лиц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ци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)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-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je 1990.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, 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ид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 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ржишту мик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ил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-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ни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ч 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e ARM, Hermann Hauser: 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м им (св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м тиму диз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дв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ств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je National, Intel i Motorola 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ник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нису д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им тим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вим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диз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: 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прв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ств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р 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им нис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м д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ц, 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друг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ств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р 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им нис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м д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људ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e. Je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дини н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чин н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и су м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гли т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ур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e (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диз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нир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у микр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р) би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ист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буду шт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o je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вни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sr-RS" sz="1000" spc="-1" strike="noStrike">
                <a:solidFill>
                  <a:srgbClr val="000000"/>
                </a:solidFill>
                <a:latin typeface="Calibri"/>
              </a:rPr>
              <a:t>и.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LINU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ивни сис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Linux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 друг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рс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фт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им из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 су с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уп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, 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исници м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 д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их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с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ш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j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иц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ц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(GPL),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j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ржи с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т  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у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ух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ш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 лиц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ц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Creative Comm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тим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 типских лиц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ци 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њиг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,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фт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,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ф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e,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тд.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и м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гу д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их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п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т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ишћ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, 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и з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х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, 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,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их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буд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или д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њих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ист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у к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рци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000" spc="-1" strike="noStrike">
                <a:solidFill>
                  <a:srgbClr val="000000"/>
                </a:solidFill>
                <a:latin typeface="Calibri"/>
              </a:rPr>
              <a:t>сврх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3690F4-7F23-490A-A05A-037C330F37F1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ca-C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д 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 27.000 ми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их фирми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тржи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pple iP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100 ми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Г,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ДИ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,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(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нички и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arry Po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.K. Rouling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 42 хи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и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–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т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750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и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нс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т ф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dak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550 ми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aroid-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з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ш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х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aroid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ту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 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и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a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,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190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и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У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и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т ин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ту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 Х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уп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(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к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и д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): 125 ми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C8C6EE-7D6C-4BA6-A531-75BB4F8A16C1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Суп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рпр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дниц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1987: 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з физи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ис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м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ур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у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п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ни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1986.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.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 б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з з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г тржиш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Бицикл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100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мили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бици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!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ткиц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зуб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иш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мили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(j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бри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,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и 900 мили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ишњ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ри п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фи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у су при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и 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ци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тних 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у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у с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туп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j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зи 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o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ти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у с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у,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и: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www.espacenet.com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зврш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 j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ључних 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чи: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бицикл, ч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киц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зуб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 суп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п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ник,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, „bicycle”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ли „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ike” 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ли „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icyclette”,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ли „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ahrrad”, „toothbrush” 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ли „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Zahnbürste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 „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uperconduct”.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у  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зи с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њ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бици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у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би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су из из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j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нститу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„Earth Policy Institute”, 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ич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г 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г удруж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рг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бицик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ђу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г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низ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из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рних в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800" spc="-1" strike="noStrike">
                <a:solidFill>
                  <a:srgbClr val="000000"/>
                </a:solidFill>
                <a:latin typeface="Calibri"/>
              </a:rPr>
              <a:t>зил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B2F069-4B25-4493-9E52-F813FFDD6081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Ци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ви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 љу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уду 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вни, ш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циљу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си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C4D953-DE17-47FB-B1E2-C54A9E209FD8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915840" y="5158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63320" y="4371480"/>
            <a:ext cx="5910120" cy="5156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ч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ти 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 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10 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и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и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j: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 пумпу из 1594. 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 у с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у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ски 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20 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љ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л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ни циљ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и 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шњ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 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г сис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и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ив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 (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ул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ст -&gt;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в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и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) 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сти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j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и з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кр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ку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штиту; 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и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 т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с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т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г си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уг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 из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ђу друшт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e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(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j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 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скључи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Foliennummernplatzhalter 3"/>
          <p:cNvSpPr/>
          <p:nvPr/>
        </p:nvSpPr>
        <p:spPr>
          <a:xfrm>
            <a:off x="3848040" y="94345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CEBEE8-57E4-4010-9651-40275E4EFC10}" type="slidenum">
              <a:rPr b="0" lang="de-DE" sz="13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43B41-1EB2-4EE1-8F4D-E9AB51F195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87C75-2DB6-4A92-9391-928756A0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2FA6C6-816F-41E0-A5F8-9054918F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F96C8D-F378-4A90-B530-2E0365F1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2FE87B-92F8-4227-93C3-BBB64EFA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A9FCBF-DF5F-4442-9F0C-37500AB4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0D7AAB-A70B-4495-8B6F-ACA10BCF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715BFD-7D27-47D2-89CA-4465A441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710BFA-5A4E-40D4-8267-B2B882D4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0B661A-EAA0-4D66-9080-02BDB74D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785218-65F2-46BF-B804-7115E2A1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F1FE5A-C327-48BE-8426-F654ED11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2ECA0-59B6-4A01-A792-89533CDC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0A4791-126C-4EC8-8905-84EB4DC9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7A4C8B-3E4B-41D3-8CE9-9EA172C1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31A0A9-E57B-4B94-A6F8-EC177F2F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1BD93F-FFA9-477D-8A4E-903B9934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601C49-5AB1-4A0F-9385-A002545D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1C2428-C64E-4731-BC27-76B3C358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8066BA-26E2-4638-8916-9F9C721C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4BF1AB-482F-4E22-A530-E31E634C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29998D-EDCA-41BC-A651-B6BBEF16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37298F-6564-4190-8FB0-25A0E10B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66ABC-2294-418A-9E6D-62C26BF7F1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452CAB-8676-4932-8229-7F86086A9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5A13EA-0813-4C19-90AE-1B723EB1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E91A43-FE8C-4260-8E2A-90A30371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F0B05B-08DD-4788-8FC3-7D5E4CD4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6231C9-AE6D-471A-B60D-59814581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6A7399-8AC5-406D-AC75-BA6075B9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47E297-BF6D-44CE-93E7-6258EF5F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5AF302-CCF9-4012-8F59-76F6E07D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17703E-3C33-4DB7-A946-1695F0EA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636114-5C2B-4305-AED7-A655EAB6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31050-F851-4473-96BD-9D2A0A36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91A7CB-E20F-4357-8BC4-F5807D33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9A5C05-5437-4095-9D95-31265DEC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4E2ADF-03C8-4F41-8FE6-B95309AE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33A8F4-2FC1-468B-A578-B0B64382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B24E87-4523-4F06-979F-56142656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5FE657-2588-4032-84E1-52BE9878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515010-2F9B-4CAA-AA73-EEAC9BEC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01AC03-E204-4101-B679-E92488A7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DCF7BD-F0E4-4780-978D-33EDB855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8103A7-ACBD-4776-A250-EE57D5E4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19545-3E3E-45CD-A0DE-1462139F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CE15B5-A99C-4E62-9368-4983F2A4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92CA2B-69CB-49EF-88A3-75FE22D7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74C535-06EC-4A6B-958C-49A677C4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7A5B89-3D22-4B60-A1F7-AB289CE5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20430A-F68E-4370-8C9F-65365F70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6C218-3E03-47F2-B5EB-75E02AB1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819BE-1852-4BA8-A32E-31721358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018B2-AF59-4573-AA3E-20273A4D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A0C6F-F18D-42EE-8145-C62DDE8F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60852-DD21-4318-94CF-12FE3CC8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01F9F-3DC2-4FCF-AA16-79261D7A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57236-461F-4AAF-BCE6-D95D00C8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6F3FE-EEA6-482F-8CAB-CAC4F186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0A4B7-6A12-4261-B467-48587641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C09D6-A8F6-405D-90B9-2F9DFB52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17537-8B09-4F1E-BDF0-00FEAD29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147F2-EE2A-4574-83D6-D6652D7C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705A8-64DC-42E5-B3FF-4B8D10E7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E616DA-DB32-4A92-B4A2-D3F6CA50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1816AD-94F8-4042-8D2C-C2140306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EB26B-E15C-4C25-9871-16DD6618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020C79-929D-4AB6-AC27-50313A8B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F949FB-4AC0-4A06-9A05-D9A38203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29B259-66FC-46F0-A352-482F1BB8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878A2-8118-4EE1-8CBD-241DC7A2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6856F3-1A26-44E3-8948-A813E0A0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62841D-A07F-4C28-A606-E9C8D057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8556E-7E7B-47E4-B208-2B82775B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7A5C7C-720E-4CDE-9F4F-14A98D210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D5084-A56E-4723-BDD1-964897BF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2C7021-69A1-4CAE-9905-1F53B9A5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8A794-474C-469F-A0AA-D85ED924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7CE267-2101-4EA3-AEF5-C914C818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31BD4D-7B68-4327-8BC5-D2392C07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B97012-FA7A-4341-91E4-FD8F9410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34DC87-7E12-41B5-99F3-9C4963C9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3B4DD9-E0B4-4ECE-A655-E0F83782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37ECA0-F97D-410B-B9D3-23C9E326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B731D7-543B-4030-B76A-1FAF0100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1095AC-8A18-40A8-8E95-42FE7FD9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2DE9B5-2606-4FEB-8E39-68DC64EB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176A96-A981-4753-83A3-0A47F6BC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6E357-59DF-41DA-84EB-F14FC6FB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9A80C0-A978-436B-96F6-DAF2CC8A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54799C-BDAF-4EBD-9A4C-E7825731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97CD79-4914-44DA-A590-CB368949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0AEAFC-5ADF-4934-A0C8-26151E5F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35730F-5642-408A-B5A7-41D0557B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DD9AC1-C87B-4474-8CB5-8CB8162D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C8CDEB-06E3-42CB-A014-51DE64DD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EB08CE-18C6-406D-BFA0-F21FB2FC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82C0FF-F693-4094-97B6-C186A4E4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FB39A7-7AE7-4EDB-8C34-A79074F6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8CE51-46D6-4534-8F9B-9F83BBF1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B66EAA-9380-4D5C-BAB5-A20839EC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589859-4096-4437-A75D-F3A84B0A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18F7D9-1379-4832-813B-88BE3CDA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CA38E9-D321-4560-BABB-EA4CD610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A5A370-5193-4D39-BDB5-B6DAFFB1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796C44-FD1F-47E9-BD31-7F55816D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ED1BC8-F618-4D5F-9ED7-A86E9803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7F152A-0A99-4CEE-819A-CD6E3160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2E5815-0986-4CDE-84AC-C8AE4E6B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E61151-BFDC-42B4-B26E-42B4E51A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9CCED-3101-442F-8F35-1EF2C1F6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936EA3-CECF-4D58-BBBC-F538E6B5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35153D-B6B1-4676-8019-FE7BD115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B881AC-456C-4981-9BD5-07D4B20B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1703E8-19BC-430F-99A2-06ED0A46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3F1883-8E96-44BB-8737-CB59A96A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8258E2-AFE5-4EED-96F2-04A7B187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2C6390-AE96-465D-83CA-D042BD9E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EEFD65-DE94-4451-B464-E5391B53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198BFA-D4C8-4987-A0F0-03DDA980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B5A1A3-4D26-4745-922B-0C599721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EDB63-7B04-4E5D-90A7-AA1D5C62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F44ECE-4309-4542-89A7-CEE4FDCE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B095B6-3824-415F-A8BC-A7BB6154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4FCA0E-9913-4F7F-883B-74A98439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D007A9-B1FA-4250-A6DD-D47B0673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80F679-491D-426F-AC73-2ADF14BA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E3B779-3C63-4121-BAEC-37CAA310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81EBBC-7B21-42A0-B86D-4AD06C37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1E203D-DA91-452A-96C8-914361B3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AFBBEC-450C-4D0F-9C1D-601A4FEE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9D4FFF-787A-4D69-8816-C4A5A279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308360" y="6584760"/>
            <a:ext cx="11509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38800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63F8-9EFB-4BF3-8990-6AEBBEFE262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16120" y="378000"/>
            <a:ext cx="8342280" cy="1728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6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2"/>
          <p:cNvSpPr/>
          <p:nvPr/>
        </p:nvSpPr>
        <p:spPr>
          <a:xfrm>
            <a:off x="738360" y="6573960"/>
            <a:ext cx="77040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Nils Omland, May 2009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04" name="Rectangle 8"/>
          <p:cNvSpPr/>
          <p:nvPr/>
        </p:nvSpPr>
        <p:spPr>
          <a:xfrm>
            <a:off x="816120" y="378000"/>
            <a:ext cx="8342280" cy="1728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405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2"/>
          <p:cNvSpPr/>
          <p:nvPr/>
        </p:nvSpPr>
        <p:spPr>
          <a:xfrm>
            <a:off x="738360" y="6573960"/>
            <a:ext cx="77040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Nils Omland, May 2009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ftr" idx="24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dt" idx="25"/>
          </p:nvPr>
        </p:nvSpPr>
        <p:spPr>
          <a:xfrm>
            <a:off x="7308360" y="6584760"/>
            <a:ext cx="11509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6"/>
          </p:nvPr>
        </p:nvSpPr>
        <p:spPr>
          <a:xfrm>
            <a:off x="838800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995A-7623-4982-8DCA-66B8396A795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49" name="Rectangle 8"/>
          <p:cNvSpPr/>
          <p:nvPr/>
        </p:nvSpPr>
        <p:spPr>
          <a:xfrm>
            <a:off x="816120" y="378000"/>
            <a:ext cx="8342280" cy="1728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450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2"/>
          <p:cNvSpPr/>
          <p:nvPr/>
        </p:nvSpPr>
        <p:spPr>
          <a:xfrm>
            <a:off x="738360" y="6573960"/>
            <a:ext cx="77040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Nils Omland, May 2009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ftr" idx="27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dt" idx="28"/>
          </p:nvPr>
        </p:nvSpPr>
        <p:spPr>
          <a:xfrm>
            <a:off x="7308360" y="6584760"/>
            <a:ext cx="11509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29"/>
          </p:nvPr>
        </p:nvSpPr>
        <p:spPr>
          <a:xfrm>
            <a:off x="838800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8058-CADD-40E2-A07E-496A7612442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94" name="Rectangle 8"/>
          <p:cNvSpPr/>
          <p:nvPr/>
        </p:nvSpPr>
        <p:spPr>
          <a:xfrm>
            <a:off x="816120" y="378000"/>
            <a:ext cx="8342280" cy="1728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495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2"/>
          <p:cNvSpPr/>
          <p:nvPr/>
        </p:nvSpPr>
        <p:spPr>
          <a:xfrm>
            <a:off x="738360" y="6573960"/>
            <a:ext cx="77040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Nils Omland, May 2009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ftr" idx="30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dt" idx="31"/>
          </p:nvPr>
        </p:nvSpPr>
        <p:spPr>
          <a:xfrm>
            <a:off x="7308360" y="6584760"/>
            <a:ext cx="11509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2"/>
          </p:nvPr>
        </p:nvSpPr>
        <p:spPr>
          <a:xfrm>
            <a:off x="838800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10D0-237F-4B60-BBCA-79A683DFB484}" type="slidenum">
              <a:rPr b="0" lang="de-DE" sz="1200" spc="-1" strike="noStrike">
                <a:solidFill>
                  <a:srgbClr val="4c575f"/>
                </a:solidFill>
                <a:latin typeface="Times New Roman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Times New Roman"/>
              </a:rPr>
              <a:t>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865656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5" name="Coloredframe"/>
          <p:cNvSpPr/>
          <p:nvPr/>
        </p:nvSpPr>
        <p:spPr>
          <a:xfrm>
            <a:off x="1208160" y="0"/>
            <a:ext cx="7993080" cy="58752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46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1166760" cy="584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EPO_PPT_Titel"/>
          <p:cNvPicPr/>
          <p:nvPr/>
        </p:nvPicPr>
        <p:blipFill>
          <a:blip r:embed="rId3"/>
          <a:stretch/>
        </p:blipFill>
        <p:spPr>
          <a:xfrm>
            <a:off x="0" y="5425920"/>
            <a:ext cx="9144000" cy="1432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51B0-9EED-4216-9A8A-E8F4ADA7818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816120" y="378000"/>
            <a:ext cx="8342280" cy="1728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92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738360" y="6573960"/>
            <a:ext cx="77040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c575f"/>
                </a:solidFill>
                <a:latin typeface="Arial"/>
              </a:rPr>
              <a:t>Core module 1</a:t>
            </a:r>
            <a:r>
              <a:rPr b="0" lang="en-GB" sz="12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4c575f"/>
                </a:solidFill>
                <a:latin typeface="Arial"/>
              </a:rPr>
              <a:t>Protect your ideas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8388360" y="6632640"/>
            <a:ext cx="755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E372-6D88-4D28-BE84-6D6CD321D4B4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/43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816120" y="378000"/>
            <a:ext cx="8342280" cy="1728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35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738360" y="6573960"/>
            <a:ext cx="77040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Nils Omland, May 2009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6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7"/>
          </p:nvPr>
        </p:nvSpPr>
        <p:spPr>
          <a:xfrm>
            <a:off x="7308360" y="6584760"/>
            <a:ext cx="11509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8"/>
          </p:nvPr>
        </p:nvSpPr>
        <p:spPr>
          <a:xfrm>
            <a:off x="838800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10F7-6A31-4321-9382-77718CB3C3F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816120" y="378000"/>
            <a:ext cx="8342280" cy="1728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80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738360" y="6573960"/>
            <a:ext cx="77040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Nils Omland, May 2009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ftr" idx="9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dt" idx="10"/>
          </p:nvPr>
        </p:nvSpPr>
        <p:spPr>
          <a:xfrm>
            <a:off x="7308360" y="6584760"/>
            <a:ext cx="11509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1"/>
          </p:nvPr>
        </p:nvSpPr>
        <p:spPr>
          <a:xfrm>
            <a:off x="838800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5141-0F0F-436B-8149-2D8FACD3D6D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816120" y="378000"/>
            <a:ext cx="8342280" cy="1728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225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738360" y="6573960"/>
            <a:ext cx="77040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Nils Omland, May 2009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2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dt" idx="13"/>
          </p:nvPr>
        </p:nvSpPr>
        <p:spPr>
          <a:xfrm>
            <a:off x="7308360" y="6584760"/>
            <a:ext cx="11509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4"/>
          </p:nvPr>
        </p:nvSpPr>
        <p:spPr>
          <a:xfrm>
            <a:off x="838800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E5D1-778E-4AE3-AA69-54AC4133823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816120" y="378000"/>
            <a:ext cx="8342280" cy="1728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270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2"/>
          <p:cNvSpPr/>
          <p:nvPr/>
        </p:nvSpPr>
        <p:spPr>
          <a:xfrm>
            <a:off x="738360" y="6573960"/>
            <a:ext cx="77040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Nils Omland, May 2009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ftr" idx="15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dt" idx="16"/>
          </p:nvPr>
        </p:nvSpPr>
        <p:spPr>
          <a:xfrm>
            <a:off x="7308360" y="6584760"/>
            <a:ext cx="11509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7"/>
          </p:nvPr>
        </p:nvSpPr>
        <p:spPr>
          <a:xfrm>
            <a:off x="838800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80CB-1526-4772-A5A1-42E3DF519FD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4" name="Rectangle 8"/>
          <p:cNvSpPr/>
          <p:nvPr/>
        </p:nvSpPr>
        <p:spPr>
          <a:xfrm>
            <a:off x="816120" y="378000"/>
            <a:ext cx="8342280" cy="1728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315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2"/>
          <p:cNvSpPr/>
          <p:nvPr/>
        </p:nvSpPr>
        <p:spPr>
          <a:xfrm>
            <a:off x="738360" y="6573960"/>
            <a:ext cx="77040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Nils Omland, May 2009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8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dt" idx="19"/>
          </p:nvPr>
        </p:nvSpPr>
        <p:spPr>
          <a:xfrm>
            <a:off x="7308360" y="6584760"/>
            <a:ext cx="11509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0"/>
          </p:nvPr>
        </p:nvSpPr>
        <p:spPr>
          <a:xfrm>
            <a:off x="838800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509D-652A-44BF-85F6-E329EA262F4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816120" y="378000"/>
            <a:ext cx="8342280" cy="1728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360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2"/>
          <p:cNvSpPr/>
          <p:nvPr/>
        </p:nvSpPr>
        <p:spPr>
          <a:xfrm>
            <a:off x="738360" y="6573960"/>
            <a:ext cx="77040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c575f"/>
                </a:solidFill>
                <a:latin typeface="Arial"/>
              </a:rPr>
              <a:t>Nils Omland, May 2009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21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dt" idx="22"/>
          </p:nvPr>
        </p:nvSpPr>
        <p:spPr>
          <a:xfrm>
            <a:off x="7308360" y="6584760"/>
            <a:ext cx="11509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3"/>
          </p:nvPr>
        </p:nvSpPr>
        <p:spPr>
          <a:xfrm>
            <a:off x="838800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A325-AB15-469F-8A03-D71EE101E05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1258920"/>
            <a:ext cx="7485120" cy="23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штитит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св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oje </a:t>
            </a:r>
            <a:r>
              <a:rPr b="1" lang="sr-RS" sz="3600" spc="-1" strike="noStrike">
                <a:solidFill>
                  <a:srgbClr val="404b56"/>
                </a:solidFill>
                <a:latin typeface="Arial"/>
              </a:rPr>
              <a:t>ид</a:t>
            </a: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eje</a:t>
            </a:r>
            <a:br>
              <a:rPr sz="3600"/>
            </a:br>
            <a:br>
              <a:rPr sz="800"/>
            </a:br>
            <a:br>
              <a:rPr sz="800"/>
            </a:br>
            <a:r>
              <a:rPr b="0" lang="sr-RS" sz="2400" spc="-1" strike="noStrike">
                <a:solidFill>
                  <a:srgbClr val="404b56"/>
                </a:solidFill>
                <a:latin typeface="Arial"/>
              </a:rPr>
              <a:t>Ув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404b56"/>
                </a:solidFill>
                <a:latin typeface="Arial"/>
              </a:rPr>
              <a:t>д у п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2400" spc="-1" strike="noStrike">
                <a:solidFill>
                  <a:srgbClr val="404b56"/>
                </a:solidFill>
                <a:latin typeface="Arial"/>
              </a:rPr>
              <a:t>студ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2400" spc="-1" strike="noStrike">
                <a:solidFill>
                  <a:srgbClr val="404b56"/>
                </a:solidFill>
                <a:latin typeface="Arial"/>
              </a:rPr>
              <a:t>прир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404b56"/>
                </a:solidFill>
                <a:latin typeface="Arial"/>
              </a:rPr>
              <a:t>дних</a:t>
            </a:r>
            <a:br>
              <a:rPr sz="2400"/>
            </a:br>
            <a:r>
              <a:rPr b="0" lang="sr-RS" sz="2400" spc="-1" strike="noStrike">
                <a:solidFill>
                  <a:srgbClr val="404b56"/>
                </a:solidFill>
                <a:latin typeface="Arial"/>
              </a:rPr>
              <a:t>и т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404b56"/>
                </a:solidFill>
                <a:latin typeface="Arial"/>
              </a:rPr>
              <a:t>хничких н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404b56"/>
                </a:solidFill>
                <a:latin typeface="Arial"/>
              </a:rPr>
              <a:t>ук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a, </a:t>
            </a:r>
            <a:r>
              <a:rPr b="0" lang="sr-RS" sz="24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404b56"/>
                </a:solidFill>
                <a:latin typeface="Arial"/>
              </a:rPr>
              <a:t>дицин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2400" spc="-1" strike="noStrike">
                <a:solidFill>
                  <a:srgbClr val="404b56"/>
                </a:solidFill>
                <a:latin typeface="Arial"/>
              </a:rPr>
              <a:t>и п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404b56"/>
                </a:solidFill>
                <a:latin typeface="Arial"/>
              </a:rPr>
              <a:t>сл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404b56"/>
                </a:solidFill>
                <a:latin typeface="Arial"/>
              </a:rPr>
              <a:t>вн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br>
              <a:rPr sz="2400"/>
            </a:b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404b56"/>
                </a:solidFill>
                <a:latin typeface="Arial"/>
              </a:rPr>
              <a:t>дминистр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j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66560" y="4962240"/>
            <a:ext cx="3996000" cy="3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55280" y="409680"/>
            <a:ext cx="768996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и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г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ки 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 1617. г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и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7740720" y="81000"/>
            <a:ext cx="15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пци</a:t>
            </a:r>
            <a:r>
              <a:rPr b="0" lang="en-GB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ни сл</a:t>
            </a:r>
            <a:r>
              <a:rPr b="0" lang="en-GB" sz="1200" spc="-1" strike="noStrike">
                <a:solidFill>
                  <a:srgbClr val="c0362b"/>
                </a:solidFill>
                <a:latin typeface="Arial"/>
              </a:rPr>
              <a:t>aj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648" name="Picture 5" descr="GB161700001-1"/>
          <p:cNvPicPr/>
          <p:nvPr/>
        </p:nvPicPr>
        <p:blipFill>
          <a:blip r:embed="rId1"/>
          <a:stretch/>
        </p:blipFill>
        <p:spPr>
          <a:xfrm>
            <a:off x="863640" y="1268280"/>
            <a:ext cx="3286080" cy="507708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4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50" name="TextBox 5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51" name="TextBox 6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52" name="TextBox 7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0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83883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Бри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ски 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 бр. 1769-913:</a:t>
            </a:r>
            <a:br>
              <a:rPr sz="2400"/>
            </a:b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и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7632720" y="81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пци</a:t>
            </a: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ни сл</a:t>
            </a: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aj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655" name="Picture 5" descr="GB176900913A-1"/>
          <p:cNvPicPr/>
          <p:nvPr/>
        </p:nvPicPr>
        <p:blipFill>
          <a:blip r:embed="rId1"/>
          <a:srcRect l="8424" t="7198" r="0" b="0"/>
          <a:stretch/>
        </p:blipFill>
        <p:spPr>
          <a:xfrm>
            <a:off x="863640" y="1268280"/>
            <a:ext cx="3367080" cy="50054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656" name="Rectangle 4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57" name="TextBox 5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58" name="TextBox 6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59" name="TextBox 7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1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Кр</a:t>
            </a:r>
            <a:r>
              <a:rPr b="1" lang="sr-Latn-C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sr-Latn-C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sr-Latn-CS" sz="20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бр</a:t>
            </a:r>
            <a:r>
              <a:rPr b="1" lang="sr-Latn-CS" sz="2000" spc="-1" strike="noStrike">
                <a:solidFill>
                  <a:srgbClr val="404b56"/>
                </a:solidFill>
                <a:latin typeface="Arial"/>
              </a:rPr>
              <a:t>oja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sr-Latn-C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sr-Latn-C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sr-Latn-C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sr-Latn-CS" sz="20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sr-Latn-CS" sz="20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и с</a:t>
            </a:r>
            <a:r>
              <a:rPr b="1" lang="sr-Latn-CS" sz="20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sr-Latn-C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sr-Latn-C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sr-Latn-CS" sz="20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sr-Latn-C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рну м</a:t>
            </a:r>
            <a:r>
              <a:rPr b="1" lang="sr-Latn-C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шину</a:t>
            </a:r>
            <a:endParaRPr b="1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661" name="Object 24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6465960" cy="5070600"/>
          </a:xfrm>
          <a:prstGeom prst="rect">
            <a:avLst/>
          </a:prstGeom>
          <a:ln w="0">
            <a:noFill/>
          </a:ln>
        </p:spPr>
      </p:pic>
      <p:sp>
        <p:nvSpPr>
          <p:cNvPr id="662" name="Text Box 5"/>
          <p:cNvSpPr/>
          <p:nvPr/>
        </p:nvSpPr>
        <p:spPr>
          <a:xfrm>
            <a:off x="7812000" y="81000"/>
            <a:ext cx="13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пци</a:t>
            </a: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ни сл</a:t>
            </a: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aj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65" name="TextBox 6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66" name="TextBox 7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2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Б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j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их пр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иш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и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 с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668" name="Picture 3" descr=""/>
          <p:cNvPicPr/>
          <p:nvPr/>
        </p:nvPicPr>
        <p:blipFill>
          <a:blip r:embed="rId1"/>
          <a:stretch/>
        </p:blipFill>
        <p:spPr>
          <a:xfrm>
            <a:off x="1389240" y="1197000"/>
            <a:ext cx="7143480" cy="4067280"/>
          </a:xfrm>
          <a:prstGeom prst="rect">
            <a:avLst/>
          </a:prstGeom>
          <a:ln w="0">
            <a:noFill/>
          </a:ln>
        </p:spPr>
      </p:pic>
      <p:sp>
        <p:nvSpPr>
          <p:cNvPr id="669" name="Textfeld 6"/>
          <p:cNvSpPr/>
          <p:nvPr/>
        </p:nvSpPr>
        <p:spPr>
          <a:xfrm>
            <a:off x="3966480" y="537228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Г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дин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дн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ш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њ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при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ja</a:t>
            </a: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70" name="Textfeld 7"/>
          <p:cNvSpPr/>
          <p:nvPr/>
        </p:nvSpPr>
        <p:spPr>
          <a:xfrm rot="16200000">
            <a:off x="-744840" y="2680200"/>
            <a:ext cx="357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Бр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oj </a:t>
            </a: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пр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oje je </a:t>
            </a: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тр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ж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нтн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штит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71" name="Text Box 6"/>
          <p:cNvSpPr/>
          <p:nvPr/>
        </p:nvSpPr>
        <p:spPr>
          <a:xfrm>
            <a:off x="7740720" y="81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пци</a:t>
            </a: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ни сл</a:t>
            </a: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aj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73" name="TextBox 7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74" name="TextBox 8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75" name="TextBox 9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3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б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им</a:t>
            </a:r>
            <a:br>
              <a:rPr sz="2400"/>
            </a:b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и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677" name="Picture 2" descr=""/>
          <p:cNvPicPr/>
          <p:nvPr/>
        </p:nvPicPr>
        <p:blipFill>
          <a:blip r:embed="rId1"/>
          <a:srcRect l="1187" t="3240" r="806" b="1532"/>
          <a:stretch/>
        </p:blipFill>
        <p:spPr>
          <a:xfrm>
            <a:off x="865080" y="1125360"/>
            <a:ext cx="7739280" cy="513252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4"/>
          <p:cNvSpPr/>
          <p:nvPr/>
        </p:nvSpPr>
        <p:spPr>
          <a:xfrm>
            <a:off x="7596360" y="81000"/>
            <a:ext cx="15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пци</a:t>
            </a: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ни сл</a:t>
            </a: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aj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79" name="Rectangle 4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80" name="TextBox 5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81" name="TextBox 6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82" name="TextBox 7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4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55280" y="487440"/>
            <a:ext cx="768996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b56"/>
                </a:solidFill>
                <a:latin typeface="Arial"/>
              </a:rPr>
              <a:t>Имплицитни „друштвeни угoвoр”</a:t>
            </a:r>
            <a:br>
              <a:rPr sz="2400"/>
            </a:br>
            <a:r>
              <a:rPr b="1" lang="ru-RU" sz="2400" spc="-1" strike="noStrike">
                <a:solidFill>
                  <a:srgbClr val="404b56"/>
                </a:solidFill>
                <a:latin typeface="Arial"/>
              </a:rPr>
              <a:t>у пaтeнтнoм систeму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84" name="Gefaltete Ecke 5"/>
          <p:cNvSpPr/>
          <p:nvPr/>
        </p:nvSpPr>
        <p:spPr>
          <a:xfrm>
            <a:off x="861840" y="1270080"/>
            <a:ext cx="2197440" cy="2154240"/>
          </a:xfrm>
          <a:prstGeom prst="foldedCorner">
            <a:avLst>
              <a:gd name="adj" fmla="val 16666"/>
            </a:avLst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2800" spc="-1" strike="noStrike">
                <a:solidFill>
                  <a:srgbClr val="ffffff"/>
                </a:solidFill>
                <a:latin typeface="Arial"/>
              </a:rPr>
              <a:t>ткрити</a:t>
            </a:r>
            <a:endParaRPr b="0" lang="en-US" sz="2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85" name="Gefaltete Ecke 6"/>
          <p:cNvSpPr/>
          <p:nvPr/>
        </p:nvSpPr>
        <p:spPr>
          <a:xfrm>
            <a:off x="6877080" y="1258920"/>
            <a:ext cx="1862280" cy="2154240"/>
          </a:xfrm>
          <a:prstGeom prst="foldedCorner">
            <a:avLst>
              <a:gd name="adj" fmla="val 16666"/>
            </a:avLst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sr-Latn-RS" sz="2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2600" spc="-1" strike="noStrike">
                <a:solidFill>
                  <a:srgbClr val="ffffff"/>
                </a:solidFill>
                <a:latin typeface="Arial"/>
              </a:rPr>
              <a:t>бити</a:t>
            </a:r>
            <a:endParaRPr b="0" lang="en-US" sz="26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Arial"/>
              </a:rPr>
              <a:t>искључив</a:t>
            </a:r>
            <a:r>
              <a:rPr b="0" lang="sr-Latn-RS" sz="2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sr-Latn-RS" sz="2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2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sr-Latn-RS" sz="2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86" name="Textfeld 11"/>
          <p:cNvSpPr/>
          <p:nvPr/>
        </p:nvSpPr>
        <p:spPr>
          <a:xfrm>
            <a:off x="3947040" y="4292640"/>
            <a:ext cx="4753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…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руги 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у 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у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!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687" name="Picture 8" descr="getty_BSY_083"/>
          <p:cNvPicPr/>
          <p:nvPr/>
        </p:nvPicPr>
        <p:blipFill>
          <a:blip r:embed="rId1"/>
          <a:stretch/>
        </p:blipFill>
        <p:spPr>
          <a:xfrm>
            <a:off x="844560" y="3814920"/>
            <a:ext cx="2728800" cy="181908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9" descr="200249342-001"/>
          <p:cNvPicPr/>
          <p:nvPr/>
        </p:nvPicPr>
        <p:blipFill>
          <a:blip r:embed="rId2"/>
          <a:stretch/>
        </p:blipFill>
        <p:spPr>
          <a:xfrm>
            <a:off x="3362400" y="1258920"/>
            <a:ext cx="2739960" cy="216864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90" name="TextBox 8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91" name="TextBox 9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92" name="TextBox 10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5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j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ичу 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755640" y="1125000"/>
            <a:ext cx="7678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•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Спр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других лиц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,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у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,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или у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у з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мљи з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у 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риз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•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ja 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вих пр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ли 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ључ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ци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•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20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ди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у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95" name="Rechteck 3"/>
          <p:cNvSpPr/>
          <p:nvPr/>
        </p:nvSpPr>
        <p:spPr>
          <a:xfrm>
            <a:off x="738360" y="4329000"/>
            <a:ext cx="74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т 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 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б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ђу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ришћ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њ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!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96" name="Textfeld 5"/>
          <p:cNvSpPr/>
          <p:nvPr/>
        </p:nvSpPr>
        <p:spPr>
          <a:xfrm rot="19931400">
            <a:off x="6197040" y="4938840"/>
            <a:ext cx="282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жи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!!!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97" name="Rectangle 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98" name="TextBox 6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99" name="TextBox 7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00" name="TextBox 8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6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зг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?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•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бл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ски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  –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, 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и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, 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ум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тд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•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ст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т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  –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150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ћ при 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и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у других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них при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•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ис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  –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(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с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  –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T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чки 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 т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и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  –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б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н из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•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</a:t>
            </a: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тни з</a:t>
            </a: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хт</a:t>
            </a:r>
            <a:r>
              <a:rPr b="0" lang="en-GB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и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  –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у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м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и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•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рти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  –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лустру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п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т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ис пр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03" name="Rectangle 3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04" name="TextBox 4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05" name="TextBox 5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06" name="TextBox 6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7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4" descr=""/>
          <p:cNvPicPr/>
          <p:nvPr/>
        </p:nvPicPr>
        <p:blipFill>
          <a:blip r:embed="rId1"/>
          <a:stretch/>
        </p:blipFill>
        <p:spPr>
          <a:xfrm>
            <a:off x="863640" y="958680"/>
            <a:ext cx="5904000" cy="5286600"/>
          </a:xfrm>
          <a:prstGeom prst="rect">
            <a:avLst/>
          </a:prstGeom>
          <a:ln w="0">
            <a:noFill/>
          </a:ln>
        </p:spPr>
      </p:pic>
      <p:sp>
        <p:nvSpPr>
          <p:cNvPr id="708" name="Rectangle 2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09" name="TextBox 3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10" name="TextBox 4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11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8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руктур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ис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698508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•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ни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  –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ник с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a je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дним 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тв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•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 у с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у т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ни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  – 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дузим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мн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вр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•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т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и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  –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Скр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тити вр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бн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сип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aj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•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  –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вити 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jo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ш 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je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н 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тв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•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 пр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к</a:t>
            </a: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  –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Скр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ћу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вр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бн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    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пуни виш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љиц</a:t>
            </a:r>
            <a:r>
              <a:rPr b="0" i="1" lang="en-GB" sz="1800" spc="-1" strike="noStrike">
                <a:solidFill>
                  <a:srgbClr val="4c575f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714" name="Picture 4" descr=""/>
          <p:cNvPicPr/>
          <p:nvPr/>
        </p:nvPicPr>
        <p:blipFill>
          <a:blip r:embed="rId1"/>
          <a:stretch/>
        </p:blipFill>
        <p:spPr>
          <a:xfrm>
            <a:off x="5923080" y="1125360"/>
            <a:ext cx="2592360" cy="415008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4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16" name="TextBox 5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17" name="TextBox 6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18" name="TextBox 7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19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68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Циљ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и уч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760320" y="1125360"/>
            <a:ext cx="8204400" cy="46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у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 ш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у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н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т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•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ит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гу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в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 –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у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 ш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  –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 ш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из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 –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у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и 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у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стити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  –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ти у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 с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и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у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стити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нф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и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з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49" name="TextBox 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50" name="TextBox 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51" name="TextBox 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55640" y="407520"/>
            <a:ext cx="81612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и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и 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br>
              <a:rPr sz="2400"/>
            </a:b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с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г 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?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755280" y="1160280"/>
            <a:ext cx="7666200" cy="12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8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ци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су…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8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• 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ви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с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у (нису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х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 у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и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8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• 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инв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нтивни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„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г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”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8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•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и 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ндустр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ку пр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21" name="Rechteck 3"/>
          <p:cNvSpPr/>
          <p:nvPr/>
        </p:nvSpPr>
        <p:spPr>
          <a:xfrm>
            <a:off x="755640" y="2889360"/>
            <a:ext cx="777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 M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ГУ С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T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T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ИР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T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И: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•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у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ид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су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су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•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фтв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ри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в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 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(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ћ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тми 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ћу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х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ижу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хнички 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ул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•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ступци з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сл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•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упци 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љ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,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итд.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• …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22" name="Rechteck 5"/>
          <p:cNvSpPr/>
          <p:nvPr/>
        </p:nvSpPr>
        <p:spPr>
          <a:xfrm>
            <a:off x="750960" y="5624640"/>
            <a:ext cx="806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иди ч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52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53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o 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с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 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у,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у: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http://www.epo.org/law-practice/legal-texts/epc.html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23" name="Rectangle 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24" name="TextBox 6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25" name="TextBox 7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26" name="TextBox 8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0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18" descr="dv1925025"/>
          <p:cNvPicPr/>
          <p:nvPr/>
        </p:nvPicPr>
        <p:blipFill>
          <a:blip r:embed="rId1"/>
          <a:srcRect l="0" t="0" r="0" b="16805"/>
          <a:stretch/>
        </p:blipFill>
        <p:spPr>
          <a:xfrm>
            <a:off x="826920" y="3968640"/>
            <a:ext cx="1584360" cy="104472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17" descr="stk316015rkn"/>
          <p:cNvPicPr/>
          <p:nvPr/>
        </p:nvPicPr>
        <p:blipFill>
          <a:blip r:embed="rId2"/>
          <a:srcRect l="0" t="44849" r="0" b="0"/>
          <a:stretch/>
        </p:blipFill>
        <p:spPr>
          <a:xfrm>
            <a:off x="826920" y="2637000"/>
            <a:ext cx="1584360" cy="104436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16" descr="dv656042"/>
          <p:cNvPicPr/>
          <p:nvPr/>
        </p:nvPicPr>
        <p:blipFill>
          <a:blip r:embed="rId3"/>
          <a:stretch/>
        </p:blipFill>
        <p:spPr>
          <a:xfrm>
            <a:off x="826920" y="1268280"/>
            <a:ext cx="1584360" cy="10368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55640" y="390240"/>
            <a:ext cx="7905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см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дит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 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змишљ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br>
              <a:rPr sz="2000"/>
            </a:b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ву п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0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31" name="Textfeld 15"/>
          <p:cNvSpPr/>
          <p:nvPr/>
        </p:nvSpPr>
        <p:spPr>
          <a:xfrm>
            <a:off x="2735280" y="1165320"/>
            <a:ext cx="6408720" cy="50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•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љи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и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 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пр,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љи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 ч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,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ш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ф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/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/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ниц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т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љи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и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•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и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e 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 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г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•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држ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и 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или 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,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им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пи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  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уг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р 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eo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ткрив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њу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рљивих инф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рм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ци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j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(NDA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•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жи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тручни с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 ш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!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•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и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тну при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у 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ш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други 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 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учи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!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32" name="Gerade Verbindung 24"/>
          <p:cNvSpPr/>
          <p:nvPr/>
        </p:nvSpPr>
        <p:spPr>
          <a:xfrm flipV="1">
            <a:off x="971640" y="1304640"/>
            <a:ext cx="1241280" cy="949320"/>
          </a:xfrm>
          <a:prstGeom prst="line">
            <a:avLst/>
          </a:prstGeom>
          <a:ln w="57240">
            <a:solidFill>
              <a:srgbClr val="bf3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33" name="Gerade Verbindung 25"/>
          <p:cNvSpPr/>
          <p:nvPr/>
        </p:nvSpPr>
        <p:spPr>
          <a:xfrm flipH="1" flipV="1">
            <a:off x="971280" y="1267920"/>
            <a:ext cx="1204920" cy="986040"/>
          </a:xfrm>
          <a:prstGeom prst="line">
            <a:avLst/>
          </a:prstGeom>
          <a:ln w="57240">
            <a:solidFill>
              <a:srgbClr val="bf3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34" name="Gerade Verbindung 26"/>
          <p:cNvSpPr/>
          <p:nvPr/>
        </p:nvSpPr>
        <p:spPr>
          <a:xfrm flipV="1">
            <a:off x="968400" y="2664000"/>
            <a:ext cx="1246320" cy="954000"/>
          </a:xfrm>
          <a:prstGeom prst="line">
            <a:avLst/>
          </a:prstGeom>
          <a:ln w="57240">
            <a:solidFill>
              <a:srgbClr val="bf3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35" name="Gerade Verbindung 27"/>
          <p:cNvSpPr/>
          <p:nvPr/>
        </p:nvSpPr>
        <p:spPr>
          <a:xfrm flipH="1" flipV="1">
            <a:off x="968040" y="2664000"/>
            <a:ext cx="1281240" cy="954000"/>
          </a:xfrm>
          <a:prstGeom prst="line">
            <a:avLst/>
          </a:prstGeom>
          <a:ln w="57240">
            <a:solidFill>
              <a:srgbClr val="bf3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36" name="Textfeld 36"/>
          <p:cNvSpPr/>
          <p:nvPr/>
        </p:nvSpPr>
        <p:spPr>
          <a:xfrm rot="19569000">
            <a:off x="745920" y="4039920"/>
            <a:ext cx="150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362b"/>
                </a:solidFill>
                <a:latin typeface="Arial"/>
              </a:rPr>
              <a:t>NDA</a:t>
            </a:r>
            <a:endParaRPr b="0" lang="en-US" sz="4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737" name="Picture 19" descr="57279541"/>
          <p:cNvPicPr/>
          <p:nvPr/>
        </p:nvPicPr>
        <p:blipFill>
          <a:blip r:embed="rId4"/>
          <a:srcRect l="0" t="50394" r="0" b="0"/>
          <a:stretch/>
        </p:blipFill>
        <p:spPr>
          <a:xfrm>
            <a:off x="826920" y="5337000"/>
            <a:ext cx="1578240" cy="1044720"/>
          </a:xfrm>
          <a:prstGeom prst="rect">
            <a:avLst/>
          </a:prstGeom>
          <a:ln w="0">
            <a:noFill/>
          </a:ln>
        </p:spPr>
      </p:pic>
      <p:sp>
        <p:nvSpPr>
          <p:cNvPr id="738" name="Rectangle 12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39" name="TextBox 13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40" name="TextBox 14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41" name="TextBox 15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1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Г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и 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?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755640" y="1125360"/>
            <a:ext cx="76788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• 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лни з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ди з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  –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ни 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 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жи искључив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у з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мљи з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у 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призн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  –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и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и 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гу 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и при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у 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  –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ину 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„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ст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”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пски з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д з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  – 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ски 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 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квив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н н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лним п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нтим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    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 з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љ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je j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из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 (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ил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ц при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би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љ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)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• 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Пут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м Уг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a o 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дњи у 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бл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сти п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a (PCT)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  –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 j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си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 141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љу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  –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 пр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ф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,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ђу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    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и с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иш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них 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ту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спити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  – 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длук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oje 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др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зум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у 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др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шк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     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дл</a:t>
            </a:r>
            <a:r>
              <a:rPr b="1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жити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 д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 30-31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ци 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 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(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пр, изб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 з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љ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 к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ћ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и п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и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a)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362b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c0362b"/>
                </a:solidFill>
                <a:latin typeface="Arial"/>
              </a:rPr>
              <a:t>Me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ђун</a:t>
            </a:r>
            <a:r>
              <a:rPr b="1" lang="en-US" sz="16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р</a:t>
            </a:r>
            <a:r>
              <a:rPr b="1" lang="en-US" sz="16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дни п</a:t>
            </a:r>
            <a:r>
              <a:rPr b="1" lang="en-US" sz="16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1" lang="en-US" sz="16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нт н</a:t>
            </a:r>
            <a:r>
              <a:rPr b="1" lang="en-US" sz="16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п</a:t>
            </a:r>
            <a:r>
              <a:rPr b="1" lang="en-US" sz="16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ст</a:t>
            </a:r>
            <a:r>
              <a:rPr b="1" lang="en-US" sz="1600" spc="-1" strike="noStrike">
                <a:solidFill>
                  <a:srgbClr val="c0362b"/>
                </a:solidFill>
                <a:latin typeface="Arial"/>
              </a:rPr>
              <a:t>oj</a:t>
            </a:r>
            <a:r>
              <a:rPr b="1" lang="sr-RS" sz="1600" spc="-1" strike="noStrike">
                <a:solidFill>
                  <a:srgbClr val="c0362b"/>
                </a:solidFill>
                <a:latin typeface="Arial"/>
              </a:rPr>
              <a:t>и!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45" name="TextBox 4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46" name="TextBox 5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47" name="TextBox 6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2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у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 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из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-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cxnSp>
        <p:nvCxnSpPr>
          <p:cNvPr id="749" name="Gerade Verbindung mit Pfeil 3"/>
          <p:cNvCxnSpPr/>
          <p:nvPr/>
        </p:nvCxnSpPr>
        <p:spPr>
          <a:xfrm>
            <a:off x="1380600" y="2171880"/>
            <a:ext cx="7303320" cy="2160"/>
          </a:xfrm>
          <a:prstGeom prst="straightConnector1">
            <a:avLst/>
          </a:prstGeom>
          <a:ln w="9360">
            <a:solidFill>
              <a:srgbClr val="bf3126"/>
            </a:solidFill>
            <a:miter/>
            <a:tailEnd len="med" type="triangle" w="med"/>
          </a:ln>
        </p:spPr>
      </p:cxnSp>
      <p:sp>
        <p:nvSpPr>
          <p:cNvPr id="750" name="Ellipse 4"/>
          <p:cNvSpPr/>
          <p:nvPr/>
        </p:nvSpPr>
        <p:spPr>
          <a:xfrm>
            <a:off x="1380960" y="2136600"/>
            <a:ext cx="73080" cy="73080"/>
          </a:xfrm>
          <a:prstGeom prst="ellipse">
            <a:avLst/>
          </a:prstGeom>
          <a:solidFill>
            <a:srgbClr val="c0362b"/>
          </a:solidFill>
          <a:ln w="255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51" name="Ellipse 5"/>
          <p:cNvSpPr/>
          <p:nvPr/>
        </p:nvSpPr>
        <p:spPr>
          <a:xfrm>
            <a:off x="2695680" y="2136600"/>
            <a:ext cx="73080" cy="73080"/>
          </a:xfrm>
          <a:prstGeom prst="ellipse">
            <a:avLst/>
          </a:prstGeom>
          <a:solidFill>
            <a:srgbClr val="c0362b"/>
          </a:solidFill>
          <a:ln w="255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52" name="Ellipse 6"/>
          <p:cNvSpPr/>
          <p:nvPr/>
        </p:nvSpPr>
        <p:spPr>
          <a:xfrm>
            <a:off x="4046400" y="2136600"/>
            <a:ext cx="73080" cy="73080"/>
          </a:xfrm>
          <a:prstGeom prst="ellipse">
            <a:avLst/>
          </a:prstGeom>
          <a:solidFill>
            <a:srgbClr val="c0362b"/>
          </a:solidFill>
          <a:ln w="255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53" name="Ellipse 7"/>
          <p:cNvSpPr/>
          <p:nvPr/>
        </p:nvSpPr>
        <p:spPr>
          <a:xfrm>
            <a:off x="6602400" y="2136600"/>
            <a:ext cx="73080" cy="73080"/>
          </a:xfrm>
          <a:prstGeom prst="ellipse">
            <a:avLst/>
          </a:prstGeom>
          <a:solidFill>
            <a:srgbClr val="c0362b"/>
          </a:solidFill>
          <a:ln w="255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54" name="Ellipse 8"/>
          <p:cNvSpPr/>
          <p:nvPr/>
        </p:nvSpPr>
        <p:spPr>
          <a:xfrm>
            <a:off x="8209080" y="2136600"/>
            <a:ext cx="73080" cy="73080"/>
          </a:xfrm>
          <a:prstGeom prst="ellipse">
            <a:avLst/>
          </a:prstGeom>
          <a:solidFill>
            <a:srgbClr val="c0362b"/>
          </a:solidFill>
          <a:ln w="255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55" name="Textfeld 9"/>
          <p:cNvSpPr/>
          <p:nvPr/>
        </p:nvSpPr>
        <p:spPr>
          <a:xfrm>
            <a:off x="767880" y="17352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56" name="Textfeld 11"/>
          <p:cNvSpPr/>
          <p:nvPr/>
        </p:nvSpPr>
        <p:spPr>
          <a:xfrm>
            <a:off x="1845720" y="1341360"/>
            <a:ext cx="17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в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т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j o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0" lang="sr-Latn-C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у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57" name="Textfeld 12"/>
          <p:cNvSpPr/>
          <p:nvPr/>
        </p:nvSpPr>
        <p:spPr>
          <a:xfrm>
            <a:off x="3579840" y="1454040"/>
            <a:ext cx="98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58" name="Textfeld 13"/>
          <p:cNvSpPr/>
          <p:nvPr/>
        </p:nvSpPr>
        <p:spPr>
          <a:xfrm>
            <a:off x="6136920" y="1442880"/>
            <a:ext cx="12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з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59" name="Textfeld 14"/>
          <p:cNvSpPr/>
          <p:nvPr/>
        </p:nvSpPr>
        <p:spPr>
          <a:xfrm>
            <a:off x="7731360" y="1150920"/>
            <a:ext cx="121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сти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 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и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60" name="Gebogener Pfeil 15"/>
          <p:cNvSpPr/>
          <p:nvPr/>
        </p:nvSpPr>
        <p:spPr>
          <a:xfrm rot="5400000">
            <a:off x="2275200" y="2446920"/>
            <a:ext cx="985680" cy="1095480"/>
          </a:xfrm>
          <a:custGeom>
            <a:avLst/>
            <a:gdLst>
              <a:gd name="textAreaLeft" fmla="*/ 187920 w 985680"/>
              <a:gd name="textAreaRight" fmla="*/ 797760 w 985680"/>
              <a:gd name="textAreaTop" fmla="*/ 203760 h 1095480"/>
              <a:gd name="textAreaBottom" fmla="*/ 891720 h 1095480"/>
            </a:gdLst>
            <a:ahLst/>
            <a:rect l="textAreaLeft" t="textAreaTop" r="textAreaRight" b="textAreaBottom"/>
            <a:pathLst>
              <a:path w="985838" h="1095375">
                <a:moveTo>
                  <a:pt x="517867" y="62429"/>
                </a:moveTo>
                <a:lnTo>
                  <a:pt x="517867" y="62428"/>
                </a:lnTo>
                <a:cubicBezTo>
                  <a:pt x="704757" y="74632"/>
                  <a:pt x="863324" y="221312"/>
                  <a:pt x="910377" y="425515"/>
                </a:cubicBezTo>
                <a:lnTo>
                  <a:pt x="970193" y="425514"/>
                </a:lnTo>
                <a:lnTo>
                  <a:pt x="862608" y="547688"/>
                </a:lnTo>
                <a:lnTo>
                  <a:pt x="723733" y="425514"/>
                </a:lnTo>
                <a:lnTo>
                  <a:pt x="783004" y="425514"/>
                </a:lnTo>
                <a:lnTo>
                  <a:pt x="783004" y="425513"/>
                </a:lnTo>
                <a:cubicBezTo>
                  <a:pt x="741471" y="288719"/>
                  <a:pt x="634663" y="194288"/>
                  <a:pt x="511539" y="185507"/>
                </a:cubicBezTo>
                <a:lnTo>
                  <a:pt x="517867" y="62429"/>
                </a:lnTo>
                <a:close/>
              </a:path>
            </a:pathLst>
          </a:cu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61" name="Textfeld 16"/>
          <p:cNvSpPr/>
          <p:nvPr/>
        </p:nvSpPr>
        <p:spPr>
          <a:xfrm>
            <a:off x="1194480" y="3195720"/>
            <a:ext cx="15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л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?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62" name="Pfeil nach rechts 19"/>
          <p:cNvSpPr/>
          <p:nvPr/>
        </p:nvSpPr>
        <p:spPr>
          <a:xfrm>
            <a:off x="1380960" y="2465280"/>
            <a:ext cx="2665440" cy="474840"/>
          </a:xfrm>
          <a:prstGeom prst="rightArrow">
            <a:avLst>
              <a:gd name="adj1" fmla="val 99426"/>
              <a:gd name="adj2" fmla="val 49974"/>
            </a:avLst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18 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ц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63" name="Pfeil nach rechts 20"/>
          <p:cNvSpPr/>
          <p:nvPr/>
        </p:nvSpPr>
        <p:spPr>
          <a:xfrm>
            <a:off x="1380960" y="3889440"/>
            <a:ext cx="5221440" cy="474480"/>
          </a:xfrm>
          <a:prstGeom prst="rightArrow">
            <a:avLst>
              <a:gd name="adj1" fmla="val 99426"/>
              <a:gd name="adj2" fmla="val 50030"/>
            </a:avLst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иближ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4-5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и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64" name="Pfeil nach rechts 21"/>
          <p:cNvSpPr/>
          <p:nvPr/>
        </p:nvSpPr>
        <p:spPr>
          <a:xfrm>
            <a:off x="6675480" y="3889440"/>
            <a:ext cx="1496880" cy="474480"/>
          </a:xfrm>
          <a:prstGeom prst="rightArrow">
            <a:avLst>
              <a:gd name="adj1" fmla="val 99426"/>
              <a:gd name="adj2" fmla="val 50009"/>
            </a:avLst>
          </a:prstGeom>
          <a:solidFill>
            <a:srgbClr val="c03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9 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ц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65" name="Gerade Verbindung 24"/>
          <p:cNvSpPr/>
          <p:nvPr/>
        </p:nvSpPr>
        <p:spPr>
          <a:xfrm>
            <a:off x="4083120" y="2205000"/>
            <a:ext cx="0" cy="771480"/>
          </a:xfrm>
          <a:prstGeom prst="line">
            <a:avLst/>
          </a:prstGeom>
          <a:ln w="9360">
            <a:solidFill>
              <a:srgbClr val="bf312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66" name="Gerade Verbindung 25"/>
          <p:cNvSpPr/>
          <p:nvPr/>
        </p:nvSpPr>
        <p:spPr>
          <a:xfrm flipH="1">
            <a:off x="6638400" y="2173320"/>
            <a:ext cx="1800" cy="2227320"/>
          </a:xfrm>
          <a:prstGeom prst="line">
            <a:avLst/>
          </a:prstGeom>
          <a:ln w="9360">
            <a:solidFill>
              <a:srgbClr val="bf312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67" name="Gerade Verbindung 26"/>
          <p:cNvSpPr/>
          <p:nvPr/>
        </p:nvSpPr>
        <p:spPr>
          <a:xfrm flipH="1">
            <a:off x="8244000" y="2173320"/>
            <a:ext cx="1440" cy="2227320"/>
          </a:xfrm>
          <a:prstGeom prst="line">
            <a:avLst/>
          </a:prstGeom>
          <a:ln w="9360">
            <a:solidFill>
              <a:srgbClr val="bf312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68" name="Text Box 22"/>
          <p:cNvSpPr/>
          <p:nvPr/>
        </p:nvSpPr>
        <p:spPr>
          <a:xfrm>
            <a:off x="7596360" y="81000"/>
            <a:ext cx="15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пци</a:t>
            </a: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ни сл</a:t>
            </a: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aj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69" name="Rectangle 22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70" name="TextBox 23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71" name="TextBox 27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72" name="TextBox 28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3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у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 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у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PCT-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74" name="Rechteck 56"/>
          <p:cNvSpPr/>
          <p:nvPr/>
        </p:nvSpPr>
        <p:spPr>
          <a:xfrm>
            <a:off x="863640" y="1268280"/>
            <a:ext cx="5403960" cy="657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M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ућ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х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 (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в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ств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75" name="Rechteck 57"/>
          <p:cNvSpPr/>
          <p:nvPr/>
        </p:nvSpPr>
        <p:spPr>
          <a:xfrm>
            <a:off x="863640" y="2035080"/>
            <a:ext cx="5403960" cy="657360"/>
          </a:xfrm>
          <a:prstGeom prst="rect">
            <a:avLst/>
          </a:prstGeom>
          <a:solidFill>
            <a:srgbClr val="c0362b"/>
          </a:solidFill>
          <a:ln w="255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T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т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76" name="Rechteck 58"/>
          <p:cNvSpPr/>
          <p:nvPr/>
        </p:nvSpPr>
        <p:spPr>
          <a:xfrm>
            <a:off x="863640" y="3568680"/>
            <a:ext cx="5403960" cy="876240"/>
          </a:xfrm>
          <a:prstGeom prst="rect">
            <a:avLst/>
          </a:prstGeom>
          <a:solidFill>
            <a:srgbClr val="4c575f"/>
          </a:solidFill>
          <a:ln w="255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и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ил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ц 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лучу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je: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х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н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спитив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e?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 д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ум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в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ств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77" name="Rechteck 59"/>
          <p:cNvSpPr/>
          <p:nvPr/>
        </p:nvSpPr>
        <p:spPr>
          <a:xfrm>
            <a:off x="863640" y="4554360"/>
            <a:ext cx="2665440" cy="657360"/>
          </a:xfrm>
          <a:prstGeom prst="rect">
            <a:avLst/>
          </a:prstGeom>
          <a:solidFill>
            <a:srgbClr val="4c575f"/>
          </a:solidFill>
          <a:ln w="255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Дир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кт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н ул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к у</a:t>
            </a:r>
            <a:endParaRPr b="0" lang="en-US" sz="17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ци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лну/р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ги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лну</a:t>
            </a:r>
            <a:endParaRPr b="0" lang="en-US" sz="17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зу</a:t>
            </a:r>
            <a:endParaRPr b="0" lang="en-US" sz="17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78" name="Rechteck 60"/>
          <p:cNvSpPr/>
          <p:nvPr/>
        </p:nvSpPr>
        <p:spPr>
          <a:xfrm>
            <a:off x="3638520" y="4554360"/>
            <a:ext cx="2629080" cy="657360"/>
          </a:xfrm>
          <a:prstGeom prst="rect">
            <a:avLst/>
          </a:prstGeom>
          <a:solidFill>
            <a:srgbClr val="4c575f"/>
          </a:solidFill>
          <a:ln w="255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х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спити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79" name="Rechteck 63"/>
          <p:cNvSpPr/>
          <p:nvPr/>
        </p:nvSpPr>
        <p:spPr>
          <a:xfrm>
            <a:off x="863640" y="2801880"/>
            <a:ext cx="5403960" cy="657360"/>
          </a:xfrm>
          <a:prstGeom prst="rect">
            <a:avLst/>
          </a:prstGeom>
          <a:solidFill>
            <a:srgbClr val="4c575f"/>
          </a:solidFill>
          <a:ln w="255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a 18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ц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 д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ум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в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ств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80" name="Rechteck 64"/>
          <p:cNvSpPr/>
          <p:nvPr/>
        </p:nvSpPr>
        <p:spPr>
          <a:xfrm>
            <a:off x="863640" y="5321160"/>
            <a:ext cx="5403960" cy="657360"/>
          </a:xfrm>
          <a:prstGeom prst="rect">
            <a:avLst/>
          </a:prstGeom>
          <a:solidFill>
            <a:srgbClr val="c0362b"/>
          </a:solidFill>
          <a:ln w="255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-31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ци 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 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81" name="Rechteck 65"/>
          <p:cNvSpPr/>
          <p:nvPr/>
        </p:nvSpPr>
        <p:spPr>
          <a:xfrm>
            <a:off x="1634040" y="4111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82" name="Rechteck 66"/>
          <p:cNvSpPr/>
          <p:nvPr/>
        </p:nvSpPr>
        <p:spPr>
          <a:xfrm>
            <a:off x="5029920" y="41162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83" name="Pfeil nach unten 12"/>
          <p:cNvSpPr/>
          <p:nvPr/>
        </p:nvSpPr>
        <p:spPr>
          <a:xfrm>
            <a:off x="1776240" y="4435560"/>
            <a:ext cx="219240" cy="145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362b"/>
          </a:solidFill>
          <a:ln w="255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84" name="Pfeil nach unten 13"/>
          <p:cNvSpPr/>
          <p:nvPr/>
        </p:nvSpPr>
        <p:spPr>
          <a:xfrm>
            <a:off x="5208480" y="4435560"/>
            <a:ext cx="219240" cy="145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362b"/>
          </a:solidFill>
          <a:ln w="255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85" name="Text Box 14"/>
          <p:cNvSpPr/>
          <p:nvPr/>
        </p:nvSpPr>
        <p:spPr>
          <a:xfrm>
            <a:off x="7740720" y="81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пци</a:t>
            </a: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ни сл</a:t>
            </a: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aj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86" name="Rectangle 14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87" name="TextBox 15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88" name="TextBox 16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89" name="TextBox 17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4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hteck 8"/>
          <p:cNvSpPr/>
          <p:nvPr/>
        </p:nvSpPr>
        <p:spPr>
          <a:xfrm>
            <a:off x="858960" y="1563840"/>
            <a:ext cx="7097760" cy="3274920"/>
          </a:xfrm>
          <a:prstGeom prst="rect">
            <a:avLst/>
          </a:prstGeom>
          <a:solidFill>
            <a:srgbClr val="4c57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91" name="Rechteck 9"/>
          <p:cNvSpPr/>
          <p:nvPr/>
        </p:nvSpPr>
        <p:spPr>
          <a:xfrm>
            <a:off x="968400" y="1685880"/>
            <a:ext cx="3440160" cy="300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spcAft>
                <a:spcPts val="1800"/>
              </a:spcAft>
              <a:buClr>
                <a:srgbClr val="4c575f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скључив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ућ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нв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ици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в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ћ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х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нв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ици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j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266760" indent="-266760">
              <a:spcAft>
                <a:spcPts val="1800"/>
              </a:spcAft>
              <a:buClr>
                <a:srgbClr val="4c575f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утужив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ск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266760" indent="-266760">
              <a:spcAft>
                <a:spcPts val="1800"/>
              </a:spcAft>
              <a:buClr>
                <a:srgbClr val="4c575f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 п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 тржишн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р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ств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(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ц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цир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92" name="Rechteck 10"/>
          <p:cNvSpPr/>
          <p:nvPr/>
        </p:nvSpPr>
        <p:spPr>
          <a:xfrm>
            <a:off x="4535640" y="1685880"/>
            <a:ext cx="3286080" cy="3009960"/>
          </a:xfrm>
          <a:prstGeom prst="rect">
            <a:avLst/>
          </a:prstGeom>
          <a:solidFill>
            <a:srgbClr val="d9de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spcAft>
                <a:spcPts val="1800"/>
              </a:spcAft>
              <a:buClr>
                <a:srgbClr val="4c575f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 с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крив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 к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кур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ци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(н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18 м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285840" indent="-285840">
              <a:spcAft>
                <a:spcPts val="1800"/>
              </a:spcAft>
              <a:buClr>
                <a:srgbClr val="4c575f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M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ити скуп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285840" indent="-285840">
              <a:spcAft>
                <a:spcPts val="1800"/>
              </a:spcAft>
              <a:buClr>
                <a:srgbClr val="4c575f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 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тужив т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 н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 призн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 (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 пр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 4-5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н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и и 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ци 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и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94" name="Textfeld 6"/>
          <p:cNvSpPr/>
          <p:nvPr/>
        </p:nvSpPr>
        <p:spPr>
          <a:xfrm>
            <a:off x="755640" y="116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дн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ст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95" name="Textfeld 7"/>
          <p:cNvSpPr/>
          <p:nvPr/>
        </p:nvSpPr>
        <p:spPr>
          <a:xfrm>
            <a:off x="4438440" y="1160640"/>
            <a:ext cx="14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д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ст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ц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96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97" name="TextBox 11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98" name="TextBox 12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799" name="TextBox 13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5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hteck 18"/>
          <p:cNvSpPr/>
          <p:nvPr/>
        </p:nvSpPr>
        <p:spPr>
          <a:xfrm>
            <a:off x="858960" y="5396040"/>
            <a:ext cx="8069040" cy="912600"/>
          </a:xfrm>
          <a:prstGeom prst="rect">
            <a:avLst/>
          </a:prstGeom>
          <a:solidFill>
            <a:srgbClr val="4c57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01" name="Rechteck 17"/>
          <p:cNvSpPr/>
          <p:nvPr/>
        </p:nvSpPr>
        <p:spPr>
          <a:xfrm>
            <a:off x="858960" y="1528920"/>
            <a:ext cx="8069040" cy="1168200"/>
          </a:xfrm>
          <a:prstGeom prst="rect">
            <a:avLst/>
          </a:prstGeom>
          <a:solidFill>
            <a:srgbClr val="4c57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02" name="Rechteck 16"/>
          <p:cNvSpPr/>
          <p:nvPr/>
        </p:nvSpPr>
        <p:spPr>
          <a:xfrm>
            <a:off x="858960" y="3300480"/>
            <a:ext cx="8069040" cy="1496880"/>
          </a:xfrm>
          <a:prstGeom prst="rect">
            <a:avLst/>
          </a:prstGeom>
          <a:solidFill>
            <a:srgbClr val="4c57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и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и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у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04" name="Rechteck 4"/>
          <p:cNvSpPr/>
          <p:nvPr/>
        </p:nvSpPr>
        <p:spPr>
          <a:xfrm>
            <a:off x="932040" y="1601640"/>
            <a:ext cx="3797280" cy="10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4c575f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фтин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285840" indent="-285840">
              <a:buClr>
                <a:srgbClr val="4c575f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пр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руг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 п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ир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исти пр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05" name="Rechteck 5"/>
          <p:cNvSpPr/>
          <p:nvPr/>
        </p:nvSpPr>
        <p:spPr>
          <a:xfrm>
            <a:off x="4838760" y="1601640"/>
            <a:ext cx="4016160" cy="1022400"/>
          </a:xfrm>
          <a:prstGeom prst="rect">
            <a:avLst/>
          </a:prstGeom>
          <a:solidFill>
            <a:srgbClr val="d9de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4c575f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б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у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скључив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285840" indent="-285840">
              <a:buClr>
                <a:srgbClr val="4c575f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 с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крив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 к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кур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ци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06" name="Rechteck 9"/>
          <p:cNvSpPr/>
          <p:nvPr/>
        </p:nvSpPr>
        <p:spPr>
          <a:xfrm>
            <a:off x="932040" y="3373560"/>
            <a:ext cx="3797280" cy="135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4c575f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фтин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 (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 п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к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и 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рж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и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285840" indent="-285840">
              <a:buClr>
                <a:srgbClr val="4c575f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 с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крив</a:t>
            </a:r>
            <a:r>
              <a:rPr b="0" lang="sr-Latn-RS" sz="1800" spc="-1" strike="noStrike">
                <a:solidFill>
                  <a:srgbClr val="4c575f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07" name="Rechteck 10"/>
          <p:cNvSpPr/>
          <p:nvPr/>
        </p:nvSpPr>
        <p:spPr>
          <a:xfrm>
            <a:off x="4838760" y="3373560"/>
            <a:ext cx="4016160" cy="1350720"/>
          </a:xfrm>
          <a:prstGeom prst="rect">
            <a:avLst/>
          </a:prstGeom>
          <a:solidFill>
            <a:srgbClr val="d9de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4c575f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тит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зибил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инж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ин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/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и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285840" indent="-285840">
              <a:buClr>
                <a:srgbClr val="4c575f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T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тужу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285840" indent="-285840">
              <a:buClr>
                <a:srgbClr val="4c575f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Ta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”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р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р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у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08" name="Rechteck 11"/>
          <p:cNvSpPr/>
          <p:nvPr/>
        </p:nvSpPr>
        <p:spPr>
          <a:xfrm>
            <a:off x="932040" y="5489640"/>
            <a:ext cx="3797280" cy="73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buClr>
                <a:srgbClr val="4c575f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иску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09" name="Rechteck 12"/>
          <p:cNvSpPr/>
          <p:nvPr/>
        </p:nvSpPr>
        <p:spPr>
          <a:xfrm>
            <a:off x="4811760" y="5489640"/>
            <a:ext cx="4043160" cy="730080"/>
          </a:xfrm>
          <a:prstGeom prst="rect">
            <a:avLst/>
          </a:prstGeom>
          <a:solidFill>
            <a:srgbClr val="d9de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4c575f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sr-Latn-RS" sz="1700" spc="-1" strike="noStrike">
                <a:solidFill>
                  <a:srgbClr val="4c575f"/>
                </a:solidFill>
                <a:latin typeface="Arial"/>
              </a:rPr>
              <a:t>e 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sr-Latn-R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зб</a:t>
            </a:r>
            <a:r>
              <a:rPr b="0" lang="sr-Latn-R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ђу</a:t>
            </a:r>
            <a:r>
              <a:rPr b="0" lang="sr-Latn-RS" sz="17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искључив</a:t>
            </a:r>
            <a:r>
              <a:rPr b="0" lang="sr-Latn-RS" sz="17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sr-Latn-R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sr-Latn-RS" sz="17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700" spc="-1" strike="noStrike">
              <a:solidFill>
                <a:srgbClr val="4c575f"/>
              </a:solidFill>
              <a:latin typeface="Arial"/>
            </a:endParaRPr>
          </a:p>
          <a:p>
            <a:pPr marL="285840" indent="-285840">
              <a:buClr>
                <a:srgbClr val="4c575f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sr-Latn-RS" sz="17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нкур</a:t>
            </a:r>
            <a:r>
              <a:rPr b="0" lang="sr-Latn-R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нци</a:t>
            </a:r>
            <a:r>
              <a:rPr b="0" lang="sr-Latn-RS" sz="1700" spc="-1" strike="noStrike">
                <a:solidFill>
                  <a:srgbClr val="4c575f"/>
                </a:solidFill>
                <a:latin typeface="Arial"/>
              </a:rPr>
              <a:t>ja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sr-Latn-R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sr-Latn-RS" sz="17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sr-Latn-R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зн</a:t>
            </a:r>
            <a:r>
              <a:rPr b="0" lang="sr-Latn-RS" sz="17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sr-Latn-RS" sz="17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sr-Latn-RS" sz="17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4c575f"/>
                </a:solidFill>
                <a:latin typeface="Arial"/>
              </a:rPr>
              <a:t>љ</a:t>
            </a:r>
            <a:r>
              <a:rPr b="0" lang="sr-Latn-RS" sz="17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7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10" name="Textfeld 13"/>
          <p:cNvSpPr/>
          <p:nvPr/>
        </p:nvSpPr>
        <p:spPr>
          <a:xfrm>
            <a:off x="778680" y="1160640"/>
            <a:ext cx="40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крив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инф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рм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ja (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11" name="Textfeld 14"/>
          <p:cNvSpPr/>
          <p:nvPr/>
        </p:nvSpPr>
        <p:spPr>
          <a:xfrm>
            <a:off x="771120" y="2924280"/>
            <a:ext cx="41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Taj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т (ств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л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в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12" name="Textfeld 15"/>
          <p:cNvSpPr/>
          <p:nvPr/>
        </p:nvSpPr>
        <p:spPr>
          <a:xfrm>
            <a:off x="770400" y="5041800"/>
            <a:ext cx="27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иш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дузим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13" name="Rectangle 14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14" name="TextBox 15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15" name="TextBox 19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16" name="TextBox 20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6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ис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и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755640" y="1125360"/>
            <a:ext cx="52689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20000"/>
              </a:lnSpc>
              <a:buClr>
                <a:srgbClr val="c036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шти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из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и п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туп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    –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ити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   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–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в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н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и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ци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рс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и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ци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и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ку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г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у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и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19" name="Rectangle 3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20" name="TextBox 4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21" name="TextBox 5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22" name="TextBox 6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7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813744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их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и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ичких уни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зи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 лиц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ци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824" name="Picture 2" descr="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647640" y="1041480"/>
            <a:ext cx="5688000" cy="5025960"/>
          </a:xfrm>
          <a:prstGeom prst="rect">
            <a:avLst/>
          </a:prstGeom>
          <a:ln w="0">
            <a:noFill/>
          </a:ln>
        </p:spPr>
      </p:pic>
      <p:sp>
        <p:nvSpPr>
          <p:cNvPr id="825" name="Textfeld 4"/>
          <p:cNvSpPr/>
          <p:nvPr/>
        </p:nvSpPr>
        <p:spPr>
          <a:xfrm>
            <a:off x="768600" y="6067440"/>
            <a:ext cx="60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Изв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р: Испитив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e 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У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TM-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из 2004. у в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зи с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лиц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нцир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м у С</a:t>
            </a:r>
            <a:r>
              <a:rPr b="0" lang="en-US" sz="14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400" spc="-1" strike="noStrike">
                <a:solidFill>
                  <a:srgbClr val="4c575f"/>
                </a:solidFill>
                <a:latin typeface="Arial"/>
              </a:rPr>
              <a:t>Д-у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26" name="Text Box 5"/>
          <p:cNvSpPr/>
          <p:nvPr/>
        </p:nvSpPr>
        <p:spPr>
          <a:xfrm>
            <a:off x="7667640" y="81000"/>
            <a:ext cx="14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пци</a:t>
            </a: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ни сл</a:t>
            </a: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aj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27" name="Rectangle 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28" name="TextBox 6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29" name="TextBox 7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30" name="TextBox 8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8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ских 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832" name="Picture 5" descr=""/>
          <p:cNvPicPr/>
          <p:nvPr/>
        </p:nvPicPr>
        <p:blipFill>
          <a:blip r:embed="rId1"/>
          <a:stretch/>
        </p:blipFill>
        <p:spPr>
          <a:xfrm>
            <a:off x="1065240" y="944640"/>
            <a:ext cx="7791480" cy="4905360"/>
          </a:xfrm>
          <a:prstGeom prst="rect">
            <a:avLst/>
          </a:prstGeom>
          <a:ln w="0">
            <a:noFill/>
          </a:ln>
        </p:spPr>
      </p:pic>
      <p:sp>
        <p:nvSpPr>
          <p:cNvPr id="833" name="Textfeld 7"/>
          <p:cNvSpPr/>
          <p:nvPr/>
        </p:nvSpPr>
        <p:spPr>
          <a:xfrm>
            <a:off x="4274640" y="5734080"/>
            <a:ext cx="19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Вр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дн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ст п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34" name="Textfeld 8"/>
          <p:cNvSpPr/>
          <p:nvPr/>
        </p:nvSpPr>
        <p:spPr>
          <a:xfrm rot="16200000">
            <a:off x="-35640" y="2769480"/>
            <a:ext cx="185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Уд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eo </a:t>
            </a: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950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404950"/>
                </a:solidFill>
                <a:latin typeface="Arial"/>
              </a:rPr>
              <a:t>a, %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35" name="Text Box 6"/>
          <p:cNvSpPr/>
          <p:nvPr/>
        </p:nvSpPr>
        <p:spPr>
          <a:xfrm>
            <a:off x="7596360" y="81000"/>
            <a:ext cx="15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пци</a:t>
            </a: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ни сл</a:t>
            </a: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aj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36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37" name="TextBox 7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38" name="TextBox 8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39" name="TextBox 9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9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810252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г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 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личитих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бли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н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ту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53" name="Textfeld 6"/>
          <p:cNvSpPr/>
          <p:nvPr/>
        </p:nvSpPr>
        <p:spPr>
          <a:xfrm>
            <a:off x="965160" y="1160640"/>
            <a:ext cx="13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нск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54" name="Textfeld 7"/>
          <p:cNvSpPr/>
          <p:nvPr/>
        </p:nvSpPr>
        <p:spPr>
          <a:xfrm>
            <a:off x="3194640" y="116064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шт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a?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55" name="Textfeld 8"/>
          <p:cNvSpPr/>
          <p:nvPr/>
        </p:nvSpPr>
        <p:spPr>
          <a:xfrm>
            <a:off x="5819400" y="116064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o?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56" name="Rechteck 9"/>
          <p:cNvSpPr/>
          <p:nvPr/>
        </p:nvSpPr>
        <p:spPr>
          <a:xfrm>
            <a:off x="863640" y="2655720"/>
            <a:ext cx="1600200" cy="766800"/>
          </a:xfrm>
          <a:prstGeom prst="rect">
            <a:avLst/>
          </a:prstGeom>
          <a:solidFill>
            <a:srgbClr val="4c575f"/>
          </a:solidFill>
          <a:ln w="255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т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ск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57" name="Rechteck 10"/>
          <p:cNvSpPr/>
          <p:nvPr/>
        </p:nvSpPr>
        <p:spPr>
          <a:xfrm>
            <a:off x="2573280" y="2655720"/>
            <a:ext cx="2592360" cy="766800"/>
          </a:xfrm>
          <a:prstGeom prst="rect">
            <a:avLst/>
          </a:prstGeom>
          <a:solidFill>
            <a:srgbClr val="4c575f"/>
          </a:solidFill>
          <a:ln w="255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игин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н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р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e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ивн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ли ум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ничк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м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58" name="Rechteck 13"/>
          <p:cNvSpPr/>
          <p:nvPr/>
        </p:nvSpPr>
        <p:spPr>
          <a:xfrm>
            <a:off x="863640" y="3568680"/>
            <a:ext cx="1600200" cy="766800"/>
          </a:xfrm>
          <a:prstGeom prst="rect">
            <a:avLst/>
          </a:prstGeom>
          <a:solidFill>
            <a:srgbClr val="4c575f"/>
          </a:solidFill>
          <a:ln w="255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Жиг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59" name="Rechteck 14"/>
          <p:cNvSpPr/>
          <p:nvPr/>
        </p:nvSpPr>
        <p:spPr>
          <a:xfrm>
            <a:off x="2573280" y="3568680"/>
            <a:ext cx="2592360" cy="766800"/>
          </a:xfrm>
          <a:prstGeom prst="rect">
            <a:avLst/>
          </a:prstGeom>
          <a:solidFill>
            <a:srgbClr val="4c575f"/>
          </a:solidFill>
          <a:ln w="255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стинктивн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дeнтификaциj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oизвoдa или услуг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60" name="Rechteck 15"/>
          <p:cNvSpPr/>
          <p:nvPr/>
        </p:nvSpPr>
        <p:spPr>
          <a:xfrm>
            <a:off x="5275440" y="3568680"/>
            <a:ext cx="2117520" cy="766800"/>
          </a:xfrm>
          <a:prstGeom prst="rect">
            <a:avLst/>
          </a:prstGeom>
          <a:solidFill>
            <a:srgbClr val="4c575f"/>
          </a:solidFill>
          <a:ln w="255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ишћ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/ил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гистр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61" name="Rechteck 16"/>
          <p:cNvSpPr/>
          <p:nvPr/>
        </p:nvSpPr>
        <p:spPr>
          <a:xfrm>
            <a:off x="863640" y="4481640"/>
            <a:ext cx="1600200" cy="766800"/>
          </a:xfrm>
          <a:prstGeom prst="rect">
            <a:avLst/>
          </a:prstGeom>
          <a:solidFill>
            <a:srgbClr val="4c575f"/>
          </a:solidFill>
          <a:ln w="255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sr-Latn-RS" sz="17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гистр</a:t>
            </a:r>
            <a:r>
              <a:rPr b="0" lang="sr-Latn-RS" sz="17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sr-Latn-RS" sz="17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ни</a:t>
            </a:r>
            <a:endParaRPr b="0" lang="en-US" sz="17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диз</a:t>
            </a:r>
            <a:r>
              <a:rPr b="0" lang="sr-Latn-RS" sz="1700" spc="-1" strike="noStrike">
                <a:solidFill>
                  <a:srgbClr val="ffffff"/>
                </a:solidFill>
                <a:latin typeface="Arial"/>
              </a:rPr>
              <a:t>aj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7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62" name="Rechteck 18"/>
          <p:cNvSpPr/>
          <p:nvPr/>
        </p:nvSpPr>
        <p:spPr>
          <a:xfrm>
            <a:off x="5275440" y="4481640"/>
            <a:ext cx="2117520" cy="766800"/>
          </a:xfrm>
          <a:prstGeom prst="rect">
            <a:avLst/>
          </a:prstGeom>
          <a:solidFill>
            <a:srgbClr val="4c575f"/>
          </a:solidFill>
          <a:ln w="255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гист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*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63" name="Rechteck 3"/>
          <p:cNvSpPr/>
          <p:nvPr/>
        </p:nvSpPr>
        <p:spPr>
          <a:xfrm>
            <a:off x="863640" y="1754280"/>
            <a:ext cx="1600200" cy="766800"/>
          </a:xfrm>
          <a:prstGeom prst="rect">
            <a:avLst/>
          </a:prstGeom>
          <a:solidFill>
            <a:srgbClr val="c0362b"/>
          </a:solidFill>
          <a:ln w="255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атент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64" name="Rechteck 4"/>
          <p:cNvSpPr/>
          <p:nvPr/>
        </p:nvSpPr>
        <p:spPr>
          <a:xfrm>
            <a:off x="2573280" y="1754280"/>
            <a:ext cx="2592360" cy="766800"/>
          </a:xfrm>
          <a:prstGeom prst="rect">
            <a:avLst/>
          </a:prstGeom>
          <a:solidFill>
            <a:srgbClr val="c0362b"/>
          </a:solidFill>
          <a:ln w="255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и пр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ц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65" name="Rechteck 5"/>
          <p:cNvSpPr/>
          <p:nvPr/>
        </p:nvSpPr>
        <p:spPr>
          <a:xfrm>
            <a:off x="5275440" y="1754280"/>
            <a:ext cx="2117520" cy="766800"/>
          </a:xfrm>
          <a:prstGeom prst="rect">
            <a:avLst/>
          </a:prstGeom>
          <a:solidFill>
            <a:srgbClr val="c0362b"/>
          </a:solidFill>
          <a:ln w="255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ри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 испитив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7721640" y="1566720"/>
            <a:ext cx="1278000" cy="1157400"/>
          </a:xfrm>
          <a:prstGeom prst="rect">
            <a:avLst/>
          </a:prstGeom>
          <a:ln w="0">
            <a:noFill/>
          </a:ln>
        </p:spPr>
      </p:pic>
      <p:sp>
        <p:nvSpPr>
          <p:cNvPr id="567" name="Rechteck 11"/>
          <p:cNvSpPr/>
          <p:nvPr/>
        </p:nvSpPr>
        <p:spPr>
          <a:xfrm>
            <a:off x="5275440" y="2655720"/>
            <a:ext cx="2117520" cy="766800"/>
          </a:xfrm>
          <a:prstGeom prst="rect">
            <a:avLst/>
          </a:prstGeom>
          <a:solidFill>
            <a:srgbClr val="4c575f"/>
          </a:solidFill>
          <a:ln w="255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т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ск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т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568" name="Picture 9" descr=""/>
          <p:cNvPicPr/>
          <p:nvPr/>
        </p:nvPicPr>
        <p:blipFill>
          <a:blip r:embed="rId2"/>
          <a:stretch/>
        </p:blipFill>
        <p:spPr>
          <a:xfrm>
            <a:off x="7505640" y="3681360"/>
            <a:ext cx="1603440" cy="6732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5" descr="Coca Cola bottle"/>
          <p:cNvPicPr/>
          <p:nvPr/>
        </p:nvPicPr>
        <p:blipFill>
          <a:blip r:embed="rId3"/>
          <a:stretch/>
        </p:blipFill>
        <p:spPr>
          <a:xfrm>
            <a:off x="8067600" y="4400640"/>
            <a:ext cx="330120" cy="11160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6" descr="book"/>
          <p:cNvPicPr/>
          <p:nvPr/>
        </p:nvPicPr>
        <p:blipFill>
          <a:blip r:embed="rId4"/>
          <a:srcRect l="0" t="33691" r="0" b="14507"/>
          <a:stretch/>
        </p:blipFill>
        <p:spPr>
          <a:xfrm>
            <a:off x="7569360" y="2825640"/>
            <a:ext cx="1512720" cy="78264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28"/>
          <p:cNvSpPr/>
          <p:nvPr/>
        </p:nvSpPr>
        <p:spPr>
          <a:xfrm>
            <a:off x="395280" y="5337000"/>
            <a:ext cx="447840" cy="11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572" name="Picture 29" descr="skd182667sdc"/>
          <p:cNvPicPr/>
          <p:nvPr/>
        </p:nvPicPr>
        <p:blipFill>
          <a:blip r:embed="rId5"/>
          <a:srcRect l="26946" t="30798" r="29867" b="50976"/>
          <a:stretch/>
        </p:blipFill>
        <p:spPr>
          <a:xfrm>
            <a:off x="7632720" y="5624640"/>
            <a:ext cx="1225440" cy="517320"/>
          </a:xfrm>
          <a:prstGeom prst="rect">
            <a:avLst/>
          </a:prstGeom>
          <a:ln w="0">
            <a:noFill/>
          </a:ln>
        </p:spPr>
      </p:pic>
      <p:sp>
        <p:nvSpPr>
          <p:cNvPr id="573" name="Rechteck 16"/>
          <p:cNvSpPr/>
          <p:nvPr/>
        </p:nvSpPr>
        <p:spPr>
          <a:xfrm>
            <a:off x="876240" y="5421240"/>
            <a:ext cx="1600200" cy="766800"/>
          </a:xfrm>
          <a:prstGeom prst="rect">
            <a:avLst/>
          </a:prstGeom>
          <a:solidFill>
            <a:srgbClr val="4c575f"/>
          </a:solidFill>
          <a:ln w="255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л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н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74" name="Rechteck 17"/>
          <p:cNvSpPr/>
          <p:nvPr/>
        </p:nvSpPr>
        <p:spPr>
          <a:xfrm>
            <a:off x="2573280" y="4481640"/>
            <a:ext cx="2592360" cy="766800"/>
          </a:xfrm>
          <a:prstGeom prst="rect">
            <a:avLst/>
          </a:prstGeom>
          <a:solidFill>
            <a:srgbClr val="4c575f"/>
          </a:solidFill>
          <a:ln w="255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п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шњи изгл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75" name="Rechteck 17"/>
          <p:cNvSpPr/>
          <p:nvPr/>
        </p:nvSpPr>
        <p:spPr>
          <a:xfrm>
            <a:off x="2587680" y="5421240"/>
            <a:ext cx="2592360" cy="766800"/>
          </a:xfrm>
          <a:prstGeom prst="rect">
            <a:avLst/>
          </a:prstGeom>
          <a:solidFill>
            <a:srgbClr val="4c575f"/>
          </a:solidFill>
          <a:ln w="255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н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j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ису 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в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т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76" name="Rechteck 18"/>
          <p:cNvSpPr/>
          <p:nvPr/>
        </p:nvSpPr>
        <p:spPr>
          <a:xfrm>
            <a:off x="5292720" y="5421240"/>
            <a:ext cx="2117880" cy="766800"/>
          </a:xfrm>
          <a:prstGeom prst="rect">
            <a:avLst/>
          </a:prstGeom>
          <a:solidFill>
            <a:srgbClr val="4c575f"/>
          </a:solidFill>
          <a:ln w="255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умни 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р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чу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77" name="Rectangle 2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78" name="TextBox 27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79" name="TextBox 28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80" name="TextBox 29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3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4" descr=""/>
          <p:cNvPicPr/>
          <p:nvPr/>
        </p:nvPicPr>
        <p:blipFill>
          <a:blip r:embed="rId1"/>
          <a:stretch/>
        </p:blipFill>
        <p:spPr>
          <a:xfrm>
            <a:off x="1290600" y="1014480"/>
            <a:ext cx="6581880" cy="4505400"/>
          </a:xfrm>
          <a:prstGeom prst="rect">
            <a:avLst/>
          </a:prstGeom>
          <a:ln w="0">
            <a:noFill/>
          </a:ln>
        </p:spPr>
      </p:pic>
      <p:sp>
        <p:nvSpPr>
          <p:cNvPr id="841" name="Textfeld 5"/>
          <p:cNvSpPr/>
          <p:nvPr/>
        </p:nvSpPr>
        <p:spPr>
          <a:xfrm>
            <a:off x="765720" y="3343320"/>
            <a:ext cx="17528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3%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вих 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!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grpSp>
        <p:nvGrpSpPr>
          <p:cNvPr id="842" name="Gruppieren 28"/>
          <p:cNvGrpSpPr/>
          <p:nvPr/>
        </p:nvGrpSpPr>
        <p:grpSpPr>
          <a:xfrm>
            <a:off x="2610000" y="1714680"/>
            <a:ext cx="4010040" cy="3914640"/>
            <a:chOff x="2610000" y="1714680"/>
            <a:chExt cx="4010040" cy="3914640"/>
          </a:xfrm>
        </p:grpSpPr>
        <p:sp>
          <p:nvSpPr>
            <p:cNvPr id="843" name="Gerade Verbindung 9"/>
            <p:cNvSpPr/>
            <p:nvPr/>
          </p:nvSpPr>
          <p:spPr>
            <a:xfrm>
              <a:off x="4542840" y="1714680"/>
              <a:ext cx="28440" cy="1923840"/>
            </a:xfrm>
            <a:prstGeom prst="line">
              <a:avLst/>
            </a:prstGeom>
            <a:ln w="57240">
              <a:solidFill>
                <a:srgbClr val="4c57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844" name="Gerade Verbindung 11"/>
            <p:cNvSpPr/>
            <p:nvPr/>
          </p:nvSpPr>
          <p:spPr>
            <a:xfrm>
              <a:off x="4572000" y="3629160"/>
              <a:ext cx="1463760" cy="1425600"/>
            </a:xfrm>
            <a:prstGeom prst="line">
              <a:avLst/>
            </a:prstGeom>
            <a:ln w="57240">
              <a:solidFill>
                <a:srgbClr val="4c57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845" name="Bogen 12"/>
            <p:cNvSpPr/>
            <p:nvPr/>
          </p:nvSpPr>
          <p:spPr>
            <a:xfrm rot="16200000">
              <a:off x="2662200" y="1671480"/>
              <a:ext cx="3905280" cy="4010040"/>
            </a:xfrm>
            <a:custGeom>
              <a:avLst/>
              <a:gdLst>
                <a:gd name="textAreaLeft" fmla="*/ 0 w 3905280"/>
                <a:gd name="textAreaRight" fmla="*/ 3903480 w 3905280"/>
                <a:gd name="textAreaTop" fmla="*/ 0 h 4010040"/>
                <a:gd name="textAreaBottom" fmla="*/ 3425400 h 4010040"/>
              </a:gdLst>
              <a:ahLst/>
              <a:rect l="textAreaLeft" t="textAreaTop" r="textAreaRight" b="textAreaBottom"/>
              <a:pathLst>
                <a:path stroke="0" w="3905251" h="4010023">
                  <a:moveTo>
                    <a:pt x="574469" y="3425390"/>
                  </a:moveTo>
                  <a:lnTo>
                    <a:pt x="574468" y="3425390"/>
                  </a:lnTo>
                  <a:cubicBezTo>
                    <a:pt x="206715" y="3049166"/>
                    <a:pt x="0" y="2538059"/>
                    <a:pt x="0" y="2005011"/>
                  </a:cubicBezTo>
                  <a:cubicBezTo>
                    <a:pt x="0" y="897673"/>
                    <a:pt x="874220" y="-1"/>
                    <a:pt x="1952626" y="-1"/>
                  </a:cubicBezTo>
                  <a:cubicBezTo>
                    <a:pt x="2998434" y="-2"/>
                    <a:pt x="3858562" y="846073"/>
                    <a:pt x="3903452" y="1918949"/>
                  </a:cubicBezTo>
                  <a:lnTo>
                    <a:pt x="1952626" y="2005012"/>
                  </a:lnTo>
                  <a:lnTo>
                    <a:pt x="574469" y="3425390"/>
                  </a:lnTo>
                  <a:close/>
                </a:path>
                <a:path fill="none" w="3905251" h="4010023">
                  <a:moveTo>
                    <a:pt x="574469" y="3425390"/>
                  </a:moveTo>
                  <a:lnTo>
                    <a:pt x="574468" y="3425390"/>
                  </a:lnTo>
                  <a:cubicBezTo>
                    <a:pt x="206715" y="3049166"/>
                    <a:pt x="0" y="2538059"/>
                    <a:pt x="0" y="2005011"/>
                  </a:cubicBezTo>
                  <a:cubicBezTo>
                    <a:pt x="0" y="897673"/>
                    <a:pt x="874220" y="-1"/>
                    <a:pt x="1952626" y="-1"/>
                  </a:cubicBezTo>
                  <a:cubicBezTo>
                    <a:pt x="2998434" y="-2"/>
                    <a:pt x="3858562" y="846073"/>
                    <a:pt x="3903452" y="1918949"/>
                  </a:cubicBezTo>
                </a:path>
              </a:pathLst>
            </a:custGeom>
            <a:noFill/>
            <a:ln w="57240">
              <a:solidFill>
                <a:srgbClr val="4c57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grpSp>
        <p:nvGrpSpPr>
          <p:cNvPr id="846" name="Gruppieren 27"/>
          <p:cNvGrpSpPr/>
          <p:nvPr/>
        </p:nvGrpSpPr>
        <p:grpSpPr>
          <a:xfrm>
            <a:off x="2610000" y="1714680"/>
            <a:ext cx="4010040" cy="3914640"/>
            <a:chOff x="2610000" y="1714680"/>
            <a:chExt cx="4010040" cy="3914640"/>
          </a:xfrm>
        </p:grpSpPr>
        <p:sp>
          <p:nvSpPr>
            <p:cNvPr id="847" name="Gerade Verbindung 20"/>
            <p:cNvSpPr/>
            <p:nvPr/>
          </p:nvSpPr>
          <p:spPr>
            <a:xfrm>
              <a:off x="4542840" y="1714680"/>
              <a:ext cx="37800" cy="2009880"/>
            </a:xfrm>
            <a:prstGeom prst="line">
              <a:avLst/>
            </a:prstGeom>
            <a:ln w="57240">
              <a:solidFill>
                <a:srgbClr val="bf31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848" name="Gerade Verbindung 21"/>
            <p:cNvSpPr/>
            <p:nvPr/>
          </p:nvSpPr>
          <p:spPr>
            <a:xfrm flipV="1">
              <a:off x="4553280" y="2373480"/>
              <a:ext cx="1554120" cy="1350720"/>
            </a:xfrm>
            <a:prstGeom prst="line">
              <a:avLst/>
            </a:prstGeom>
            <a:ln w="57240">
              <a:solidFill>
                <a:srgbClr val="bf31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849" name="Bogen 22"/>
            <p:cNvSpPr/>
            <p:nvPr/>
          </p:nvSpPr>
          <p:spPr>
            <a:xfrm rot="16200000">
              <a:off x="2662200" y="1671480"/>
              <a:ext cx="3905280" cy="4010040"/>
            </a:xfrm>
            <a:custGeom>
              <a:avLst/>
              <a:gdLst>
                <a:gd name="textAreaLeft" fmla="*/ 0 w 3905280"/>
                <a:gd name="textAreaRight" fmla="*/ 3903480 w 3905280"/>
                <a:gd name="textAreaTop" fmla="*/ 0 h 4010040"/>
                <a:gd name="textAreaBottom" fmla="*/ 4010400 h 4010040"/>
              </a:gdLst>
              <a:ahLst/>
              <a:rect l="textAreaLeft" t="textAreaTop" r="textAreaRight" b="textAreaBottom"/>
              <a:pathLst>
                <a:path stroke="0" w="3905251" h="4010023">
                  <a:moveTo>
                    <a:pt x="3256080" y="3497892"/>
                  </a:moveTo>
                  <a:lnTo>
                    <a:pt x="3256079" y="3497891"/>
                  </a:lnTo>
                  <a:cubicBezTo>
                    <a:pt x="2897872" y="3827654"/>
                    <a:pt x="2433715" y="4010022"/>
                    <a:pt x="1952625" y="4010023"/>
                  </a:cubicBezTo>
                  <a:cubicBezTo>
                    <a:pt x="874219" y="4010023"/>
                    <a:pt x="-1" y="3112348"/>
                    <a:pt x="-1" y="2005011"/>
                  </a:cubicBezTo>
                  <a:cubicBezTo>
                    <a:pt x="-1" y="897673"/>
                    <a:pt x="874219" y="-1"/>
                    <a:pt x="1952625" y="-1"/>
                  </a:cubicBezTo>
                  <a:cubicBezTo>
                    <a:pt x="2998433" y="-2"/>
                    <a:pt x="3858561" y="846073"/>
                    <a:pt x="3903451" y="1918949"/>
                  </a:cubicBezTo>
                  <a:lnTo>
                    <a:pt x="1952626" y="2005012"/>
                  </a:lnTo>
                  <a:lnTo>
                    <a:pt x="3256080" y="3497892"/>
                  </a:lnTo>
                  <a:close/>
                </a:path>
                <a:path fill="none" w="3905251" h="4010023">
                  <a:moveTo>
                    <a:pt x="3256080" y="3497892"/>
                  </a:moveTo>
                  <a:lnTo>
                    <a:pt x="3256079" y="3497891"/>
                  </a:lnTo>
                  <a:cubicBezTo>
                    <a:pt x="2897872" y="3827654"/>
                    <a:pt x="2433715" y="4010022"/>
                    <a:pt x="1952625" y="4010023"/>
                  </a:cubicBezTo>
                  <a:cubicBezTo>
                    <a:pt x="874219" y="4010023"/>
                    <a:pt x="-1" y="3112348"/>
                    <a:pt x="-1" y="2005011"/>
                  </a:cubicBezTo>
                  <a:cubicBezTo>
                    <a:pt x="-1" y="897673"/>
                    <a:pt x="874219" y="-1"/>
                    <a:pt x="1952625" y="-1"/>
                  </a:cubicBezTo>
                  <a:cubicBezTo>
                    <a:pt x="2998433" y="-2"/>
                    <a:pt x="3858561" y="846073"/>
                    <a:pt x="3903451" y="1918949"/>
                  </a:cubicBezTo>
                </a:path>
              </a:pathLst>
            </a:custGeom>
            <a:noFill/>
            <a:ln w="57240">
              <a:solidFill>
                <a:srgbClr val="bf31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sp>
        <p:nvSpPr>
          <p:cNvPr id="850" name="Textfeld 29"/>
          <p:cNvSpPr/>
          <p:nvPr/>
        </p:nvSpPr>
        <p:spPr>
          <a:xfrm>
            <a:off x="764280" y="412416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10%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вих п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!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7596360" y="58680"/>
            <a:ext cx="15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пци</a:t>
            </a: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ни сл</a:t>
            </a: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aj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52" name="Rectangle 14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53" name="TextBox 15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54" name="TextBox 16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55" name="TextBox 17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30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812484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и к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 укуп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j</a:t>
            </a:r>
            <a:br>
              <a:rPr sz="2400"/>
            </a:b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и 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тф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и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755640" y="1125360"/>
            <a:ext cx="7345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1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стр</a:t>
            </a:r>
            <a:r>
              <a:rPr b="1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ги</a:t>
            </a:r>
            <a:r>
              <a:rPr b="1" lang="en-GB" sz="1600" spc="-1" strike="noStrike">
                <a:solidFill>
                  <a:srgbClr val="404b56"/>
                </a:solidFill>
                <a:latin typeface="Arial"/>
              </a:rPr>
              <a:t>ja                                                                                                 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– 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ф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зив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/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ф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зив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                                                                                      –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н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из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ja                                                                                         –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рс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ск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ишћ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: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иц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ци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ли с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ст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1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инф</a:t>
            </a:r>
            <a:r>
              <a:rPr b="1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рм</a:t>
            </a:r>
            <a:r>
              <a:rPr b="1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1" lang="en-GB" sz="1600" spc="-1" strike="noStrike">
                <a:solidFill>
                  <a:srgbClr val="404b56"/>
                </a:solidFill>
                <a:latin typeface="Arial"/>
              </a:rPr>
              <a:t>je                                                                                            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–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Бити у 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у с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х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ги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j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600" spc="-1" strike="noStrike">
                <a:solidFill>
                  <a:srgbClr val="404b56"/>
                </a:solidFill>
                <a:latin typeface="Arial"/>
              </a:rPr>
              <a:t>                                                                                  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– Изб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и 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                                                                               –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у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и с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у 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и с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ку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ци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j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м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муник</a:t>
            </a:r>
            <a:r>
              <a:rPr b="1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1" lang="en-GB" sz="1600" spc="-1" strike="noStrike">
                <a:solidFill>
                  <a:srgbClr val="404b56"/>
                </a:solidFill>
                <a:latin typeface="Arial"/>
              </a:rPr>
              <a:t>ja                                                                                                         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–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рикупити уб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љи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ти 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ших 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                   – 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тити ин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ти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 б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к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,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ли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 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ци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л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држ</a:t>
            </a:r>
            <a:r>
              <a:rPr b="1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GB" sz="1600" spc="-1" strike="noStrike">
                <a:solidFill>
                  <a:srgbClr val="404b56"/>
                </a:solidFill>
                <a:latin typeface="Arial"/>
              </a:rPr>
              <a:t>e                                                                                                 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–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л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ћ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и 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с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рж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,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ити 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чу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o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вим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     – Oj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и в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ж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и 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сити с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звр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дних п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6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59" name="Text Box 4"/>
          <p:cNvSpPr/>
          <p:nvPr/>
        </p:nvSpPr>
        <p:spPr>
          <a:xfrm>
            <a:off x="7596360" y="81000"/>
            <a:ext cx="15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пци</a:t>
            </a:r>
            <a:r>
              <a:rPr b="0" lang="en-GB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ни сл</a:t>
            </a:r>
            <a:r>
              <a:rPr b="0" lang="en-GB" sz="1200" spc="-1" strike="noStrike">
                <a:solidFill>
                  <a:srgbClr val="c0362b"/>
                </a:solidFill>
                <a:latin typeface="Arial"/>
              </a:rPr>
              <a:t>aj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60" name="Rectangle 4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61" name="TextBox 5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62" name="TextBox 6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63" name="TextBox 7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31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feld 4"/>
          <p:cNvSpPr/>
          <p:nvPr/>
        </p:nvSpPr>
        <p:spPr>
          <a:xfrm>
            <a:off x="746280" y="493560"/>
            <a:ext cx="83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c0362b"/>
                </a:solidFill>
                <a:latin typeface="Arial"/>
              </a:rPr>
              <a:t>25% свих н</a:t>
            </a:r>
            <a:r>
              <a:rPr b="1" lang="en-US" sz="24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c0362b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c0362b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c0362b"/>
                </a:solidFill>
                <a:latin typeface="Arial"/>
              </a:rPr>
              <a:t>у </a:t>
            </a:r>
            <a:r>
              <a:rPr b="1" lang="en-US" sz="24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c0362b"/>
                </a:solidFill>
                <a:latin typeface="Arial"/>
              </a:rPr>
              <a:t>бл</a:t>
            </a:r>
            <a:r>
              <a:rPr b="1" lang="en-US" sz="24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c0362b"/>
                </a:solidFill>
                <a:latin typeface="Arial"/>
              </a:rPr>
              <a:t>сти истр</a:t>
            </a:r>
            <a:r>
              <a:rPr b="1" lang="en-US" sz="24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c0362b"/>
                </a:solidFill>
                <a:latin typeface="Arial"/>
              </a:rPr>
              <a:t>жив</a:t>
            </a:r>
            <a:r>
              <a:rPr b="1" lang="en-US" sz="24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c0362b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c0362b"/>
                </a:solidFill>
                <a:latin typeface="Arial"/>
              </a:rPr>
              <a:t>и р</a:t>
            </a:r>
            <a:r>
              <a:rPr b="1" lang="en-US" sz="24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c0362b"/>
                </a:solidFill>
                <a:latin typeface="Arial"/>
              </a:rPr>
              <a:t>зв</a:t>
            </a:r>
            <a:r>
              <a:rPr b="1" lang="en-US" sz="2400" spc="-1" strike="noStrike">
                <a:solidFill>
                  <a:srgbClr val="c0362b"/>
                </a:solidFill>
                <a:latin typeface="Arial"/>
              </a:rPr>
              <a:t>oja...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65" name="Textfeld 5"/>
          <p:cNvSpPr/>
          <p:nvPr/>
        </p:nvSpPr>
        <p:spPr>
          <a:xfrm>
            <a:off x="755640" y="1122480"/>
            <a:ext cx="7848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…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и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 су 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ћ 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и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чињи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ист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и 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зв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j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ш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у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дит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жив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!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66" name="Rectangle 3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67" name="TextBox 4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68" name="TextBox 5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69" name="TextBox 6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32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5"/>
          <p:cNvSpPr/>
          <p:nvPr/>
        </p:nvSpPr>
        <p:spPr>
          <a:xfrm rot="21409200">
            <a:off x="1626480" y="10393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c575f"/>
                </a:solidFill>
                <a:latin typeface="Arial"/>
              </a:rPr>
              <a:t>GB-A-2365393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871" name="Picture 6" descr=""/>
          <p:cNvPicPr/>
          <p:nvPr/>
        </p:nvPicPr>
        <p:blipFill>
          <a:blip r:embed="rId1"/>
          <a:stretch/>
        </p:blipFill>
        <p:spPr>
          <a:xfrm rot="266400">
            <a:off x="5795640" y="963360"/>
            <a:ext cx="3114720" cy="5024160"/>
          </a:xfrm>
          <a:prstGeom prst="rect">
            <a:avLst/>
          </a:prstGeom>
          <a:ln w="0">
            <a:noFill/>
          </a:ln>
        </p:spPr>
      </p:pic>
      <p:sp>
        <p:nvSpPr>
          <p:cNvPr id="872" name="Rectangle 9"/>
          <p:cNvSpPr/>
          <p:nvPr/>
        </p:nvSpPr>
        <p:spPr>
          <a:xfrm rot="309600">
            <a:off x="6809760" y="58392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US-A-1833019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873" name="Picture 10" descr=""/>
          <p:cNvPicPr/>
          <p:nvPr/>
        </p:nvPicPr>
        <p:blipFill>
          <a:blip r:embed="rId2"/>
          <a:stretch/>
        </p:blipFill>
        <p:spPr>
          <a:xfrm rot="21334200">
            <a:off x="899640" y="1400040"/>
            <a:ext cx="4270320" cy="4729320"/>
          </a:xfrm>
          <a:prstGeom prst="rect">
            <a:avLst/>
          </a:prstGeom>
          <a:ln w="0">
            <a:noFill/>
          </a:ln>
        </p:spPr>
      </p:pic>
      <p:sp>
        <p:nvSpPr>
          <p:cNvPr id="874" name="Line 11"/>
          <p:cNvSpPr/>
          <p:nvPr/>
        </p:nvSpPr>
        <p:spPr>
          <a:xfrm flipV="1">
            <a:off x="4608360" y="2642760"/>
            <a:ext cx="1919520" cy="2484360"/>
          </a:xfrm>
          <a:prstGeom prst="line">
            <a:avLst/>
          </a:prstGeom>
          <a:ln w="50760">
            <a:solidFill>
              <a:srgbClr val="c0362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75" name="Oval 12"/>
          <p:cNvSpPr/>
          <p:nvPr/>
        </p:nvSpPr>
        <p:spPr>
          <a:xfrm rot="21421200">
            <a:off x="3458880" y="1716120"/>
            <a:ext cx="1500120" cy="241200"/>
          </a:xfrm>
          <a:prstGeom prst="ellipse">
            <a:avLst/>
          </a:prstGeom>
          <a:noFill/>
          <a:ln w="2844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76" name="Oval 13"/>
          <p:cNvSpPr/>
          <p:nvPr/>
        </p:nvSpPr>
        <p:spPr>
          <a:xfrm rot="259800">
            <a:off x="5843160" y="840960"/>
            <a:ext cx="951120" cy="233280"/>
          </a:xfrm>
          <a:prstGeom prst="ellipse">
            <a:avLst/>
          </a:prstGeom>
          <a:noFill/>
          <a:ln w="2844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77" name="Text Box 9"/>
          <p:cNvSpPr/>
          <p:nvPr/>
        </p:nvSpPr>
        <p:spPr>
          <a:xfrm>
            <a:off x="7451640" y="81000"/>
            <a:ext cx="16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пци</a:t>
            </a:r>
            <a:r>
              <a:rPr b="0" lang="en-GB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ни сл</a:t>
            </a:r>
            <a:r>
              <a:rPr b="0" lang="en-GB" sz="1200" spc="-1" strike="noStrike">
                <a:solidFill>
                  <a:srgbClr val="c0362b"/>
                </a:solidFill>
                <a:latin typeface="Arial"/>
              </a:rPr>
              <a:t>aj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78" name="Rectangle 9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79" name="TextBox 10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80" name="TextBox 11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81" name="TextBox 12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33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M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нф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ци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туп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у искључи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br>
              <a:rPr sz="2400"/>
            </a:b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 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и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83" name="Ellipse 7"/>
          <p:cNvSpPr/>
          <p:nvPr/>
        </p:nvSpPr>
        <p:spPr>
          <a:xfrm>
            <a:off x="900000" y="1268280"/>
            <a:ext cx="3140280" cy="2981520"/>
          </a:xfrm>
          <a:prstGeom prst="ellipse">
            <a:avLst/>
          </a:prstGeom>
          <a:solidFill>
            <a:srgbClr val="4c575f">
              <a:alpha val="75000"/>
            </a:srgbClr>
          </a:solidFill>
          <a:ln w="25560">
            <a:solidFill>
              <a:srgbClr val="697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j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љ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гд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другд</a:t>
            </a:r>
            <a:r>
              <a:rPr b="1" lang="sr-Latn-R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84" name="Ellipse 8"/>
          <p:cNvSpPr/>
          <p:nvPr/>
        </p:nvSpPr>
        <p:spPr>
          <a:xfrm>
            <a:off x="3273480" y="1305000"/>
            <a:ext cx="3286080" cy="3017880"/>
          </a:xfrm>
          <a:prstGeom prst="ellipse">
            <a:avLst/>
          </a:prstGeom>
          <a:solidFill>
            <a:srgbClr val="c0362b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в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у 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ти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85" name="Textfeld 9"/>
          <p:cNvSpPr/>
          <p:nvPr/>
        </p:nvSpPr>
        <p:spPr>
          <a:xfrm>
            <a:off x="2660040" y="5013360"/>
            <a:ext cx="59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80% инф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скључи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 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!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cxnSp>
        <p:nvCxnSpPr>
          <p:cNvPr id="886" name="Gerade Verbindung mit Pfeil 11"/>
          <p:cNvCxnSpPr>
            <a:endCxn id="884" idx="4"/>
          </p:cNvCxnSpPr>
          <p:nvPr/>
        </p:nvCxnSpPr>
        <p:spPr>
          <a:xfrm flipH="1" flipV="1">
            <a:off x="4916160" y="4322880"/>
            <a:ext cx="16560" cy="621000"/>
          </a:xfrm>
          <a:prstGeom prst="straightConnector1">
            <a:avLst/>
          </a:prstGeom>
          <a:ln w="57240">
            <a:solidFill>
              <a:srgbClr val="4c575f"/>
            </a:solidFill>
            <a:miter/>
            <a:tailEnd len="med" type="triangle" w="med"/>
          </a:ln>
        </p:spPr>
      </p:cxnSp>
      <p:sp>
        <p:nvSpPr>
          <p:cNvPr id="887" name="Textfeld 9"/>
          <p:cNvSpPr/>
          <p:nvPr/>
        </p:nvSpPr>
        <p:spPr>
          <a:xfrm>
            <a:off x="786240" y="5661000"/>
            <a:ext cx="82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Гд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ити 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ку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ти 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љу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у 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зул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г ист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жи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и 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з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ja?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88" name="Rectangle 8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89" name="TextBox 9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90" name="TextBox 10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91" name="TextBox 11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34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рж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 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им 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у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и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893" name="Diagramm 5" descr=""/>
          <p:cNvPicPr/>
          <p:nvPr/>
        </p:nvPicPr>
        <p:blipFill>
          <a:blip r:embed="rId1"/>
          <a:stretch/>
        </p:blipFill>
        <p:spPr>
          <a:xfrm>
            <a:off x="1176480" y="1023840"/>
            <a:ext cx="5883120" cy="3981600"/>
          </a:xfrm>
          <a:prstGeom prst="rect">
            <a:avLst/>
          </a:prstGeom>
          <a:ln w="0">
            <a:noFill/>
          </a:ln>
        </p:spPr>
      </p:pic>
      <p:sp>
        <p:nvSpPr>
          <p:cNvPr id="894" name="Textfeld 6"/>
          <p:cNvSpPr/>
          <p:nvPr/>
        </p:nvSpPr>
        <p:spPr>
          <a:xfrm>
            <a:off x="6758280" y="1562040"/>
            <a:ext cx="14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штић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95" name="Textfeld 7"/>
          <p:cNvSpPr/>
          <p:nvPr/>
        </p:nvSpPr>
        <p:spPr>
          <a:xfrm>
            <a:off x="777240" y="981000"/>
            <a:ext cx="36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90%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M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пл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ристити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96" name="Textfeld 8"/>
          <p:cNvSpPr/>
          <p:nvPr/>
        </p:nvSpPr>
        <p:spPr>
          <a:xfrm>
            <a:off x="805680" y="4869000"/>
            <a:ext cx="58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M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jaj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гу с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ћи б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спл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н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!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97" name="Rectangle 6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98" name="TextBox 7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899" name="TextBox 8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00" name="TextBox 9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35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и 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гу 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жи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и...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02" name="Textfeld 5"/>
          <p:cNvSpPr/>
          <p:nvPr/>
        </p:nvSpPr>
        <p:spPr>
          <a:xfrm>
            <a:off x="755640" y="57992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пл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т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нф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 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 с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уп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у 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у: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http://worldwide.espacenet.com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04" name="TextBox 5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05" name="TextBox 6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06" name="TextBox 7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2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907" name="Picture 2" descr=""/>
          <p:cNvPicPr/>
          <p:nvPr/>
        </p:nvPicPr>
        <p:blipFill>
          <a:blip r:embed="rId1"/>
          <a:stretch/>
        </p:blipFill>
        <p:spPr>
          <a:xfrm>
            <a:off x="853920" y="1255680"/>
            <a:ext cx="6488280" cy="454356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3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638640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и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б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в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!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755640" y="1197000"/>
            <a:ext cx="7848720" cy="5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у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„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вним” кључним 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у..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11" name="Rechteck 5"/>
          <p:cNvSpPr/>
          <p:nvPr/>
        </p:nvSpPr>
        <p:spPr>
          <a:xfrm>
            <a:off x="755640" y="3429000"/>
            <a:ext cx="64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„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Ср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дств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з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скл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дишт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њ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e e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рги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je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912" name="Picture 4" descr=""/>
          <p:cNvPicPr/>
          <p:nvPr/>
        </p:nvPicPr>
        <p:blipFill>
          <a:blip r:embed="rId1"/>
          <a:stretch/>
        </p:blipFill>
        <p:spPr>
          <a:xfrm>
            <a:off x="4932360" y="2060640"/>
            <a:ext cx="2960640" cy="3581280"/>
          </a:xfrm>
          <a:prstGeom prst="rect">
            <a:avLst/>
          </a:prstGeom>
          <a:ln w="0">
            <a:noFill/>
          </a:ln>
        </p:spPr>
      </p:pic>
      <p:sp>
        <p:nvSpPr>
          <p:cNvPr id="913" name="Rechteck 8"/>
          <p:cNvSpPr/>
          <p:nvPr/>
        </p:nvSpPr>
        <p:spPr>
          <a:xfrm>
            <a:off x="1101960" y="222408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руг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14" name="Gerade Verbindung 9"/>
          <p:cNvSpPr/>
          <p:nvPr/>
        </p:nvSpPr>
        <p:spPr>
          <a:xfrm flipV="1">
            <a:off x="900000" y="2235240"/>
            <a:ext cx="1351080" cy="401760"/>
          </a:xfrm>
          <a:prstGeom prst="line">
            <a:avLst/>
          </a:prstGeom>
          <a:ln w="28440">
            <a:solidFill>
              <a:srgbClr val="bf3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15" name="Gerade Verbindung 10"/>
          <p:cNvSpPr/>
          <p:nvPr/>
        </p:nvSpPr>
        <p:spPr>
          <a:xfrm>
            <a:off x="863640" y="2235240"/>
            <a:ext cx="1351080" cy="365040"/>
          </a:xfrm>
          <a:prstGeom prst="line">
            <a:avLst/>
          </a:prstGeom>
          <a:ln w="28440">
            <a:solidFill>
              <a:srgbClr val="bf3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16" name="Rectangle 8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17" name="TextBox 11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18" name="TextBox 12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19" name="TextBox 13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37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4" descr=""/>
          <p:cNvPicPr/>
          <p:nvPr/>
        </p:nvPicPr>
        <p:blipFill>
          <a:blip r:embed="rId1"/>
          <a:stretch/>
        </p:blipFill>
        <p:spPr>
          <a:xfrm>
            <a:off x="4608360" y="2241720"/>
            <a:ext cx="2822760" cy="2008080"/>
          </a:xfrm>
          <a:prstGeom prst="rect">
            <a:avLst/>
          </a:prstGeom>
          <a:ln w="0">
            <a:noFill/>
          </a:ln>
        </p:spPr>
      </p:pic>
      <p:sp>
        <p:nvSpPr>
          <p:cNvPr id="921" name="Text Box 15"/>
          <p:cNvSpPr/>
          <p:nvPr/>
        </p:nvSpPr>
        <p:spPr>
          <a:xfrm>
            <a:off x="774720" y="3392640"/>
            <a:ext cx="5111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„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П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лупр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дничк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скл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пк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с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к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нтр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лн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м 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л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ктр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д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м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22" name="Textfeld 7"/>
          <p:cNvSpPr/>
          <p:nvPr/>
        </p:nvSpPr>
        <p:spPr>
          <a:xfrm>
            <a:off x="802440" y="1160640"/>
            <a:ext cx="83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в „ж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рг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н” ч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ристи д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би с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шири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o o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бим п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нт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a...</a:t>
            </a:r>
            <a:endParaRPr b="0" lang="en-US" sz="20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23" name="Rechteck 7"/>
          <p:cNvSpPr/>
          <p:nvPr/>
        </p:nvSpPr>
        <p:spPr>
          <a:xfrm>
            <a:off x="888840" y="222876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Транзистор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24" name="Gerade Verbindung 8"/>
          <p:cNvSpPr/>
          <p:nvPr/>
        </p:nvSpPr>
        <p:spPr>
          <a:xfrm flipV="1">
            <a:off x="880920" y="2235240"/>
            <a:ext cx="1351080" cy="401760"/>
          </a:xfrm>
          <a:prstGeom prst="line">
            <a:avLst/>
          </a:prstGeom>
          <a:ln w="28440">
            <a:solidFill>
              <a:srgbClr val="bf3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25" name="Gerade Verbindung 9"/>
          <p:cNvSpPr/>
          <p:nvPr/>
        </p:nvSpPr>
        <p:spPr>
          <a:xfrm>
            <a:off x="844560" y="2235240"/>
            <a:ext cx="1351080" cy="365040"/>
          </a:xfrm>
          <a:prstGeom prst="line">
            <a:avLst/>
          </a:prstGeom>
          <a:ln w="28440">
            <a:solidFill>
              <a:srgbClr val="bf3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26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27" name="TextBox 10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28" name="TextBox 11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29" name="TextBox 12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38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hteck 8"/>
          <p:cNvSpPr/>
          <p:nvPr/>
        </p:nvSpPr>
        <p:spPr>
          <a:xfrm>
            <a:off x="755640" y="3435480"/>
            <a:ext cx="388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„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дм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т сф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ричн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г 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блик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с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р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с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стим фил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м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нтим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a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931" name="Picture 2" descr=""/>
          <p:cNvPicPr/>
          <p:nvPr/>
        </p:nvPicPr>
        <p:blipFill>
          <a:blip r:embed="rId1"/>
          <a:srcRect l="12627" t="53411" r="49598" b="24159"/>
          <a:stretch/>
        </p:blipFill>
        <p:spPr>
          <a:xfrm>
            <a:off x="4500720" y="1676520"/>
            <a:ext cx="4125600" cy="3408120"/>
          </a:xfrm>
          <a:prstGeom prst="rect">
            <a:avLst/>
          </a:prstGeom>
          <a:ln w="0">
            <a:noFill/>
          </a:ln>
        </p:spPr>
      </p:pic>
      <p:sp>
        <p:nvSpPr>
          <p:cNvPr id="932" name="Rechteck 7"/>
          <p:cNvSpPr/>
          <p:nvPr/>
        </p:nvSpPr>
        <p:spPr>
          <a:xfrm>
            <a:off x="770400" y="2214720"/>
            <a:ext cx="20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птиц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-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игр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чк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33" name="Gerade Verbindung 8"/>
          <p:cNvSpPr/>
          <p:nvPr/>
        </p:nvSpPr>
        <p:spPr>
          <a:xfrm flipV="1">
            <a:off x="900000" y="2198520"/>
            <a:ext cx="1351080" cy="401760"/>
          </a:xfrm>
          <a:prstGeom prst="line">
            <a:avLst/>
          </a:prstGeom>
          <a:ln w="28440">
            <a:solidFill>
              <a:srgbClr val="bf3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34" name="Gerade Verbindung 9"/>
          <p:cNvSpPr/>
          <p:nvPr/>
        </p:nvSpPr>
        <p:spPr>
          <a:xfrm>
            <a:off x="863640" y="2198520"/>
            <a:ext cx="1351080" cy="365400"/>
          </a:xfrm>
          <a:prstGeom prst="line">
            <a:avLst/>
          </a:prstGeom>
          <a:ln w="28440">
            <a:solidFill>
              <a:srgbClr val="bf3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35" name="Textfeld 7"/>
          <p:cNvSpPr/>
          <p:nvPr/>
        </p:nvSpPr>
        <p:spPr>
          <a:xfrm>
            <a:off x="783360" y="1160640"/>
            <a:ext cx="738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д, п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сил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ц при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e je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вн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ли д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нт буд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н…</a:t>
            </a:r>
            <a:endParaRPr b="0" lang="en-US" sz="20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36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37" name="TextBox 10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38" name="TextBox 11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39" name="TextBox 12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39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9" descr="n95_high_gallery_02"/>
          <p:cNvPicPr/>
          <p:nvPr/>
        </p:nvPicPr>
        <p:blipFill>
          <a:blip r:embed="rId1"/>
          <a:stretch/>
        </p:blipFill>
        <p:spPr>
          <a:xfrm>
            <a:off x="3780000" y="1015920"/>
            <a:ext cx="5074920" cy="24210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и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бли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С 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 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гу 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ћи</a:t>
            </a:r>
            <a:br>
              <a:rPr sz="2400"/>
            </a:b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 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бил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 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ф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у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83" name="Textfeld 8"/>
          <p:cNvSpPr/>
          <p:nvPr/>
        </p:nvSpPr>
        <p:spPr>
          <a:xfrm>
            <a:off x="774360" y="1292400"/>
            <a:ext cx="3605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Жиг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и: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ч: „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Nokia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•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з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 „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N95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•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фт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: „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Symbian”, „Java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ти: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M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•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у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нич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ин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ри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 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•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Х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м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j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• …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у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рск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•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фт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ски 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•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путст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у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у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M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• …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84" name="Textfeld 13"/>
          <p:cNvSpPr/>
          <p:nvPr/>
        </p:nvSpPr>
        <p:spPr>
          <a:xfrm>
            <a:off x="3951360" y="3768840"/>
            <a:ext cx="52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сл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: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Диз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 (н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ки 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д њих су 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гистр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c0362b"/>
                </a:solidFill>
                <a:latin typeface="Arial"/>
              </a:rPr>
              <a:t>ни):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ик 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ни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ик 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у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T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м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з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ни 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и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лик дугмић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• …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86" name="TextBox 5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87" name="TextBox 6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88" name="TextBox 7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4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89" name="Textfeld 9"/>
          <p:cNvSpPr/>
          <p:nvPr/>
        </p:nvSpPr>
        <p:spPr>
          <a:xfrm>
            <a:off x="8049240" y="3249720"/>
            <a:ext cx="59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© Nokia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2" descr=""/>
          <p:cNvPicPr/>
          <p:nvPr/>
        </p:nvPicPr>
        <p:blipFill>
          <a:blip r:embed="rId1"/>
          <a:srcRect l="16530" t="3060" r="10656" b="0"/>
          <a:stretch/>
        </p:blipFill>
        <p:spPr>
          <a:xfrm>
            <a:off x="4535640" y="2176560"/>
            <a:ext cx="3662280" cy="3881520"/>
          </a:xfrm>
          <a:prstGeom prst="rect">
            <a:avLst/>
          </a:prstGeom>
          <a:ln w="0">
            <a:noFill/>
          </a:ln>
        </p:spPr>
      </p:pic>
      <p:sp>
        <p:nvSpPr>
          <p:cNvPr id="941" name="Rechteck 16"/>
          <p:cNvSpPr/>
          <p:nvPr/>
        </p:nvSpPr>
        <p:spPr>
          <a:xfrm>
            <a:off x="767520" y="3429000"/>
            <a:ext cx="24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„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M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штв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куглиц</a:t>
            </a:r>
            <a:r>
              <a:rPr b="1" lang="en-GB" sz="1800" spc="-1" strike="noStrike">
                <a:solidFill>
                  <a:srgbClr val="c0362b"/>
                </a:solidFill>
                <a:latin typeface="Arial"/>
              </a:rPr>
              <a:t>a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42" name="Textfeld 7"/>
          <p:cNvSpPr/>
          <p:nvPr/>
        </p:nvSpPr>
        <p:spPr>
          <a:xfrm>
            <a:off x="802440" y="1160640"/>
            <a:ext cx="738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д, п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сил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ц при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e je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дн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вн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ли д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нт буд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ђ</a:t>
            </a:r>
            <a:r>
              <a:rPr b="0" lang="en-US" sz="20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4c575f"/>
                </a:solidFill>
                <a:latin typeface="Arial"/>
              </a:rPr>
              <a:t>н…</a:t>
            </a:r>
            <a:endParaRPr b="0" lang="en-US" sz="20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43" name="Rechteck 7"/>
          <p:cNvSpPr/>
          <p:nvPr/>
        </p:nvSpPr>
        <p:spPr>
          <a:xfrm>
            <a:off x="894600" y="22287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Куглични л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aj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44" name="Gerade Verbindung 8"/>
          <p:cNvSpPr/>
          <p:nvPr/>
        </p:nvSpPr>
        <p:spPr>
          <a:xfrm flipV="1">
            <a:off x="880920" y="2235240"/>
            <a:ext cx="1351080" cy="401760"/>
          </a:xfrm>
          <a:prstGeom prst="line">
            <a:avLst/>
          </a:prstGeom>
          <a:ln w="28440">
            <a:solidFill>
              <a:srgbClr val="bf3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45" name="Gerade Verbindung 9"/>
          <p:cNvSpPr/>
          <p:nvPr/>
        </p:nvSpPr>
        <p:spPr>
          <a:xfrm>
            <a:off x="844560" y="2235240"/>
            <a:ext cx="1351080" cy="365040"/>
          </a:xfrm>
          <a:prstGeom prst="line">
            <a:avLst/>
          </a:prstGeom>
          <a:ln w="28440">
            <a:solidFill>
              <a:srgbClr val="bf3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46" name="Rectangle 7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47" name="TextBox 10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48" name="TextBox 11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49" name="TextBox 12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40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жу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у 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и!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951" name="Picture 2" descr=""/>
          <p:cNvPicPr/>
          <p:nvPr/>
        </p:nvPicPr>
        <p:blipFill>
          <a:blip r:embed="rId1"/>
          <a:srcRect l="969" t="20436" r="0" b="17908"/>
          <a:stretch/>
        </p:blipFill>
        <p:spPr>
          <a:xfrm>
            <a:off x="863640" y="1125360"/>
            <a:ext cx="7470720" cy="3635640"/>
          </a:xfrm>
          <a:prstGeom prst="rect">
            <a:avLst/>
          </a:prstGeom>
          <a:ln w="0">
            <a:noFill/>
          </a:ln>
        </p:spPr>
      </p:pic>
      <p:sp>
        <p:nvSpPr>
          <p:cNvPr id="952" name="Rechteck 5"/>
          <p:cNvSpPr/>
          <p:nvPr/>
        </p:nvSpPr>
        <p:spPr>
          <a:xfrm>
            <a:off x="753840" y="5048280"/>
            <a:ext cx="28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362b"/>
                </a:solidFill>
                <a:latin typeface="Arial"/>
              </a:rPr>
              <a:t>www.epo.org/wbt/pi-tour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53" name="Rechteck 6"/>
          <p:cNvSpPr/>
          <p:nvPr/>
        </p:nvSpPr>
        <p:spPr>
          <a:xfrm>
            <a:off x="755640" y="5481720"/>
            <a:ext cx="7667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c0362b"/>
                </a:solidFill>
                <a:latin typeface="Arial"/>
              </a:rPr>
              <a:t>www.epo.org/patents/learning/e-learning.html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54" name="Rectangle 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55" name="TextBox 6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56" name="TextBox 7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57" name="TextBox 8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41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З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j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н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ту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755280" y="1125000"/>
            <a:ext cx="820908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•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З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ч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сл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в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бр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з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 –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ски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з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 ч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Sandvik: 20%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и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   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ч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ИС!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у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ср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дств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фи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сир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и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ивних пр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j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 –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 ИС, м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и 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ивни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ти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 били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фи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илни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 би с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и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их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ул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•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Штити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и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ив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фирм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 –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Dolby® Laboratories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 –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W. L. Gore &amp; Associates (Gore-Tex®)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•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С т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устити у 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j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вни д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тр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лис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им усл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вим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 –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Linux (GPL):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ђ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бити 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п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!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93" name="TextBox 4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94" name="TextBox 5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95" name="TextBox 6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5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им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ри вр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д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н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ту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л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в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j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и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pSp>
        <p:nvGrpSpPr>
          <p:cNvPr id="597" name="Group 18"/>
          <p:cNvGrpSpPr/>
          <p:nvPr/>
        </p:nvGrpSpPr>
        <p:grpSpPr>
          <a:xfrm>
            <a:off x="576360" y="1233360"/>
            <a:ext cx="1743120" cy="2411640"/>
            <a:chOff x="576360" y="1233360"/>
            <a:chExt cx="1743120" cy="2411640"/>
          </a:xfrm>
        </p:grpSpPr>
        <p:pic>
          <p:nvPicPr>
            <p:cNvPr id="598" name="Picture 9" descr=""/>
            <p:cNvPicPr/>
            <p:nvPr/>
          </p:nvPicPr>
          <p:blipFill>
            <a:blip r:embed="rId1"/>
            <a:stretch/>
          </p:blipFill>
          <p:spPr>
            <a:xfrm>
              <a:off x="576360" y="1233360"/>
              <a:ext cx="174312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Textfeld 13"/>
            <p:cNvSpPr/>
            <p:nvPr/>
          </p:nvSpPr>
          <p:spPr>
            <a:xfrm>
              <a:off x="758520" y="3276720"/>
              <a:ext cx="13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c575f"/>
                  </a:solidFill>
                  <a:latin typeface="Arial"/>
                </a:rPr>
                <a:t>Coca-Cola</a:t>
              </a:r>
              <a:r>
                <a:rPr b="0" lang="en-US" sz="1800" spc="-1" strike="noStrike" baseline="30000">
                  <a:solidFill>
                    <a:srgbClr val="4c575f"/>
                  </a:solidFill>
                  <a:latin typeface="Arial"/>
                </a:rPr>
                <a:t>®</a:t>
              </a:r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grpSp>
        <p:nvGrpSpPr>
          <p:cNvPr id="600" name="Group 19"/>
          <p:cNvGrpSpPr/>
          <p:nvPr/>
        </p:nvGrpSpPr>
        <p:grpSpPr>
          <a:xfrm>
            <a:off x="3510360" y="2133720"/>
            <a:ext cx="1491480" cy="2336400"/>
            <a:chOff x="3510360" y="2133720"/>
            <a:chExt cx="1491480" cy="2336400"/>
          </a:xfrm>
        </p:grpSpPr>
        <p:sp>
          <p:nvSpPr>
            <p:cNvPr id="601" name="Textfeld 12"/>
            <p:cNvSpPr/>
            <p:nvPr/>
          </p:nvSpPr>
          <p:spPr>
            <a:xfrm>
              <a:off x="3510360" y="410184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c575f"/>
                  </a:solidFill>
                  <a:latin typeface="Arial"/>
                </a:rPr>
                <a:t>Apple</a:t>
              </a:r>
              <a:r>
                <a:rPr b="0" lang="en-US" sz="1800" spc="-1" strike="noStrike" baseline="30000">
                  <a:solidFill>
                    <a:srgbClr val="4c575f"/>
                  </a:solidFill>
                  <a:latin typeface="Arial"/>
                </a:rPr>
                <a:t>®</a:t>
              </a:r>
              <a:r>
                <a:rPr b="0" lang="en-US" sz="1800" spc="-1" strike="noStrike">
                  <a:solidFill>
                    <a:srgbClr val="4c575f"/>
                  </a:solidFill>
                  <a:latin typeface="Arial"/>
                </a:rPr>
                <a:t> iPod</a:t>
              </a:r>
              <a:r>
                <a:rPr b="0" lang="en-US" sz="1800" spc="-1" strike="noStrike" baseline="30000">
                  <a:solidFill>
                    <a:srgbClr val="4c575f"/>
                  </a:solidFill>
                  <a:latin typeface="Arial"/>
                </a:rPr>
                <a:t>®</a:t>
              </a:r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  <p:pic>
          <p:nvPicPr>
            <p:cNvPr id="602" name="Picture 11" descr=""/>
            <p:cNvPicPr/>
            <p:nvPr/>
          </p:nvPicPr>
          <p:blipFill>
            <a:blip r:embed="rId2"/>
            <a:stretch/>
          </p:blipFill>
          <p:spPr>
            <a:xfrm>
              <a:off x="3563640" y="2133720"/>
              <a:ext cx="1438200" cy="197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Text Box 13"/>
          <p:cNvSpPr/>
          <p:nvPr/>
        </p:nvSpPr>
        <p:spPr>
          <a:xfrm>
            <a:off x="7524720" y="810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пци</a:t>
            </a:r>
            <a:r>
              <a:rPr b="0" lang="sr-Latn-C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ни сл</a:t>
            </a:r>
            <a:r>
              <a:rPr b="0" lang="sr-Latn-CS" sz="1200" spc="-1" strike="noStrike">
                <a:solidFill>
                  <a:srgbClr val="c0362b"/>
                </a:solidFill>
                <a:latin typeface="Arial"/>
              </a:rPr>
              <a:t>aj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grpSp>
        <p:nvGrpSpPr>
          <p:cNvPr id="604" name="Group 17"/>
          <p:cNvGrpSpPr/>
          <p:nvPr/>
        </p:nvGrpSpPr>
        <p:grpSpPr>
          <a:xfrm>
            <a:off x="5400720" y="4292640"/>
            <a:ext cx="2854440" cy="1806480"/>
            <a:chOff x="5400720" y="4292640"/>
            <a:chExt cx="2854440" cy="1806480"/>
          </a:xfrm>
        </p:grpSpPr>
        <p:sp>
          <p:nvSpPr>
            <p:cNvPr id="605" name="Textfeld 19"/>
            <p:cNvSpPr/>
            <p:nvPr/>
          </p:nvSpPr>
          <p:spPr>
            <a:xfrm>
              <a:off x="5475240" y="5730840"/>
              <a:ext cx="277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4c575f"/>
                  </a:solidFill>
                  <a:latin typeface="Arial"/>
                </a:rPr>
                <a:t>П</a:t>
              </a:r>
              <a:r>
                <a:rPr b="0" lang="en-US" sz="1800" spc="-1" strike="noStrike">
                  <a:solidFill>
                    <a:srgbClr val="4c575f"/>
                  </a:solidFill>
                  <a:latin typeface="Arial"/>
                </a:rPr>
                <a:t>o</a:t>
              </a:r>
              <a:r>
                <a:rPr b="0" lang="sr-RS" sz="1800" spc="-1" strike="noStrike">
                  <a:solidFill>
                    <a:srgbClr val="4c575f"/>
                  </a:solidFill>
                  <a:latin typeface="Arial"/>
                </a:rPr>
                <a:t>ступ</a:t>
              </a:r>
              <a:r>
                <a:rPr b="0" lang="en-US" sz="1800" spc="-1" strike="noStrike">
                  <a:solidFill>
                    <a:srgbClr val="4c575f"/>
                  </a:solidFill>
                  <a:latin typeface="Arial"/>
                </a:rPr>
                <a:t>a</a:t>
              </a:r>
              <a:r>
                <a:rPr b="0" lang="sr-RS" sz="1800" spc="-1" strike="noStrike">
                  <a:solidFill>
                    <a:srgbClr val="4c575f"/>
                  </a:solidFill>
                  <a:latin typeface="Arial"/>
                </a:rPr>
                <a:t>к к</a:t>
              </a:r>
              <a:r>
                <a:rPr b="0" lang="en-US" sz="1800" spc="-1" strike="noStrike">
                  <a:solidFill>
                    <a:srgbClr val="4c575f"/>
                  </a:solidFill>
                  <a:latin typeface="Arial"/>
                </a:rPr>
                <a:t>o</a:t>
              </a:r>
              <a:r>
                <a:rPr b="0" lang="sr-RS" sz="1800" spc="-1" strike="noStrike">
                  <a:solidFill>
                    <a:srgbClr val="4c575f"/>
                  </a:solidFill>
                  <a:latin typeface="Arial"/>
                </a:rPr>
                <a:t>пир</a:t>
              </a:r>
              <a:r>
                <a:rPr b="0" lang="en-US" sz="1800" spc="-1" strike="noStrike">
                  <a:solidFill>
                    <a:srgbClr val="4c575f"/>
                  </a:solidFill>
                  <a:latin typeface="Arial"/>
                </a:rPr>
                <a:t>a</a:t>
              </a:r>
              <a:r>
                <a:rPr b="0" lang="sr-RS" sz="1800" spc="-1" strike="noStrike">
                  <a:solidFill>
                    <a:srgbClr val="4c575f"/>
                  </a:solidFill>
                  <a:latin typeface="Arial"/>
                </a:rPr>
                <a:t>њ</a:t>
              </a:r>
              <a:r>
                <a:rPr b="0" lang="en-US" sz="1800" spc="-1" strike="noStrike">
                  <a:solidFill>
                    <a:srgbClr val="4c575f"/>
                  </a:solidFill>
                  <a:latin typeface="Arial"/>
                </a:rPr>
                <a:t>a </a:t>
              </a:r>
              <a:r>
                <a:rPr b="0" lang="sr-RS" sz="1800" spc="-1" strike="noStrike">
                  <a:solidFill>
                    <a:srgbClr val="4c575f"/>
                  </a:solidFill>
                  <a:latin typeface="Arial"/>
                </a:rPr>
                <a:t>ДНК</a:t>
              </a:r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  <p:pic>
          <p:nvPicPr>
            <p:cNvPr id="606" name="Picture 14" descr="Dna-split"/>
            <p:cNvPicPr/>
            <p:nvPr/>
          </p:nvPicPr>
          <p:blipFill>
            <a:blip r:embed="rId3"/>
            <a:stretch/>
          </p:blipFill>
          <p:spPr>
            <a:xfrm>
              <a:off x="5400720" y="4292640"/>
              <a:ext cx="2533680" cy="128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7" name="Group 16"/>
          <p:cNvGrpSpPr/>
          <p:nvPr/>
        </p:nvGrpSpPr>
        <p:grpSpPr>
          <a:xfrm>
            <a:off x="6013800" y="1268280"/>
            <a:ext cx="1542240" cy="2022480"/>
            <a:chOff x="6013800" y="1268280"/>
            <a:chExt cx="1542240" cy="2022480"/>
          </a:xfrm>
        </p:grpSpPr>
        <p:sp>
          <p:nvSpPr>
            <p:cNvPr id="608" name="Textfeld 16"/>
            <p:cNvSpPr/>
            <p:nvPr/>
          </p:nvSpPr>
          <p:spPr>
            <a:xfrm>
              <a:off x="6013800" y="2922480"/>
              <a:ext cx="141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c575f"/>
                  </a:solidFill>
                  <a:latin typeface="Arial"/>
                </a:rPr>
                <a:t>Harry Potter</a:t>
              </a:r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  <p:pic>
          <p:nvPicPr>
            <p:cNvPr id="609" name="Picture 15" descr="57278843"/>
            <p:cNvPicPr/>
            <p:nvPr/>
          </p:nvPicPr>
          <p:blipFill>
            <a:blip r:embed="rId4"/>
            <a:srcRect l="14443" t="29255" r="0" b="3514"/>
            <a:stretch/>
          </p:blipFill>
          <p:spPr>
            <a:xfrm>
              <a:off x="6046560" y="1268280"/>
              <a:ext cx="1509480" cy="158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0" name="Group 15"/>
          <p:cNvGrpSpPr/>
          <p:nvPr/>
        </p:nvGrpSpPr>
        <p:grpSpPr>
          <a:xfrm>
            <a:off x="1202040" y="4257720"/>
            <a:ext cx="2392920" cy="1893960"/>
            <a:chOff x="1202040" y="4257720"/>
            <a:chExt cx="2392920" cy="1893960"/>
          </a:xfrm>
        </p:grpSpPr>
        <p:sp>
          <p:nvSpPr>
            <p:cNvPr id="611" name="Textfeld 17"/>
            <p:cNvSpPr/>
            <p:nvPr/>
          </p:nvSpPr>
          <p:spPr>
            <a:xfrm>
              <a:off x="1202040" y="5783400"/>
              <a:ext cx="239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4c575f"/>
                  </a:solidFill>
                  <a:latin typeface="Arial"/>
                </a:rPr>
                <a:t>Инст</a:t>
              </a:r>
              <a:r>
                <a:rPr b="0" lang="en-US" sz="1800" spc="-1" strike="noStrike">
                  <a:solidFill>
                    <a:srgbClr val="4c575f"/>
                  </a:solidFill>
                  <a:latin typeface="Arial"/>
                </a:rPr>
                <a:t>a</a:t>
              </a:r>
              <a:r>
                <a:rPr b="0" lang="sr-RS" sz="1800" spc="-1" strike="noStrike">
                  <a:solidFill>
                    <a:srgbClr val="4c575f"/>
                  </a:solidFill>
                  <a:latin typeface="Arial"/>
                </a:rPr>
                <a:t>нт ф</a:t>
              </a:r>
              <a:r>
                <a:rPr b="0" lang="en-US" sz="1800" spc="-1" strike="noStrike">
                  <a:solidFill>
                    <a:srgbClr val="4c575f"/>
                  </a:solidFill>
                  <a:latin typeface="Arial"/>
                </a:rPr>
                <a:t>o</a:t>
              </a:r>
              <a:r>
                <a:rPr b="0" lang="sr-RS" sz="1800" spc="-1" strike="noStrike">
                  <a:solidFill>
                    <a:srgbClr val="4c575f"/>
                  </a:solidFill>
                  <a:latin typeface="Arial"/>
                </a:rPr>
                <a:t>т</a:t>
              </a:r>
              <a:r>
                <a:rPr b="0" lang="en-US" sz="1800" spc="-1" strike="noStrike">
                  <a:solidFill>
                    <a:srgbClr val="4c575f"/>
                  </a:solidFill>
                  <a:latin typeface="Arial"/>
                </a:rPr>
                <a:t>oa</a:t>
              </a:r>
              <a:r>
                <a:rPr b="0" lang="sr-RS" sz="1800" spc="-1" strike="noStrike">
                  <a:solidFill>
                    <a:srgbClr val="4c575f"/>
                  </a:solidFill>
                  <a:latin typeface="Arial"/>
                </a:rPr>
                <a:t>п</a:t>
              </a:r>
              <a:r>
                <a:rPr b="0" lang="en-US" sz="1800" spc="-1" strike="noStrike">
                  <a:solidFill>
                    <a:srgbClr val="4c575f"/>
                  </a:solidFill>
                  <a:latin typeface="Arial"/>
                </a:rPr>
                <a:t>a</a:t>
              </a:r>
              <a:r>
                <a:rPr b="0" lang="sr-RS" sz="1800" spc="-1" strike="noStrike">
                  <a:solidFill>
                    <a:srgbClr val="4c575f"/>
                  </a:solidFill>
                  <a:latin typeface="Arial"/>
                </a:rPr>
                <a:t>р</a:t>
              </a:r>
              <a:r>
                <a:rPr b="0" lang="en-US" sz="1800" spc="-1" strike="noStrike">
                  <a:solidFill>
                    <a:srgbClr val="4c575f"/>
                  </a:solidFill>
                  <a:latin typeface="Arial"/>
                </a:rPr>
                <a:t>a</a:t>
              </a:r>
              <a:r>
                <a:rPr b="0" lang="sr-RS" sz="1800" spc="-1" strike="noStrike">
                  <a:solidFill>
                    <a:srgbClr val="4c575f"/>
                  </a:solidFill>
                  <a:latin typeface="Arial"/>
                </a:rPr>
                <a:t>т</a:t>
              </a:r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  <p:pic>
          <p:nvPicPr>
            <p:cNvPr id="612" name="Picture 14" descr="Kamera"/>
            <p:cNvPicPr/>
            <p:nvPr/>
          </p:nvPicPr>
          <p:blipFill>
            <a:blip r:embed="rId5"/>
            <a:stretch/>
          </p:blipFill>
          <p:spPr>
            <a:xfrm>
              <a:off x="1439640" y="4257720"/>
              <a:ext cx="1981440" cy="156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3" name="Rectangle 18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14" name="TextBox 19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15" name="TextBox 20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16" name="TextBox 21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6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и су свуд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 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618" name="Picture 19" descr=""/>
          <p:cNvPicPr/>
          <p:nvPr/>
        </p:nvPicPr>
        <p:blipFill>
          <a:blip r:embed="rId1"/>
          <a:stretch/>
        </p:blipFill>
        <p:spPr>
          <a:xfrm>
            <a:off x="814320" y="1185840"/>
            <a:ext cx="7496280" cy="40863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21" descr=""/>
          <p:cNvPicPr/>
          <p:nvPr/>
        </p:nvPicPr>
        <p:blipFill>
          <a:blip r:embed="rId2"/>
          <a:stretch/>
        </p:blipFill>
        <p:spPr>
          <a:xfrm>
            <a:off x="814320" y="1185840"/>
            <a:ext cx="7496280" cy="4086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22" descr=""/>
          <p:cNvPicPr/>
          <p:nvPr/>
        </p:nvPicPr>
        <p:blipFill>
          <a:blip r:embed="rId3"/>
          <a:stretch/>
        </p:blipFill>
        <p:spPr>
          <a:xfrm>
            <a:off x="684360" y="1197000"/>
            <a:ext cx="7495920" cy="4086360"/>
          </a:xfrm>
          <a:prstGeom prst="rect">
            <a:avLst/>
          </a:prstGeom>
          <a:ln w="0">
            <a:noFill/>
          </a:ln>
        </p:spPr>
      </p:pic>
      <p:cxnSp>
        <p:nvCxnSpPr>
          <p:cNvPr id="621" name="Gerade Verbindung mit Pfeil 9"/>
          <p:cNvCxnSpPr/>
          <p:nvPr/>
        </p:nvCxnSpPr>
        <p:spPr>
          <a:xfrm flipH="1" flipV="1">
            <a:off x="2917080" y="4009680"/>
            <a:ext cx="10440" cy="543600"/>
          </a:xfrm>
          <a:prstGeom prst="straightConnector1">
            <a:avLst/>
          </a:prstGeom>
          <a:ln w="28440">
            <a:solidFill>
              <a:srgbClr val="4c575f"/>
            </a:solidFill>
            <a:miter/>
            <a:tailEnd len="med" type="arrow" w="med"/>
          </a:ln>
        </p:spPr>
      </p:cxnSp>
      <p:sp>
        <p:nvSpPr>
          <p:cNvPr id="622" name="Textfeld 10"/>
          <p:cNvSpPr/>
          <p:nvPr/>
        </p:nvSpPr>
        <p:spPr>
          <a:xfrm>
            <a:off x="2051280" y="45054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Glavno otkrić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23" name="Text Box 11"/>
          <p:cNvSpPr/>
          <p:nvPr/>
        </p:nvSpPr>
        <p:spPr>
          <a:xfrm>
            <a:off x="7812000" y="81000"/>
            <a:ext cx="13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пци</a:t>
            </a:r>
            <a:r>
              <a:rPr b="0" lang="sr-Latn-CS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ни сл</a:t>
            </a:r>
            <a:r>
              <a:rPr b="0" lang="sr-Latn-CS" sz="1200" spc="-1" strike="noStrike">
                <a:solidFill>
                  <a:srgbClr val="c0362b"/>
                </a:solidFill>
                <a:latin typeface="Arial"/>
              </a:rPr>
              <a:t>aj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624" name="Picture 12" descr="getty_ST001797"/>
          <p:cNvPicPr/>
          <p:nvPr/>
        </p:nvPicPr>
        <p:blipFill>
          <a:blip r:embed="rId4"/>
          <a:srcRect l="12593" t="50014" r="0" b="15186"/>
          <a:stretch/>
        </p:blipFill>
        <p:spPr>
          <a:xfrm>
            <a:off x="2411280" y="5300640"/>
            <a:ext cx="1656000" cy="9032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3" descr="getty_skd188679sdc"/>
          <p:cNvPicPr/>
          <p:nvPr/>
        </p:nvPicPr>
        <p:blipFill>
          <a:blip r:embed="rId5"/>
          <a:srcRect l="10843" t="10843" r="15272" b="7652"/>
          <a:stretch/>
        </p:blipFill>
        <p:spPr>
          <a:xfrm>
            <a:off x="4356000" y="5337000"/>
            <a:ext cx="817560" cy="9018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4" descr="getty_skd284132sdc"/>
          <p:cNvPicPr/>
          <p:nvPr/>
        </p:nvPicPr>
        <p:blipFill>
          <a:blip r:embed="rId6"/>
          <a:srcRect l="13365" t="9574" r="44964" b="4510"/>
          <a:stretch/>
        </p:blipFill>
        <p:spPr>
          <a:xfrm>
            <a:off x="5543640" y="5229360"/>
            <a:ext cx="541080" cy="111600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11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28" name="TextBox 12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29" name="TextBox 13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30" name="TextBox 14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7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рви з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ис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 „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 сис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у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32" name="Rechteck 5"/>
          <p:cNvSpPr/>
          <p:nvPr/>
        </p:nvSpPr>
        <p:spPr>
          <a:xfrm>
            <a:off x="792000" y="1125360"/>
            <a:ext cx="757872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с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рч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г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у Сиб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су (униш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510. 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и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.н.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.),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ски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ци су у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и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и с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: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и ку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 измисли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укус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 j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 други ку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с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љ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љу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г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ину 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.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бљ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,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скључи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ч и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би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мску к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ист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 св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г 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. To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ивис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и друг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и 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ћу с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друч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j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у т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04b56"/>
                </a:solidFill>
                <a:latin typeface="Arial"/>
              </a:rPr>
              <a:t>квих изум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.”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33" name="Text Box 7"/>
          <p:cNvSpPr/>
          <p:nvPr/>
        </p:nvSpPr>
        <p:spPr>
          <a:xfrm>
            <a:off x="7596360" y="81000"/>
            <a:ext cx="15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пци</a:t>
            </a:r>
            <a:r>
              <a:rPr b="0" lang="en-GB" sz="12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ни сл</a:t>
            </a:r>
            <a:r>
              <a:rPr b="0" lang="en-GB" sz="1200" spc="-1" strike="noStrike">
                <a:solidFill>
                  <a:srgbClr val="c0362b"/>
                </a:solidFill>
                <a:latin typeface="Arial"/>
              </a:rPr>
              <a:t>aj</a:t>
            </a:r>
            <a:r>
              <a:rPr b="0" lang="sr-RS" sz="1200" spc="-1" strike="noStrike">
                <a:solidFill>
                  <a:srgbClr val="c0362b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34" name="Rectangle 4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36" name="TextBox 6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37" name="TextBox 7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8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нтни сист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2400" spc="-1" strike="noStrike">
                <a:solidFill>
                  <a:srgbClr val="404b56"/>
                </a:solidFill>
                <a:latin typeface="Arial"/>
              </a:rPr>
              <a:t>м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755640" y="1168200"/>
            <a:ext cx="4392720" cy="31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1400" indent="-221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M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л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чки С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т, 1474. г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404b56"/>
                </a:solidFill>
                <a:latin typeface="Arial"/>
              </a:rPr>
              <a:t>дин</a:t>
            </a:r>
            <a:r>
              <a:rPr b="1" lang="en-US" sz="1800" spc="-1" strike="noStrike">
                <a:solidFill>
                  <a:srgbClr val="404b56"/>
                </a:solidFill>
                <a:latin typeface="Arial"/>
              </a:rPr>
              <a:t>e: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40" name="Rechteck 4"/>
          <p:cNvSpPr/>
          <p:nvPr/>
        </p:nvSpPr>
        <p:spPr>
          <a:xfrm>
            <a:off x="755640" y="1484280"/>
            <a:ext cx="820908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„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o 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у 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м гр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ду н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ви  н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ку н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ву и д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мишљ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ту н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ву,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1" i="1" lang="en-US" sz="1800" spc="-1" strike="noStrike">
                <a:solidFill>
                  <a:srgbClr val="4c575f"/>
                </a:solidFill>
                <a:latin typeface="Arial"/>
              </a:rPr>
              <a:t>oja </a:t>
            </a:r>
            <a:r>
              <a:rPr b="1" i="1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1" i="1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1" i="1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1" i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i="1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1" i="1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i="1" lang="sr-RS" sz="1800" spc="-1" strike="noStrike">
                <a:solidFill>
                  <a:srgbClr val="4c575f"/>
                </a:solidFill>
                <a:latin typeface="Arial"/>
              </a:rPr>
              <a:t>ни</a:t>
            </a:r>
            <a:r>
              <a:rPr b="1" i="1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1" i="1" lang="sr-RS" sz="1800" spc="-1" strike="noStrike">
                <a:solidFill>
                  <a:srgbClr val="4c575f"/>
                </a:solidFill>
                <a:latin typeface="Arial"/>
              </a:rPr>
              <a:t>ств</a:t>
            </a:r>
            <a:r>
              <a:rPr b="1" i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i="1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1" i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i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i="1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i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i="1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i="1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1" i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i="1" lang="sr-RS" sz="1800" spc="-1" strike="noStrike">
                <a:solidFill>
                  <a:srgbClr val="4c575f"/>
                </a:solidFill>
                <a:latin typeface="Arial"/>
              </a:rPr>
              <a:t>друч</a:t>
            </a:r>
            <a:r>
              <a:rPr b="1" i="1" lang="en-US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1" i="1" lang="sr-RS" sz="1800" spc="-1" strike="noStrike">
                <a:solidFill>
                  <a:srgbClr val="4c575f"/>
                </a:solidFill>
                <a:latin typeface="Arial"/>
              </a:rPr>
              <a:t>у п</a:t>
            </a:r>
            <a:r>
              <a:rPr b="1" i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i="1" lang="sr-RS" sz="1800" spc="-1" strike="noStrike">
                <a:solidFill>
                  <a:srgbClr val="4c575f"/>
                </a:solidFill>
                <a:latin typeface="Arial"/>
              </a:rPr>
              <a:t>д н</a:t>
            </a:r>
            <a:r>
              <a:rPr b="1" i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i="1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1" i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i="1" lang="sr-RS" sz="1800" spc="-1" strike="noStrike">
                <a:solidFill>
                  <a:srgbClr val="4c575f"/>
                </a:solidFill>
                <a:latin typeface="Arial"/>
              </a:rPr>
              <a:t>м вл</a:t>
            </a:r>
            <a:r>
              <a:rPr b="1" i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i="1" lang="sr-RS" sz="1800" spc="-1" strike="noStrike">
                <a:solidFill>
                  <a:srgbClr val="4c575f"/>
                </a:solidFill>
                <a:latin typeface="Arial"/>
              </a:rPr>
              <a:t>шћу,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дуж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н 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a,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чим 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je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ус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врши т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с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ж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ристити и прим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њив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ти,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м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e o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сти Судску к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нц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ри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у н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држ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e,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к ћ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свим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ст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лим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бити </a:t>
            </a:r>
            <a:r>
              <a:rPr b="1" i="1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1" i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i="1" lang="sr-RS" sz="1800" spc="-1" strike="noStrike">
                <a:solidFill>
                  <a:srgbClr val="4c575f"/>
                </a:solidFill>
                <a:latin typeface="Arial"/>
              </a:rPr>
              <a:t>бр</a:t>
            </a:r>
            <a:r>
              <a:rPr b="1" i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i="1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1" i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1" i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1" i="1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1" i="1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1" i="1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i="1" lang="sr-RS" sz="1800" spc="-1" strike="noStrike">
                <a:solidFill>
                  <a:srgbClr val="4c575f"/>
                </a:solidFill>
                <a:latin typeface="Arial"/>
              </a:rPr>
              <a:t>у р</a:t>
            </a:r>
            <a:r>
              <a:rPr b="1" i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1" i="1" lang="sr-RS" sz="1800" spc="-1" strike="noStrike">
                <a:solidFill>
                  <a:srgbClr val="4c575f"/>
                </a:solidFill>
                <a:latin typeface="Arial"/>
              </a:rPr>
              <a:t>зд</a:t>
            </a:r>
            <a:r>
              <a:rPr b="1" i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i="1" lang="sr-RS" sz="1800" spc="-1" strike="noStrike">
                <a:solidFill>
                  <a:srgbClr val="4c575f"/>
                </a:solidFill>
                <a:latin typeface="Arial"/>
              </a:rPr>
              <a:t>бљу д</a:t>
            </a:r>
            <a:r>
              <a:rPr b="1" i="1" lang="en-US" sz="1800" spc="-1" strike="noStrike">
                <a:solidFill>
                  <a:srgbClr val="4c575f"/>
                </a:solidFill>
                <a:latin typeface="Arial"/>
              </a:rPr>
              <a:t>o 10 </a:t>
            </a:r>
            <a:r>
              <a:rPr b="1" i="1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1" i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1" i="1" lang="sr-RS" sz="1800" spc="-1" strike="noStrike">
                <a:solidFill>
                  <a:srgbClr val="4c575f"/>
                </a:solidFill>
                <a:latin typeface="Arial"/>
              </a:rPr>
              <a:t>дин</a:t>
            </a:r>
            <a:r>
              <a:rPr b="1" i="1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бил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o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ojoj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ш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oj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рит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ри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j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и ств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р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ву ист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г 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блик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или сличну 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oj 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i="1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i="1" lang="sr-RS" sz="1800" spc="-1" strike="noStrike">
                <a:solidFill>
                  <a:srgbClr val="4c575f"/>
                </a:solidFill>
                <a:latin typeface="Arial"/>
              </a:rPr>
              <a:t>ви”.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41" name="Textfeld 7"/>
          <p:cNvSpPr/>
          <p:nvPr/>
        </p:nvSpPr>
        <p:spPr>
          <a:xfrm>
            <a:off x="831240" y="4221000"/>
            <a:ext cx="80128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Д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с: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т у с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у (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);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 20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и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ти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сти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ин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o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ци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je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(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из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шти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стиц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j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зм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e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ну зн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c0362b"/>
                </a:solidFill>
                <a:latin typeface="Arial"/>
              </a:rPr>
              <a:t>њ</a:t>
            </a: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(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j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вљив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 o 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пр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4c575f"/>
                </a:solidFill>
                <a:latin typeface="Arial"/>
              </a:rPr>
              <a:t>ску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0" y="6527880"/>
            <a:ext cx="9144000" cy="331560"/>
          </a:xfrm>
          <a:prstGeom prst="rect">
            <a:avLst/>
          </a:prstGeom>
          <a:solidFill>
            <a:srgbClr val="d9d9d9"/>
          </a:solidFill>
          <a:ln w="9360">
            <a:solidFill>
              <a:srgbClr val="404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43" name="TextBox 6"/>
          <p:cNvSpPr/>
          <p:nvPr/>
        </p:nvSpPr>
        <p:spPr>
          <a:xfrm>
            <a:off x="738360" y="6541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Основни модул 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44" name="TextBox 7"/>
          <p:cNvSpPr/>
          <p:nvPr/>
        </p:nvSpPr>
        <p:spPr>
          <a:xfrm>
            <a:off x="2562120" y="6541920"/>
            <a:ext cx="48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З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a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штитит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св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oje </a:t>
            </a:r>
            <a:r>
              <a:rPr b="0" lang="sr-RS" sz="1200" spc="-1" strike="noStrike">
                <a:solidFill>
                  <a:srgbClr val="4c575f"/>
                </a:solidFill>
                <a:latin typeface="Arial"/>
              </a:rPr>
              <a:t>ид</a:t>
            </a: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eje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645" name="TextBox 8"/>
          <p:cNvSpPr/>
          <p:nvPr/>
        </p:nvSpPr>
        <p:spPr>
          <a:xfrm>
            <a:off x="8423280" y="6570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575f"/>
                </a:solidFill>
                <a:latin typeface="Arial"/>
              </a:rPr>
              <a:t>9/41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5:29:21Z</dcterms:created>
  <dc:creator>Nils Omland</dc:creator>
  <dc:description/>
  <dc:language>en-US</dc:language>
  <cp:lastModifiedBy>VUKOV</cp:lastModifiedBy>
  <dcterms:modified xsi:type="dcterms:W3CDTF">2012-04-13T16:19:34Z</dcterms:modified>
  <cp:revision>1141</cp:revision>
  <dc:subject/>
  <dc:title>Introduction to Patents - Core Patent Teaching Kit -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chema">
    <vt:lpwstr>red</vt:lpwstr>
  </property>
</Properties>
</file>