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517-2996-46EA-90FD-08DC5AB082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BFB-144C-4570-A954-B93CC1A9BCE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 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3, 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ид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3A2-FE49-4C42-9629-7EB9AD23119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ци 4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(1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(6).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ц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(7),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б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(1) 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”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б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 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при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 10025539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и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81B-501C-40B2-84DE-81DD4A546CC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622-09C5-4B36-AF27-696C16E360C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3 из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х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 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FD1-8D96-4964-9EB9-1F74D97A508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у 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.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123(2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и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„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..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в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и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бил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апо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им 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P 03 005 120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). Из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и „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х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ECL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П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D06F39/04 („details of washing mach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: heating arrangements”/”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/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06F („domestic laundry treatment”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б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ству”/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ц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уб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(1)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ид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џ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у ил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џ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у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 (4) у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 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(2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чвр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пр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” дн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р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3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м 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у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, 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ти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”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(„...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...”).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б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б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з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(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)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(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84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и с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ђ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у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„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м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м из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”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”,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”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(нпр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дух, 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ницу, 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)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 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чн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, 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ти и 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ру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шир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. 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м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ђ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2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15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 зид (16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9, 12, 14, 17, 19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 0 352 499 A2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1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ку 2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3,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5-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ни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: 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 ни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)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и 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у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P0352499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„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ут”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и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и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сх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жи мини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 ни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 у случ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P0352499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ф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д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 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с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луч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б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, п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к буб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ут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(будући д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ут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уж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.”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0 и 15 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A95D-B9B7-4F91-87A8-292CAFF0ACC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605E3-8AFF-47D0-8361-85B67CCF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0E2B1-CA73-4A60-9EC7-F1D7A492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AE0E-6D81-46E9-81EC-C071C2F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C6DD-1083-4F38-986C-806CC66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21A22-9002-434D-89FE-0EA5F7B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A6772-3695-4AFE-B9F0-E8A8C757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B1181-DB6D-47A1-A4EB-4016EA5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6CA81-9D7D-4A55-B54F-4AEE0BD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3B887-7AAD-482A-BDFC-5810C26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A758F-F6B2-476F-9056-4194C7F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2786-7ADF-482D-9291-45177E85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30F90-22B2-48ED-981C-03AF36A5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0280" indent="-258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0280" indent="-26856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398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b) Heating element for a washing machin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F3A0-4E9C-4244-9F53-FE35F34F3A3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0280" indent="-258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00280" indent="-26856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398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1A6A-49F7-4B57-BD1A-25EFA81B5CE9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60640"/>
            <a:ext cx="8207280" cy="21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3600"/>
            </a:b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(б) Г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ч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шину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68360" y="4581360"/>
            <a:ext cx="57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128000" y="4941720"/>
            <a:ext cx="165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3" name="Rechteck 4"/>
          <p:cNvSpPr/>
          <p:nvPr/>
        </p:nvSpPr>
        <p:spPr>
          <a:xfrm>
            <a:off x="1703520" y="2943360"/>
            <a:ext cx="642600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Rechteck 5"/>
          <p:cNvSpPr/>
          <p:nvPr/>
        </p:nvSpPr>
        <p:spPr>
          <a:xfrm>
            <a:off x="1703520" y="3817800"/>
            <a:ext cx="6426000" cy="1150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н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н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 при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95" name="Form 7"/>
          <p:cNvCxnSpPr>
            <a:stCxn id="193" idx="1"/>
          </p:cNvCxnSpPr>
          <p:nvPr/>
        </p:nvCxnSpPr>
        <p:spPr>
          <a:xfrm rot="10800000">
            <a:off x="1227960" y="2540880"/>
            <a:ext cx="475560" cy="74988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cxnSp>
        <p:nvCxnSpPr>
          <p:cNvPr id="196" name="Form 8"/>
          <p:cNvCxnSpPr>
            <a:stCxn id="194" idx="1"/>
          </p:cNvCxnSpPr>
          <p:nvPr/>
        </p:nvCxnSpPr>
        <p:spPr>
          <a:xfrm rot="10800000">
            <a:off x="1227960" y="2768040"/>
            <a:ext cx="475560" cy="162612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sp>
        <p:nvSpPr>
          <p:cNvPr id="197" name="Rechteck 3"/>
          <p:cNvSpPr/>
          <p:nvPr/>
        </p:nvSpPr>
        <p:spPr>
          <a:xfrm>
            <a:off x="863640" y="1268280"/>
            <a:ext cx="7275600" cy="1533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1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hteck 10"/>
          <p:cNvSpPr/>
          <p:nvPr/>
        </p:nvSpPr>
        <p:spPr>
          <a:xfrm>
            <a:off x="863640" y="5102280"/>
            <a:ext cx="7308720" cy="1058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ршити 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ити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, ПРЕМА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E6F-AC4F-4BFC-BAD3-9239796BE15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6" name="Rechteck 8"/>
          <p:cNvSpPr/>
          <p:nvPr/>
        </p:nvSpPr>
        <p:spPr>
          <a:xfrm>
            <a:off x="858960" y="4938840"/>
            <a:ext cx="7708680" cy="10810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E 100 25 539 A1: 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г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 (1)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и причвршћ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(7) 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..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Rechteck 5"/>
          <p:cNvSpPr/>
          <p:nvPr/>
        </p:nvSpPr>
        <p:spPr>
          <a:xfrm>
            <a:off x="766800" y="1165320"/>
            <a:ext cx="55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ћинст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1"/>
          <a:stretch/>
        </p:blipFill>
        <p:spPr>
          <a:xfrm>
            <a:off x="3456000" y="1736640"/>
            <a:ext cx="2278080" cy="145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0307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3"/>
          <a:stretch/>
        </p:blipFill>
        <p:spPr>
          <a:xfrm>
            <a:off x="647640" y="2708280"/>
            <a:ext cx="2484360" cy="77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4"/>
          <a:stretch/>
        </p:blipFill>
        <p:spPr>
          <a:xfrm>
            <a:off x="2087640" y="3284640"/>
            <a:ext cx="3024000" cy="1558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DFA-02DD-4158-B641-89D6427FA99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9" name="Rechteck 3"/>
          <p:cNvSpPr/>
          <p:nvPr/>
        </p:nvSpPr>
        <p:spPr>
          <a:xfrm>
            <a:off x="819000" y="1530360"/>
            <a:ext cx="4292640" cy="251136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 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Rechteck 4"/>
          <p:cNvSpPr/>
          <p:nvPr/>
        </p:nvSpPr>
        <p:spPr>
          <a:xfrm>
            <a:off x="819000" y="4246560"/>
            <a:ext cx="429264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 пр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100 25 539 A1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1" name="Rechteck 5"/>
          <p:cNvSpPr/>
          <p:nvPr/>
        </p:nvSpPr>
        <p:spPr>
          <a:xfrm>
            <a:off x="819000" y="5249880"/>
            <a:ext cx="7677360" cy="9874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 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Rechteck 6"/>
          <p:cNvSpPr/>
          <p:nvPr/>
        </p:nvSpPr>
        <p:spPr>
          <a:xfrm>
            <a:off x="5241960" y="1530360"/>
            <a:ext cx="3254400" cy="1310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j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...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г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ф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(1) ...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и причвршћ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(7) 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ши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..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3" name="Rechteck 7"/>
          <p:cNvSpPr/>
          <p:nvPr/>
        </p:nvSpPr>
        <p:spPr>
          <a:xfrm>
            <a:off x="6556320" y="1165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DE 100 25 539 A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0" t="23827" r="0" b="0"/>
          <a:stretch/>
        </p:blipFill>
        <p:spPr>
          <a:xfrm>
            <a:off x="5400720" y="3249720"/>
            <a:ext cx="3024000" cy="1187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0A7-E60C-4E76-8740-AA0BB4F3C43F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 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у из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т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пр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б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(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и у вид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п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505-ACAD-45D2-87BC-6025732F285F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eck 6"/>
          <p:cNvSpPr/>
          <p:nvPr/>
        </p:nvSpPr>
        <p:spPr>
          <a:xfrm>
            <a:off x="826920" y="3233880"/>
            <a:ext cx="8066160" cy="511200"/>
          </a:xfrm>
          <a:prstGeom prst="rect">
            <a:avLst/>
          </a:prstGeom>
          <a:solidFill>
            <a:srgbClr val="bec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у с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Rechteck 18"/>
          <p:cNvSpPr/>
          <p:nvPr/>
        </p:nvSpPr>
        <p:spPr>
          <a:xfrm>
            <a:off x="826920" y="5322960"/>
            <a:ext cx="8066160" cy="79848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+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л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 +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Rechteck 7"/>
          <p:cNvSpPr/>
          <p:nvPr/>
        </p:nvSpPr>
        <p:spPr>
          <a:xfrm>
            <a:off x="826920" y="3960720"/>
            <a:ext cx="80661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Rechteck 6"/>
          <p:cNvSpPr/>
          <p:nvPr/>
        </p:nvSpPr>
        <p:spPr>
          <a:xfrm>
            <a:off x="826920" y="2571840"/>
            <a:ext cx="8066160" cy="511200"/>
          </a:xfrm>
          <a:prstGeom prst="rect">
            <a:avLst/>
          </a:prstGeom>
          <a:solidFill>
            <a:srgbClr val="bec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Rechteck 5"/>
          <p:cNvSpPr/>
          <p:nvPr/>
        </p:nvSpPr>
        <p:spPr>
          <a:xfrm>
            <a:off x="826920" y="1914480"/>
            <a:ext cx="8066160" cy="511200"/>
          </a:xfrm>
          <a:prstGeom prst="rect">
            <a:avLst/>
          </a:prstGeom>
          <a:solidFill>
            <a:srgbClr val="bec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5" name="Rechteck 3"/>
          <p:cNvSpPr/>
          <p:nvPr/>
        </p:nvSpPr>
        <p:spPr>
          <a:xfrm>
            <a:off x="4829040" y="1494000"/>
            <a:ext cx="1935360" cy="4698720"/>
          </a:xfrm>
          <a:prstGeom prst="rect">
            <a:avLst/>
          </a:prstGeom>
          <a:solidFill>
            <a:srgbClr val="bec4c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Rechteck 4"/>
          <p:cNvSpPr/>
          <p:nvPr/>
        </p:nvSpPr>
        <p:spPr>
          <a:xfrm>
            <a:off x="6845400" y="1494000"/>
            <a:ext cx="1935000" cy="4698720"/>
          </a:xfrm>
          <a:prstGeom prst="rect">
            <a:avLst/>
          </a:prstGeom>
          <a:solidFill>
            <a:srgbClr val="bec4c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Textfeld 8"/>
          <p:cNvSpPr/>
          <p:nvPr/>
        </p:nvSpPr>
        <p:spPr>
          <a:xfrm>
            <a:off x="756000" y="1476360"/>
            <a:ext cx="41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Rechteck 9"/>
          <p:cNvSpPr/>
          <p:nvPr/>
        </p:nvSpPr>
        <p:spPr>
          <a:xfrm>
            <a:off x="4818960" y="1160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EP 0 352 499 A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Rechteck 10"/>
          <p:cNvSpPr/>
          <p:nvPr/>
        </p:nvSpPr>
        <p:spPr>
          <a:xfrm>
            <a:off x="6804000" y="1165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DE 100 25 539 A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Textfeld 11"/>
          <p:cNvSpPr/>
          <p:nvPr/>
        </p:nvSpPr>
        <p:spPr>
          <a:xfrm>
            <a:off x="2047680" y="4884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Textfeld 19"/>
          <p:cNvSpPr/>
          <p:nvPr/>
        </p:nvSpPr>
        <p:spPr>
          <a:xfrm>
            <a:off x="777600" y="488952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Textfeld 29"/>
          <p:cNvSpPr/>
          <p:nvPr/>
        </p:nvSpPr>
        <p:spPr>
          <a:xfrm>
            <a:off x="5459760" y="2660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Textfeld 31"/>
          <p:cNvSpPr/>
          <p:nvPr/>
        </p:nvSpPr>
        <p:spPr>
          <a:xfrm>
            <a:off x="5532840" y="5583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4" name="Textfeld 32"/>
          <p:cNvSpPr/>
          <p:nvPr/>
        </p:nvSpPr>
        <p:spPr>
          <a:xfrm>
            <a:off x="7615800" y="5583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5" name="Textfeld 29"/>
          <p:cNvSpPr/>
          <p:nvPr/>
        </p:nvSpPr>
        <p:spPr>
          <a:xfrm>
            <a:off x="5488560" y="3351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6" name="Textfeld 31"/>
          <p:cNvSpPr/>
          <p:nvPr/>
        </p:nvSpPr>
        <p:spPr>
          <a:xfrm>
            <a:off x="5488560" y="4033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Textfeld 32"/>
          <p:cNvSpPr/>
          <p:nvPr/>
        </p:nvSpPr>
        <p:spPr>
          <a:xfrm>
            <a:off x="7571160" y="4033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5518080" y="1988640"/>
            <a:ext cx="426960" cy="323640"/>
            <a:chOff x="5518080" y="1988640"/>
            <a:chExt cx="426960" cy="323640"/>
          </a:xfrm>
        </p:grpSpPr>
        <p:sp>
          <p:nvSpPr>
            <p:cNvPr id="259" name="Line 27"/>
            <p:cNvSpPr/>
            <p:nvPr/>
          </p:nvSpPr>
          <p:spPr>
            <a:xfrm>
              <a:off x="5518080" y="2107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 flipV="1">
              <a:off x="5691240" y="1988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61" name="Group 29"/>
          <p:cNvGrpSpPr/>
          <p:nvPr/>
        </p:nvGrpSpPr>
        <p:grpSpPr>
          <a:xfrm>
            <a:off x="7674120" y="2636640"/>
            <a:ext cx="426960" cy="323640"/>
            <a:chOff x="7674120" y="2636640"/>
            <a:chExt cx="426960" cy="323640"/>
          </a:xfrm>
        </p:grpSpPr>
        <p:sp>
          <p:nvSpPr>
            <p:cNvPr id="262" name="Line 30"/>
            <p:cNvSpPr/>
            <p:nvPr/>
          </p:nvSpPr>
          <p:spPr>
            <a:xfrm>
              <a:off x="7674120" y="275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7847280" y="263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7674120" y="2025360"/>
            <a:ext cx="426960" cy="323640"/>
            <a:chOff x="7674120" y="2025360"/>
            <a:chExt cx="426960" cy="323640"/>
          </a:xfrm>
        </p:grpSpPr>
        <p:sp>
          <p:nvSpPr>
            <p:cNvPr id="265" name="Line 33"/>
            <p:cNvSpPr/>
            <p:nvPr/>
          </p:nvSpPr>
          <p:spPr>
            <a:xfrm>
              <a:off x="7674120" y="214452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V="1">
              <a:off x="7847280" y="202536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7667640" y="3320640"/>
            <a:ext cx="426960" cy="323640"/>
            <a:chOff x="7667640" y="3320640"/>
            <a:chExt cx="426960" cy="323640"/>
          </a:xfrm>
        </p:grpSpPr>
        <p:sp>
          <p:nvSpPr>
            <p:cNvPr id="268" name="Line 36"/>
            <p:cNvSpPr/>
            <p:nvPr/>
          </p:nvSpPr>
          <p:spPr>
            <a:xfrm>
              <a:off x="7667640" y="3439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9" name="Line 37"/>
            <p:cNvSpPr/>
            <p:nvPr/>
          </p:nvSpPr>
          <p:spPr>
            <a:xfrm flipV="1">
              <a:off x="7840800" y="3320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7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B425-745D-4C20-AF60-3B769DEC74F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5280" y="1125360"/>
            <a:ext cx="8388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ну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у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у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, j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нст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и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при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→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у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 100 25 539 A1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312A-7F40-42BB-8A42-EFA9F2C54CD9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5" name="Rechteck 3"/>
          <p:cNvSpPr/>
          <p:nvPr/>
        </p:nvSpPr>
        <p:spPr>
          <a:xfrm>
            <a:off x="863640" y="1268280"/>
            <a:ext cx="7412040" cy="23400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лику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ини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ни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446-C6A0-4C28-9213-445AA83B02E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feld 11"/>
          <p:cNvSpPr/>
          <p:nvPr/>
        </p:nvSpPr>
        <p:spPr>
          <a:xfrm>
            <a:off x="7272360" y="2841480"/>
            <a:ext cx="1511280" cy="155412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к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љ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ивн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441360"/>
            <a:ext cx="768996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4" name="Textfeld 14"/>
          <p:cNvSpPr/>
          <p:nvPr/>
        </p:nvSpPr>
        <p:spPr>
          <a:xfrm>
            <a:off x="7272360" y="5343480"/>
            <a:ext cx="1493640" cy="8240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с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Rechteck 8"/>
          <p:cNvSpPr/>
          <p:nvPr/>
        </p:nvSpPr>
        <p:spPr>
          <a:xfrm>
            <a:off x="826920" y="5372280"/>
            <a:ext cx="5724720" cy="8283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6" name="Rechteck 7"/>
          <p:cNvSpPr/>
          <p:nvPr/>
        </p:nvSpPr>
        <p:spPr>
          <a:xfrm>
            <a:off x="3672000" y="3711600"/>
            <a:ext cx="3348000" cy="35244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7" name="Rechteck 5"/>
          <p:cNvSpPr/>
          <p:nvPr/>
        </p:nvSpPr>
        <p:spPr>
          <a:xfrm>
            <a:off x="826920" y="4184640"/>
            <a:ext cx="6193080" cy="6127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8" name="Rechteck 7"/>
          <p:cNvSpPr/>
          <p:nvPr/>
        </p:nvSpPr>
        <p:spPr>
          <a:xfrm>
            <a:off x="826920" y="3963960"/>
            <a:ext cx="6193080" cy="31752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826920" y="4208400"/>
            <a:ext cx="1944720" cy="3366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0" name="Rechteck 4"/>
          <p:cNvSpPr/>
          <p:nvPr/>
        </p:nvSpPr>
        <p:spPr>
          <a:xfrm>
            <a:off x="727200" y="1160640"/>
            <a:ext cx="6437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љ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рични 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ин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...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ин ... 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з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у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 с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...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...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...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њи,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 с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х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..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н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н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 при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DB9-94A2-4115-93E4-EFB636F4980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08" name="Picture 10" descr=""/>
          <p:cNvPicPr/>
          <p:nvPr/>
        </p:nvPicPr>
        <p:blipFill>
          <a:blip r:embed="rId1"/>
          <a:stretch/>
        </p:blipFill>
        <p:spPr>
          <a:xfrm>
            <a:off x="647640" y="2313000"/>
            <a:ext cx="4500720" cy="3728880"/>
          </a:xfrm>
          <a:prstGeom prst="rect">
            <a:avLst/>
          </a:prstGeom>
          <a:ln w="0">
            <a:noFill/>
          </a:ln>
        </p:spPr>
      </p:pic>
      <p:sp>
        <p:nvSpPr>
          <p:cNvPr id="309" name="Rechteck 3"/>
          <p:cNvSpPr/>
          <p:nvPr/>
        </p:nvSpPr>
        <p:spPr>
          <a:xfrm>
            <a:off x="826920" y="1268280"/>
            <a:ext cx="421344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52E-675E-484E-8132-8960519AF6A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125360"/>
            <a:ext cx="7678800" cy="7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н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ин,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rcRect l="0" t="10052" r="0" b="0"/>
          <a:stretch/>
        </p:blipFill>
        <p:spPr>
          <a:xfrm>
            <a:off x="611280" y="2097000"/>
            <a:ext cx="3421080" cy="3864240"/>
          </a:xfrm>
          <a:prstGeom prst="rect">
            <a:avLst/>
          </a:prstGeom>
          <a:ln w="0">
            <a:noFill/>
          </a:ln>
        </p:spPr>
      </p:pic>
      <p:sp>
        <p:nvSpPr>
          <p:cNvPr id="102" name="Inhaltsplatzhalter 2"/>
          <p:cNvSpPr/>
          <p:nvPr/>
        </p:nvSpPr>
        <p:spPr>
          <a:xfrm>
            <a:off x="3995640" y="2241720"/>
            <a:ext cx="3888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EBF-83DF-493B-BFF1-68ADB2BB61F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0" name="Inhaltsplatzhalter 2"/>
          <p:cNvSpPr/>
          <p:nvPr/>
        </p:nvSpPr>
        <p:spPr>
          <a:xfrm>
            <a:off x="755640" y="1125360"/>
            <a:ext cx="5329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н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ин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”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, „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...”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→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и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”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                                     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=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ун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→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940360" y="2168640"/>
            <a:ext cx="2830680" cy="3554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B30-0FFC-4B92-8848-A89ABC522CE9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hteck 7"/>
          <p:cNvSpPr/>
          <p:nvPr/>
        </p:nvSpPr>
        <p:spPr>
          <a:xfrm>
            <a:off x="719280" y="3357720"/>
            <a:ext cx="77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у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Rechteck 6"/>
          <p:cNvSpPr/>
          <p:nvPr/>
        </p:nvSpPr>
        <p:spPr>
          <a:xfrm>
            <a:off x="738360" y="1160640"/>
            <a:ext cx="80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..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1" name="Rechteck 5"/>
          <p:cNvSpPr/>
          <p:nvPr/>
        </p:nvSpPr>
        <p:spPr>
          <a:xfrm>
            <a:off x="826920" y="1909800"/>
            <a:ext cx="7818480" cy="1191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-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нич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ч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ним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828720" y="1335240"/>
            <a:ext cx="7738920" cy="330120"/>
            <a:chOff x="828720" y="1335240"/>
            <a:chExt cx="7738920" cy="330120"/>
          </a:xfrm>
        </p:grpSpPr>
        <p:sp>
          <p:nvSpPr>
            <p:cNvPr id="123" name="Gerade Verbindung 4"/>
            <p:cNvSpPr/>
            <p:nvPr/>
          </p:nvSpPr>
          <p:spPr>
            <a:xfrm>
              <a:off x="828720" y="1335240"/>
              <a:ext cx="7704000" cy="0"/>
            </a:xfrm>
            <a:prstGeom prst="line">
              <a:avLst/>
            </a:prstGeom>
            <a:ln w="2556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24" name="Gerade Verbindung 4"/>
            <p:cNvSpPr/>
            <p:nvPr/>
          </p:nvSpPr>
          <p:spPr>
            <a:xfrm>
              <a:off x="863640" y="1665360"/>
              <a:ext cx="7704000" cy="0"/>
            </a:xfrm>
            <a:prstGeom prst="line">
              <a:avLst/>
            </a:prstGeom>
            <a:ln w="2556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125" name="Group 28"/>
          <p:cNvGrpSpPr/>
          <p:nvPr/>
        </p:nvGrpSpPr>
        <p:grpSpPr>
          <a:xfrm>
            <a:off x="755640" y="3573360"/>
            <a:ext cx="7812000" cy="546120"/>
            <a:chOff x="755640" y="3573360"/>
            <a:chExt cx="7812000" cy="546120"/>
          </a:xfrm>
        </p:grpSpPr>
        <p:sp>
          <p:nvSpPr>
            <p:cNvPr id="126" name="Gerade Verbindung 4"/>
            <p:cNvSpPr/>
            <p:nvPr/>
          </p:nvSpPr>
          <p:spPr>
            <a:xfrm>
              <a:off x="863640" y="3831840"/>
              <a:ext cx="7704000" cy="0"/>
            </a:xfrm>
            <a:prstGeom prst="line">
              <a:avLst/>
            </a:prstGeom>
            <a:ln w="2556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27" name="Gerade Verbindung 4"/>
            <p:cNvSpPr/>
            <p:nvPr/>
          </p:nvSpPr>
          <p:spPr>
            <a:xfrm>
              <a:off x="755640" y="3573360"/>
              <a:ext cx="7704000" cy="0"/>
            </a:xfrm>
            <a:prstGeom prst="line">
              <a:avLst/>
            </a:prstGeom>
            <a:ln w="2556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28" name="Gerade Verbindung 4"/>
            <p:cNvSpPr/>
            <p:nvPr/>
          </p:nvSpPr>
          <p:spPr>
            <a:xfrm>
              <a:off x="809640" y="4119480"/>
              <a:ext cx="7704000" cy="0"/>
            </a:xfrm>
            <a:prstGeom prst="line">
              <a:avLst/>
            </a:prstGeom>
            <a:ln w="2556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29" name="Rechteck 8"/>
          <p:cNvSpPr/>
          <p:nvPr/>
        </p:nvSpPr>
        <p:spPr>
          <a:xfrm>
            <a:off x="826920" y="4594320"/>
            <a:ext cx="7777440" cy="9169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ти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6CF4-F82A-4ECA-BDE2-9B9C47FBA937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7" name="Rechteck 7"/>
          <p:cNvSpPr/>
          <p:nvPr/>
        </p:nvSpPr>
        <p:spPr>
          <a:xfrm>
            <a:off x="755640" y="112536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у.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Rechteck 12"/>
          <p:cNvSpPr/>
          <p:nvPr/>
        </p:nvSpPr>
        <p:spPr>
          <a:xfrm>
            <a:off x="826920" y="2487600"/>
            <a:ext cx="7093080" cy="11206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979-A197-42D5-A215-DFEBA2C8D8D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6" name="Inhaltsplatzhalter 2"/>
          <p:cNvSpPr/>
          <p:nvPr/>
        </p:nvSpPr>
        <p:spPr>
          <a:xfrm>
            <a:off x="755640" y="1125360"/>
            <a:ext cx="76788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л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испит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и 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пр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ли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г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 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ину 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3240000" y="2097000"/>
            <a:ext cx="3284640" cy="335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755640" y="2168640"/>
            <a:ext cx="2409840" cy="3435120"/>
          </a:xfrm>
          <a:prstGeom prst="rect">
            <a:avLst/>
          </a:prstGeom>
          <a:ln w="0">
            <a:noFill/>
          </a:ln>
        </p:spPr>
      </p:pic>
      <p:sp>
        <p:nvSpPr>
          <p:cNvPr id="149" name="Rechteck 9"/>
          <p:cNvSpPr/>
          <p:nvPr/>
        </p:nvSpPr>
        <p:spPr>
          <a:xfrm>
            <a:off x="6227640" y="2370240"/>
            <a:ext cx="2772000" cy="2390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рив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иц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 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т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љивим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 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 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ну 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ршину …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40D-42C1-46B9-A385-A1BFB0DBA18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7" name="Rechteck 3"/>
          <p:cNvSpPr/>
          <p:nvPr/>
        </p:nvSpPr>
        <p:spPr>
          <a:xfrm>
            <a:off x="838080" y="1258920"/>
            <a:ext cx="322920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 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Rechteck 4"/>
          <p:cNvSpPr/>
          <p:nvPr/>
        </p:nvSpPr>
        <p:spPr>
          <a:xfrm>
            <a:off x="4890960" y="1258920"/>
            <a:ext cx="3213360" cy="7300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P 0 352 499 A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hteck 5"/>
          <p:cNvSpPr/>
          <p:nvPr/>
        </p:nvSpPr>
        <p:spPr>
          <a:xfrm>
            <a:off x="853920" y="2097000"/>
            <a:ext cx="3213360" cy="22813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Rechteck 6"/>
          <p:cNvSpPr/>
          <p:nvPr/>
        </p:nvSpPr>
        <p:spPr>
          <a:xfrm>
            <a:off x="4890960" y="2119320"/>
            <a:ext cx="3213360" cy="22813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зиду ... су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нут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Rechteck 9"/>
          <p:cNvSpPr/>
          <p:nvPr/>
        </p:nvSpPr>
        <p:spPr>
          <a:xfrm>
            <a:off x="836640" y="4672080"/>
            <a:ext cx="3230640" cy="13860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...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у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и 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у..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 rot="19975200">
            <a:off x="567360" y="2589480"/>
            <a:ext cx="35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и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Textfeld 11"/>
          <p:cNvSpPr/>
          <p:nvPr/>
        </p:nvSpPr>
        <p:spPr>
          <a:xfrm>
            <a:off x="4167360" y="4545000"/>
            <a:ext cx="4616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”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„у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”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с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у...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: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и н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5562-E369-4276-8BEC-7DFCF303957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87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90,-112,10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у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1" name="Rechteck 3"/>
          <p:cNvSpPr/>
          <p:nvPr/>
        </p:nvSpPr>
        <p:spPr>
          <a:xfrm>
            <a:off x="852480" y="1268280"/>
            <a:ext cx="5987880" cy="2154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ити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 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91C-FCA5-4B4A-94B9-781B7EA51D5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сн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Rechteck 7"/>
          <p:cNvSpPr/>
          <p:nvPr/>
        </p:nvSpPr>
        <p:spPr>
          <a:xfrm>
            <a:off x="826920" y="1268280"/>
            <a:ext cx="4000680" cy="13147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(шири)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и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Rechteck 8"/>
          <p:cNvSpPr/>
          <p:nvPr/>
        </p:nvSpPr>
        <p:spPr>
          <a:xfrm>
            <a:off x="4973760" y="1268280"/>
            <a:ext cx="3882960" cy="1584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сни (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к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) 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 су 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 би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ц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н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hteck 9"/>
          <p:cNvSpPr/>
          <p:nvPr/>
        </p:nvSpPr>
        <p:spPr>
          <a:xfrm>
            <a:off x="826920" y="3203640"/>
            <a:ext cx="398016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л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ни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Rechteck 10"/>
          <p:cNvSpPr/>
          <p:nvPr/>
        </p:nvSpPr>
        <p:spPr>
          <a:xfrm>
            <a:off x="4984920" y="3970440"/>
            <a:ext cx="376380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Rechteck 11"/>
          <p:cNvSpPr/>
          <p:nvPr/>
        </p:nvSpPr>
        <p:spPr>
          <a:xfrm>
            <a:off x="4984920" y="4627440"/>
            <a:ext cx="3763800" cy="511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ифич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з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Б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84" name="Form 13"/>
          <p:cNvCxnSpPr>
            <a:stCxn id="181" idx="2"/>
            <a:endCxn id="182" idx="1"/>
          </p:cNvCxnSpPr>
          <p:nvPr/>
        </p:nvCxnSpPr>
        <p:spPr>
          <a:xfrm flipH="1" rot="16200000">
            <a:off x="3645720" y="2886480"/>
            <a:ext cx="511920" cy="216792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cxnSp>
        <p:nvCxnSpPr>
          <p:cNvPr id="185" name="Form 14"/>
          <p:cNvCxnSpPr>
            <a:stCxn id="181" idx="2"/>
            <a:endCxn id="183" idx="1"/>
          </p:cNvCxnSpPr>
          <p:nvPr/>
        </p:nvCxnSpPr>
        <p:spPr>
          <a:xfrm flipH="1" rot="16200000">
            <a:off x="3317040" y="3214800"/>
            <a:ext cx="1168920" cy="2167920"/>
          </a:xfrm>
          <a:prstGeom prst="bentConnector2">
            <a:avLst/>
          </a:prstGeom>
          <a:ln w="25560">
            <a:solidFill>
              <a:srgbClr val="c0362b"/>
            </a:solidFill>
            <a:miter/>
          </a:ln>
        </p:spPr>
      </p:cxnSp>
      <p:sp>
        <p:nvSpPr>
          <p:cNvPr id="18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1765-8F76-400C-95E1-43D38CAE34D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2562120" y="6541920"/>
            <a:ext cx="521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(б) 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ину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6T09:20:16Z</dcterms:modified>
  <cp:revision>56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